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68C-9B22-458E-B360-AE0BD735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72F-F424-4226-A6B6-89546CAC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A67-0ECB-47F3-B749-CC642C8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D14-70AE-4B9A-A30C-04FAD3CF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06D-96FF-4675-850B-419663B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BE8-7BA2-450D-94BF-B446FB33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CED-5380-42A1-8FEF-4339D8FE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CBD-E47F-4EEE-8073-138DE50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B5A-19B8-4B6E-902D-021BA30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F30-9877-4569-AC36-B1BD152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797-9A86-496E-A7CA-0FA5708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EDA-D971-4B85-B33E-4DC1D06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D1C-0B90-475A-98A9-03E6A89B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center.si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ILLENNIUM DEVELOP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Analysing Implementation with the New Understandable Time Distance Method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CENTER and 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ries of graphs for the Developing Regions aggregate, 7 world regions and China across 9 selected MDG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jubljana, Jul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958000"/>
            <a:ext cx="685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; 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center.si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7:11:37Z</dcterms:created>
  <dc:creator>Pavle Sicherl</dc:creator>
  <dc:description/>
  <dc:language>en-US</dc:language>
  <cp:lastModifiedBy>Pavle Sicherl</cp:lastModifiedBy>
  <dcterms:modified xsi:type="dcterms:W3CDTF">2010-07-08T10:46:49Z</dcterms:modified>
  <cp:revision>10</cp:revision>
  <dc:subject/>
  <dc:title>Slide 1</dc:title>
</cp:coreProperties>
</file>