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BB3A-FA72-44DA-962A-F60723977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8F53-9A28-477B-A115-E2D9C0376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5947-0D53-4413-B415-65C2CF201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F35B-E9DC-48C5-90B6-851FB1297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DCBC-E24E-41C5-98D5-77C67E11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3438-8102-43FB-80DD-0EEE64804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7020F-4B07-4C66-B8E3-3691CAFC5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8156-A8E3-4D89-842C-B639D624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61A-8532-4BC4-BC45-E4348CCA9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684B8-8822-41A1-86A3-0B361A74A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96EA-DDED-432C-80C0-A028E5D9C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12A4-3D46-4945-8316-72E67F5F5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C7C69-B50E-4467-A6E5-801C7DC10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sicenter.si/" TargetMode="External"/><Relationship Id="rId2" Type="http://schemas.openxmlformats.org/officeDocument/2006/relationships/hyperlink" Target="http://www.gaptimer.eu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80880"/>
            <a:ext cx="8458200" cy="52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Ljubljana, Slove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MILLENNIUM DEVELOPMENT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Analysing Implementation with the New Understandable Time Distance Method</a:t>
            </a: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SICENTER and University of Ljublj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series of graphs for the Developing Regions aggregate, 7 world regions and China across 9 selected MDG indic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jubljana, July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5958000"/>
            <a:ext cx="685800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Email: Pavle.Sicherl@sicenter.si</a:t>
            </a:r>
            <a:r>
              <a:rPr b="1" lang="sl-SI" sz="1600" spc="-1" strike="noStrike">
                <a:solidFill>
                  <a:srgbClr val="333399"/>
                </a:solidFill>
                <a:latin typeface="Arial"/>
              </a:rPr>
              <a:t>;  </a:t>
            </a:r>
            <a:r>
              <a:rPr b="0" lang="sl-SI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sicenter.si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gaptimer.eu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82440" y="571680"/>
            <a:ext cx="9310680" cy="57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6T07:11:37Z</dcterms:created>
  <dc:creator>Pavle Sicherl</dc:creator>
  <dc:description/>
  <dc:language>en-US</dc:language>
  <cp:lastModifiedBy>Pavle Sicherl</cp:lastModifiedBy>
  <dcterms:modified xsi:type="dcterms:W3CDTF">2010-07-08T10:46:49Z</dcterms:modified>
  <cp:revision>10</cp:revision>
  <dc:subject/>
  <dc:title>Slide 1</dc:title>
</cp:coreProperties>
</file>