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3A49-7A90-48F4-96E9-5FC48706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454A-BD13-4687-9B28-731AA2F9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A524-74DD-4ED8-AF85-FC32E8EB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63A6-3811-42C8-9C5C-A9E7A244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94CE-F78A-48F4-B77F-0BCDA927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EC31-3A85-4B05-8CD0-CCDB0B13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BE58-58E6-4C3C-A835-3606E89C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FE34-F855-424A-84AF-263D5769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660C-6CBD-48E4-B124-E735C3F3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A8D7-08E8-4D38-B6A8-66205E35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6C29-A1AC-4067-A8ED-F167DAB4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3DCC-9C48-4113-8C06-FBF8A1A2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669A-DB30-4C1F-A646-7664D5261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icenter.si/" TargetMode="External"/><Relationship Id="rId2" Type="http://schemas.openxmlformats.org/officeDocument/2006/relationships/hyperlink" Target="http://www.gaptimer.eu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458200" cy="423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I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jubljana, Slov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6600cc"/>
                </a:solidFill>
                <a:uFillTx/>
                <a:latin typeface="Arial"/>
                <a:ea typeface="굴림"/>
              </a:rPr>
              <a:t>FORESIGHT AND TIME DISTANCE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6600cc"/>
                </a:solidFill>
                <a:uFillTx/>
                <a:latin typeface="Arial"/>
                <a:ea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6600cc"/>
                </a:solidFill>
                <a:uFillTx/>
                <a:latin typeface="Arial"/>
                <a:ea typeface="굴림"/>
              </a:rPr>
              <a:t>A NEW PERSPECTIVE RELATED TO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rofessor Pavle Sich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ICENTER and University of Ljublj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5958000"/>
            <a:ext cx="685800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Email: Pavle.Sicherl@sicenter.si</a:t>
            </a:r>
            <a:r>
              <a:rPr b="0" lang="sl-SI" sz="1600" spc="-1" strike="noStrike">
                <a:solidFill>
                  <a:srgbClr val="333399"/>
                </a:solidFill>
                <a:latin typeface="Arial"/>
              </a:rPr>
              <a:t>;  </a:t>
            </a:r>
            <a:r>
              <a:rPr b="0" lang="sl-SI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icenter.s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aptimer.eu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1994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-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P. Sicherl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243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LED Foresight Training Semin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led, March 6, 20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839880" y="771480"/>
          <a:ext cx="7466040" cy="54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771480"/>
                    <a:ext cx="746604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INDING AND TELLING NEW DEVELOPMENT STORIES: </a:t>
            </a: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Benefits of  immediate operational uses of S-time-distance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 new view in competitiveness issues, benchmarking</a:t>
            </a:r>
            <a:r>
              <a:rPr b="1" lang="sl-SI" sz="1800" spc="-1" strike="noStrike" u="sng">
                <a:solidFill>
                  <a:srgbClr val="333399"/>
                </a:solidFill>
                <a:uFillTx/>
                <a:latin typeface="Arial"/>
              </a:rPr>
              <a:t>, target setting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nd monitoring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for economic, employment, social, R&amp;D and environment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indicators at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the world, EU, country, regional, city, project, socio-economic groups, company, household and individual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 broader dynamic framework for interrelating strategy issues of growth, efficiency, inequality and conver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.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Enhanced semantics for policy analysis and public de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4.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dditional exploitation of databases and indicato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5.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n excellent presentation and communication tool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mong different levels of decision makers and interest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describing of the situations, challenges and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proactive discussion and presentation of policy alternatives to policy makers, media, the general public and mobilizing those participating in or being affected by the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communicating the urgent need for change and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10280" y="17524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6035760"/>
            <a:ext cx="8991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 139 shows the static gap, the time gap of 18 years produces a different additional perception of reality. For a bigger more realistic picture we need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9082" r="0" b="0"/>
          <a:stretch/>
        </p:blipFill>
        <p:spPr>
          <a:xfrm>
            <a:off x="457200" y="1523880"/>
            <a:ext cx="8305920" cy="4572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S-time-distance is a novel generic statistical measure</a:t>
            </a:r>
            <a:br>
              <a:rPr sz="2200"/>
            </a:b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Time series can be compared in two dimensions:</a:t>
            </a:r>
            <a:br>
              <a:rPr sz="2000"/>
            </a:b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1. static gap for a given point in time</a:t>
            </a:r>
            <a:br>
              <a:rPr sz="2400"/>
            </a:b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2. gap in time for a given level of th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19280" y="10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304920"/>
            <a:ext cx="7391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NEW VIEW  IN TIME SERIE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066680"/>
            <a:ext cx="662940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286000" y="2057400"/>
            <a:ext cx="6629040" cy="1904760"/>
            <a:chOff x="2286000" y="2057400"/>
            <a:chExt cx="6629040" cy="1904760"/>
          </a:xfrm>
        </p:grpSpPr>
        <p:sp>
          <p:nvSpPr>
            <p:cNvPr id="52" name=""/>
            <p:cNvSpPr/>
            <p:nvPr/>
          </p:nvSpPr>
          <p:spPr>
            <a:xfrm>
              <a:off x="2286000" y="2057400"/>
              <a:ext cx="6629040" cy="19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379240" y="2135880"/>
              <a:ext cx="6487200" cy="167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sl-SI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. CONCEPT OF  MULTIDIMENSION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PARISON AND 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. PRESENT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. VISUAL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. SEMANTICS:</a:t>
              </a:r>
              <a:r>
                <a:rPr b="0" lang="sl-SI" sz="2000" spc="-1" strike="noStrike">
                  <a:solidFill>
                    <a:srgbClr val="000000"/>
                  </a:solidFill>
                  <a:latin typeface="Arial"/>
                </a:rPr>
                <a:t> POLIC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M</a:t>
              </a:r>
              <a:r>
                <a:rPr b="0" lang="sl-SI" sz="2000" spc="-1" strike="noStrike">
                  <a:solidFill>
                    <a:srgbClr val="000000"/>
                  </a:solidFill>
                  <a:latin typeface="Arial"/>
                </a:rPr>
                <a:t>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 rot="16200000">
            <a:off x="-10080" y="2373480"/>
            <a:ext cx="3245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rot="-54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PERCEPTION OF A  SIT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066680" y="4191120"/>
            <a:ext cx="7772040" cy="2287080"/>
            <a:chOff x="1066680" y="4191120"/>
            <a:chExt cx="7772040" cy="2287080"/>
          </a:xfrm>
        </p:grpSpPr>
        <p:sp>
          <p:nvSpPr>
            <p:cNvPr id="56" name=""/>
            <p:cNvSpPr/>
            <p:nvPr/>
          </p:nvSpPr>
          <p:spPr>
            <a:xfrm>
              <a:off x="2282400" y="4191120"/>
              <a:ext cx="6556320" cy="220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74920" y="4191120"/>
              <a:ext cx="618660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 STOHASTIC MODELS WITH S-TIME-DIST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.g. criterion for evaluating forecasting models (Granger and Jeon, 200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V. DECISION MAKING MODE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extension of decision making mode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200000">
              <a:off x="495360" y="4853160"/>
              <a:ext cx="17208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 rot="-5400000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URT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APPL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0" y="1219320"/>
            <a:ext cx="5486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DESCRIPTIVE STATISTICAL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7304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S-time-distanc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adds two important innovations: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1. new insights and stories from existing time series datasets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2. a clear excellent presentation and communication too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tter decision making wil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depend critically on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human interfac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Sicherl, 2004):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understanding of the information and communication in a multidimensional framework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 need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novel understandable statistical measure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 facilitating very diverse groups of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stakeholders to build their perception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 of the sit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Expressed in time units it is intuitively understandable to policy makers, managers, media and the general public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;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t is comparable across variables, fields of concern and units of compari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t represents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n additional view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to many problems and applications,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complementing no replacing existing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It is also an excellent presentation and communication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tool for policy analysis and debate that can influence public opin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 areas of</a:t>
            </a:r>
            <a:r>
              <a:rPr b="1" lang="sl-SI" sz="2800" spc="-1" strike="noStrike">
                <a:solidFill>
                  <a:srgbClr val="333399"/>
                </a:solidFill>
                <a:latin typeface="Arial"/>
              </a:rPr>
              <a:t> benefits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f</a:t>
            </a:r>
            <a:r>
              <a:rPr b="1" lang="sl-SI" sz="2800" spc="-1" strike="noStrike">
                <a:solidFill>
                  <a:srgbClr val="333399"/>
                </a:solidFill>
                <a:latin typeface="Arial"/>
              </a:rPr>
              <a:t> importing time distance method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into foresigh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1" lang="sl-SI" sz="2300" spc="-1" strike="noStrike" u="sng">
                <a:solidFill>
                  <a:srgbClr val="000000"/>
                </a:solidFill>
                <a:uFillTx/>
                <a:latin typeface="Arial"/>
              </a:rPr>
              <a:t>ap analysis, scenarios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1" lang="sl-SI" sz="2300" spc="-1" strike="noStrike" u="sng">
                <a:solidFill>
                  <a:srgbClr val="000000"/>
                </a:solidFill>
                <a:uFillTx/>
                <a:latin typeface="Arial"/>
              </a:rPr>
              <a:t>monitoring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and </a:t>
            </a:r>
            <a:r>
              <a:rPr b="1" lang="sl-SI" sz="2300" spc="-1" strike="noStrike" u="sng">
                <a:solidFill>
                  <a:srgbClr val="000000"/>
                </a:solidFill>
                <a:uFillTx/>
                <a:latin typeface="Arial"/>
              </a:rPr>
              <a:t>goodness-of-f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Benchmarking evaluation of the starting situati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in a broader dynamic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A presentation and communication tool to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describe, compare and visualise </a:t>
            </a:r>
            <a:r>
              <a:rPr b="1" lang="sl-SI" sz="2000" spc="-1" strike="noStrike" u="sng">
                <a:solidFill>
                  <a:srgbClr val="333399"/>
                </a:solidFill>
                <a:uFillTx/>
                <a:latin typeface="Arial"/>
              </a:rPr>
              <a:t>findings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of scenarios </a:t>
            </a:r>
            <a:r>
              <a:rPr b="1" lang="sl-SI" sz="2000" spc="-1" strike="noStrike" u="sng">
                <a:solidFill>
                  <a:srgbClr val="333399"/>
                </a:solidFill>
                <a:uFillTx/>
                <a:latin typeface="Arial"/>
              </a:rPr>
              <a:t>in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a </a:t>
            </a:r>
            <a:r>
              <a:rPr b="1" lang="sl-SI" sz="2000" spc="-1" strike="noStrike" u="sng">
                <a:solidFill>
                  <a:srgbClr val="333399"/>
                </a:solidFill>
                <a:uFillTx/>
                <a:latin typeface="Arial"/>
              </a:rPr>
              <a:t>new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dim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.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Continuous monitoring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of time deviations from the line to target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for targeted 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4). Ex post evaluation of goodness-of-fit regarding S-time-distance dev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5080" y="304920"/>
            <a:ext cx="8673840" cy="5943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80880" y="6172200"/>
            <a:ext cx="8382240" cy="38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spite large static gaps the benchmark trend is not many years awa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990720" y="685800"/>
            <a:ext cx="7543800" cy="5409720"/>
            <a:chOff x="990720" y="685800"/>
            <a:chExt cx="7543800" cy="5409720"/>
          </a:xfrm>
        </p:grpSpPr>
        <p:sp>
          <p:nvSpPr>
            <p:cNvPr id="67" name=""/>
            <p:cNvSpPr/>
            <p:nvPr/>
          </p:nvSpPr>
          <p:spPr>
            <a:xfrm flipV="1">
              <a:off x="1498320" y="1688760"/>
              <a:ext cx="0" cy="40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98320" y="5729040"/>
              <a:ext cx="59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131920" y="2274120"/>
              <a:ext cx="4589640" cy="290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12080" y="430956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83080" y="376344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39240" y="387252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72640" y="310824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13320" y="321768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82280" y="4418640"/>
              <a:ext cx="0" cy="5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638800" y="4376160"/>
              <a:ext cx="75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1920" y="41637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34680" y="486468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96880" y="43095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5120280" y="3272040"/>
              <a:ext cx="119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92520" y="4564080"/>
              <a:ext cx="886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12080" y="4121280"/>
              <a:ext cx="134784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6377040" y="2486520"/>
              <a:ext cx="0" cy="73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11480" y="5777280"/>
              <a:ext cx="88668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61640" y="1433880"/>
              <a:ext cx="1372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90720" y="685800"/>
              <a:ext cx="7543800" cy="7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S-time-distance adds a second dimension to comparing </a:t>
              </a:r>
              <a:r>
                <a:rPr b="1" lang="en-US" sz="2000" spc="-1" strike="noStrike" u="sng">
                  <a:solidFill>
                    <a:srgbClr val="333399"/>
                  </a:solidFill>
                  <a:uFillTx/>
                  <a:latin typeface="Arial"/>
                </a:rPr>
                <a:t>actual value with estimated value, forecast, budget, plan, target</a:t>
              </a: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, etc. and to </a:t>
              </a:r>
              <a:r>
                <a:rPr b="1" lang="en-US" sz="2000" spc="-1" strike="noStrike" u="sng">
                  <a:solidFill>
                    <a:srgbClr val="333399"/>
                  </a:solidFill>
                  <a:uFillTx/>
                  <a:latin typeface="Arial"/>
                </a:rPr>
                <a:t>evaluating goodness-of-fit in regressions, models, forecasting and monitor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39240" y="3217680"/>
              <a:ext cx="0" cy="4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599360" y="316224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599360" y="3604680"/>
              <a:ext cx="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4096440" y="3924360"/>
              <a:ext cx="44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09800" y="3821040"/>
              <a:ext cx="5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52560" y="3872520"/>
              <a:ext cx="0" cy="33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95520" y="39243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39240" y="36050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24240" y="33267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313320" y="274968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66960" y="327204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99360" y="290736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09360" y="358128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11480" y="392436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 rot="16200000">
            <a:off x="583920" y="322740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99"/>
                </a:solidFill>
                <a:latin typeface="Times New Roman"/>
              </a:rPr>
              <a:t>Variable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91760" y="44956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49680" y="397656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8800" y="38098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7760" y="35812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96880" y="32004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30600" y="26668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40400" y="34434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97600" y="3824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30760" y="28195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69200" y="32004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049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The generic idea for many other applications of S-time-dis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6095880"/>
            <a:ext cx="8991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el improved measurement of deviations in two dimensions: in the value of the variable for a given point in time and in the timing for a given value of th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0" t="13787" r="0" b="0"/>
          <a:stretch/>
        </p:blipFill>
        <p:spPr>
          <a:xfrm>
            <a:off x="0" y="704880"/>
            <a:ext cx="9144000" cy="5619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28600" y="6054840"/>
            <a:ext cx="8763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argest delay in the implementation of selected MDG indicators is for child mortality (more than 7 years), for Official Development Aid 4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320" y="272880"/>
            <a:ext cx="89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Monitoring implementation by S-time-distance deviation from the line to the MDG target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DEVELOPING REGIONS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, around 2005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62120" y="152280"/>
            <a:ext cx="58197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09:33:30Z</dcterms:created>
  <dc:creator>Pavle Sicherl</dc:creator>
  <dc:description/>
  <dc:language>en-US</dc:language>
  <cp:lastModifiedBy>Pavle Sicherl</cp:lastModifiedBy>
  <dcterms:modified xsi:type="dcterms:W3CDTF">2009-03-10T19:27:39Z</dcterms:modified>
  <cp:revision>127</cp:revision>
  <dc:subject/>
  <dc:title>Slide 1</dc:title>
</cp:coreProperties>
</file>