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EC1B-0C7B-4395-9247-709D4FD18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E831-54D5-4749-9E5C-1491D8B6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E237-35B0-43FF-BD49-6883C7E09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4C81-5D0A-4C34-940F-0217A4E3C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6BC5-0753-4B12-8A43-70D65790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6E1A-FEE7-4205-8E9B-FEA1FECB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DC5E-A185-4CAA-AE04-F1691108B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0127-7E53-4A01-9E2A-DFF97D67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1E8-7605-488E-A069-7B9DDD2A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2963-D8A6-476B-96AA-D525022E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D7B5-DA3A-40C4-80D2-03F9260E3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D286-A808-4DC1-AA5E-522DC0AF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A8D21-CCD9-4C23-8685-A05F5A23A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423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FORESIGHT AND TIME DISTANCE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6600cc"/>
                </a:solidFill>
                <a:uFillTx/>
                <a:latin typeface="Arial"/>
                <a:ea typeface="굴림"/>
              </a:rPr>
              <a:t>A NEW PERSPECTIVE RELATED TO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95800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524340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LED Foresight Training Semi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Bled, March 6, 2009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839880" y="771480"/>
          <a:ext cx="7466040" cy="543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771480"/>
                    <a:ext cx="74660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FINDING AND TELLING NEW DEVELOPMENT STORIES: </a:t>
            </a: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Benefits of  immediate operational uses of S-time-distance</a:t>
            </a: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5.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320" y="603576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ex 139 shows the static gap, the time gap of 18 years produces a different additional perception of reality. For a bigger more realistic picture we need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rcRect l="0" t="9082" r="0" b="0"/>
          <a:stretch/>
        </p:blipFill>
        <p:spPr>
          <a:xfrm>
            <a:off x="457200" y="1523880"/>
            <a:ext cx="8305920" cy="4572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S-time-distance is a novel generic statistical measure</a:t>
            </a:r>
            <a:br>
              <a:rPr sz="2200"/>
            </a:b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ime series can be compared in two dimensions:</a:t>
            </a:r>
            <a:br>
              <a:rPr sz="20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1. static gap for a given point in time</a:t>
            </a:r>
            <a:br>
              <a:rPr sz="2400"/>
            </a:b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2. gap in time for a given level of the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2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6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7304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S-time-distanc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adds two important innovations: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1. new insights and stories from existing time series datasets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2. a clear excellent presentation and communication to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94000"/>
            <a:ext cx="8229600" cy="48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etter decision making will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depend critically on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human interface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(Sicherl, 2004):</a:t>
            </a:r>
            <a:r>
              <a:rPr b="0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understanding of the information and communication in a multidimensional framework</a:t>
            </a:r>
            <a:r>
              <a:rPr b="0" i="1" lang="en-US" sz="1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We need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novel understandable statistical measure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facilitating very diverse groups of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stakeholders to build their perceptions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of the situ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Expressed in time units it is intuitively understandable to policy makers, managers, media and the general public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; 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is comparable across variables, fields of concern and units of comparis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It represents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additional view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to many problems and applications,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complementing no replacing existing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굴림"/>
              </a:rPr>
              <a:t>It is also an excellent presentation and communication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tool for policy analysis and debate that can influence public opin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8800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333399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ur areas of</a:t>
            </a: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 benefits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of</a:t>
            </a: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 importing time distance method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into foresight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G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ap analysis, scenarios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, 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monitoring </a:t>
            </a:r>
            <a:r>
              <a:rPr b="1" lang="en-US" sz="2300" spc="-1" strike="noStrike" u="sng">
                <a:solidFill>
                  <a:srgbClr val="000000"/>
                </a:solidFill>
                <a:uFillTx/>
                <a:latin typeface="Arial"/>
              </a:rPr>
              <a:t>and </a:t>
            </a:r>
            <a:r>
              <a:rPr b="1" lang="sl-SI" sz="2300" spc="-1" strike="noStrike" u="sng">
                <a:solidFill>
                  <a:srgbClr val="000000"/>
                </a:solidFill>
                <a:uFillTx/>
                <a:latin typeface="Arial"/>
              </a:rPr>
              <a:t>goodness-of-fi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Benchmarking evaluation of the starting situati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in a broader dynamic frame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2.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 presentation and communication tool to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escribe, compare and visualise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findings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of scenarios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in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a </a:t>
            </a:r>
            <a:r>
              <a:rPr b="1" lang="sl-SI" sz="2000" spc="-1" strike="noStrike" u="sng">
                <a:solidFill>
                  <a:srgbClr val="333399"/>
                </a:solidFill>
                <a:uFillTx/>
                <a:latin typeface="Arial"/>
              </a:rPr>
              <a:t>new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dim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3.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ntinuous monitoring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of time deviations from the line to target </a:t>
            </a: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for targeted ac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99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(4). Ex post evaluation of goodness-of-fit regarding S-time-distance dev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35080" y="304920"/>
            <a:ext cx="8673840" cy="5943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80880" y="6172200"/>
            <a:ext cx="8382240" cy="383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spite large static gaps the benchmark trend is not many years awa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990720" y="685800"/>
            <a:ext cx="7543800" cy="5409720"/>
            <a:chOff x="990720" y="685800"/>
            <a:chExt cx="7543800" cy="5409720"/>
          </a:xfrm>
        </p:grpSpPr>
        <p:sp>
          <p:nvSpPr>
            <p:cNvPr id="67" name=""/>
            <p:cNvSpPr/>
            <p:nvPr/>
          </p:nvSpPr>
          <p:spPr>
            <a:xfrm flipV="1">
              <a:off x="1498320" y="1688760"/>
              <a:ext cx="0" cy="40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98320" y="572904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131920" y="227412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512080" y="43095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83080" y="37634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539240" y="387252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72640" y="31082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13320" y="32176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582280" y="441864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638800" y="437616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1920" y="41637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4680" y="486468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96880" y="43095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5120280" y="327204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92520" y="456408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12080" y="412128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6377040" y="248652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011480" y="577728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061640" y="143388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990720" y="68580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S-time-distance adds a second dimension to comparing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en-US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39240" y="321768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599360" y="316224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599360" y="360468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4096440" y="392436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709800" y="382104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652560" y="387252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95520" y="39243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39240" y="3605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224240" y="33267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13320" y="274968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6960" y="32720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599360" y="290736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09360" y="358128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11480" y="392436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49680" y="397656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30600" y="2666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40400" y="3443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7600" y="3824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69200" y="32004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6095880"/>
            <a:ext cx="89913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vel improved measurement of deviations in two dimensions: in the value of the variable for a given point in time and in the timing for a given value of the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rcRect l="0" t="13787" r="0" b="0"/>
          <a:stretch/>
        </p:blipFill>
        <p:spPr>
          <a:xfrm>
            <a:off x="0" y="704880"/>
            <a:ext cx="9144000" cy="56196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28600" y="6054840"/>
            <a:ext cx="87631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largest delay in the implementation of selected MDG indicators is for child mortality (more than 7 years), for Official Development Aid 4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320" y="272880"/>
            <a:ext cx="899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Monitoring implementation by S-time-distance deviation from the line to the MDG target: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Verdana"/>
              </a:rPr>
              <a:t>DEVELOPING REGIONS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, around 2005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662120" y="152280"/>
            <a:ext cx="58197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09:33:30Z</dcterms:created>
  <dc:creator>Pavle Sicherl</dc:creator>
  <dc:description/>
  <dc:language>en-US</dc:language>
  <cp:lastModifiedBy>Pavle Sicherl</cp:lastModifiedBy>
  <dcterms:modified xsi:type="dcterms:W3CDTF">2009-03-10T19:27:39Z</dcterms:modified>
  <cp:revision>127</cp:revision>
  <dc:subject/>
  <dc:title>Slide 1</dc:title>
</cp:coreProperties>
</file>