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6.png" ContentType="image/png"/>
  <Override PartName="/ppt/media/image14.wmf" ContentType="image/x-wmf"/>
  <Override PartName="/ppt/media/image29.wmf" ContentType="image/x-wmf"/>
  <Override PartName="/ppt/media/image1.png" ContentType="image/png"/>
  <Override PartName="/ppt/media/image31.png" ContentType="image/png"/>
  <Override PartName="/ppt/media/image10.wmf" ContentType="image/x-wmf"/>
  <Override PartName="/ppt/media/image8.wmf" ContentType="image/x-wmf"/>
  <Override PartName="/ppt/media/image13.png" ContentType="image/png"/>
  <Override PartName="/ppt/media/image9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2.wmf" ContentType="image/x-wmf"/>
  <Override PartName="/ppt/media/image12.png" ContentType="image/png"/>
  <Override PartName="/ppt/media/image23.jpeg" ContentType="image/jpeg"/>
  <Override PartName="/ppt/media/image25.wmf" ContentType="image/x-wmf"/>
  <Override PartName="/ppt/media/image15.wmf" ContentType="image/x-wmf"/>
  <Override PartName="/ppt/media/image22.jpeg" ContentType="image/jpeg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4.wmf" ContentType="image/x-wmf"/>
  <Override PartName="/ppt/media/image26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6EEF-D328-43E8-B160-A91C867DE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523A-CFC9-4A89-A5B7-CE0006BE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DFF1-F2BD-4A4E-B712-AAFEB2A0D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9941-2E94-47C9-8BD1-8C03A0858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F17C-94DA-42BF-9C68-F4EEF4C8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E262-794E-477A-9C2C-5812F279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3B5E-EFB2-4349-804C-9EF22C33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FFBF-F397-4AFB-AF6C-BD00EE39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7C42-32B3-43C7-A9FB-FD0A2AB3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10FA-089A-4192-B2CF-0C4E0898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39BB-FFBE-4012-8D58-5F4607AB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069F-8766-45F0-832A-A915D14F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2861-520F-462E-A905-783001751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sicenter.si/pub/Time%20distance%20Sicherl.pdf" TargetMode="External"/><Relationship Id="rId2" Type="http://schemas.openxmlformats.org/officeDocument/2006/relationships/hyperlink" Target="http://www.sicenter.si/pub/Time%20distance%20Sicherl.pdf" TargetMode="External"/><Relationship Id="rId3" Type="http://schemas.openxmlformats.org/officeDocument/2006/relationships/hyperlink" Target="http://www.sicenter.si/pub/Time%20distance%20Sicherl.pdf" TargetMode="External"/><Relationship Id="rId4" Type="http://schemas.openxmlformats.org/officeDocument/2006/relationships/hyperlink" Target="http://www.sicenter.si/pub/Time%20distance%20Sicherl.pdf" TargetMode="External"/><Relationship Id="rId5" Type="http://schemas.openxmlformats.org/officeDocument/2006/relationships/hyperlink" Target="http://www.sicenter.si/pub/Time%20distance%20Sicherl.pdf" TargetMode="External"/><Relationship Id="rId6" Type="http://schemas.openxmlformats.org/officeDocument/2006/relationships/hyperlink" Target="http://www.sicenter.si/pub/Time%20distance%20Sicherl.pdf" TargetMode="External"/><Relationship Id="rId7" Type="http://schemas.openxmlformats.org/officeDocument/2006/relationships/hyperlink" Target="http://www.sicenter.si/pub/Time%20distance%20Sicherl.pdf" TargetMode="External"/><Relationship Id="rId8" Type="http://schemas.openxmlformats.org/officeDocument/2006/relationships/hyperlink" Target="http://www.sicenter.si/pub/Time%20distance%20Sicherl.pdf" TargetMode="External"/><Relationship Id="rId9" Type="http://schemas.openxmlformats.org/officeDocument/2006/relationships/image" Target="../media/image21.wmf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ebusiness-watch.org/resources/documents/TR01_Indicators_2005_web.pdf" TargetMode="External"/><Relationship Id="rId2" Type="http://schemas.openxmlformats.org/officeDocument/2006/relationships/hyperlink" Target="http://www.ebusiness-watch.org/resources/documents/TR01_Indicators_2005_web.pdf" TargetMode="External"/><Relationship Id="rId3" Type="http://schemas.openxmlformats.org/officeDocument/2006/relationships/hyperlink" Target="http://www.ebusiness-watch.org/resources/documents/TR01_Indicators_2005_web.pdf" TargetMode="External"/><Relationship Id="rId4" Type="http://schemas.openxmlformats.org/officeDocument/2006/relationships/hyperlink" Target="http://www.ebusiness-watch.org/resources/documents/TR01_Indicators_2005_web.pdf" TargetMode="External"/><Relationship Id="rId5" Type="http://schemas.openxmlformats.org/officeDocument/2006/relationships/hyperlink" Target="http://www.ebusiness-watch.org/resources/documents/TR01_Indicators_2005_web.pdf" TargetMode="External"/><Relationship Id="rId6" Type="http://schemas.openxmlformats.org/officeDocument/2006/relationships/hyperlink" Target="http://www.ebusiness-watch.org/resources/documents/TR01_Indicators_2005_web.pdf" TargetMode="External"/><Relationship Id="rId7" Type="http://schemas.openxmlformats.org/officeDocument/2006/relationships/hyperlink" Target="http://www.ebusiness-watch.org/resources/documents/TR01_Indicators_2005_web.pdf" TargetMode="External"/><Relationship Id="rId8" Type="http://schemas.openxmlformats.org/officeDocument/2006/relationships/hyperlink" Target="http://www.ebusiness-watch.org/resources/documents/TR01_Indicators_2005_web.pdf" TargetMode="External"/><Relationship Id="rId9" Type="http://schemas.openxmlformats.org/officeDocument/2006/relationships/hyperlink" Target="http://www.ebusiness-watch.org/resources/documents/TR01_Indicators_2005_web.pdf" TargetMode="External"/><Relationship Id="rId10" Type="http://schemas.openxmlformats.org/officeDocument/2006/relationships/hyperlink" Target="http://www.ebusiness-watch.org/resources/documents/TR01_Indicators_2005_web.pdf" TargetMode="External"/><Relationship Id="rId11" Type="http://schemas.openxmlformats.org/officeDocument/2006/relationships/hyperlink" Target="http://www.ebusiness-watch.org/resources/documents/TR01_Indicators_2005_web.pdf" TargetMode="External"/><Relationship Id="rId12" Type="http://schemas.openxmlformats.org/officeDocument/2006/relationships/hyperlink" Target="http://www.ebusiness-watch.org/resources/documents/TR01_Indicators_2005_web.pdf" TargetMode="External"/><Relationship Id="rId13" Type="http://schemas.openxmlformats.org/officeDocument/2006/relationships/hyperlink" Target="http://www.ebusiness-watch.org/resources/documents/TR01_Indicators_2005_web.pdf" TargetMode="External"/><Relationship Id="rId14" Type="http://schemas.openxmlformats.org/officeDocument/2006/relationships/hyperlink" Target="http://www.ebusiness-watch.org/resources/documents/TR01_Indicators_2005_web.pdf" TargetMode="External"/><Relationship Id="rId15" Type="http://schemas.openxmlformats.org/officeDocument/2006/relationships/hyperlink" Target="http://www.ebusiness-watch.org/resources/documents/TR01_Indicators_2005_web.pdf" TargetMode="External"/><Relationship Id="rId16" Type="http://schemas.openxmlformats.org/officeDocument/2006/relationships/hyperlink" Target="http://www.ebusiness-watch.org/resources/documents/TR01_Indicators_2005_web.pdf" TargetMode="External"/><Relationship Id="rId17" Type="http://schemas.openxmlformats.org/officeDocument/2006/relationships/image" Target="../media/image30.wmf"/><Relationship Id="rId18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icenter.si/pub/Time%20distance%20Sicherl.pdf" TargetMode="External"/><Relationship Id="rId2" Type="http://schemas.openxmlformats.org/officeDocument/2006/relationships/hyperlink" Target="http://www.sicenter.si/pub/Time%20distance%20Sicherl.pdf" TargetMode="External"/><Relationship Id="rId3" Type="http://schemas.openxmlformats.org/officeDocument/2006/relationships/hyperlink" Target="http://www.sicenter.si/pub/Time%20distance%20Sicherl.pdf" TargetMode="External"/><Relationship Id="rId4" Type="http://schemas.openxmlformats.org/officeDocument/2006/relationships/hyperlink" Target="http://www.sicenter.si/pub/Time%20distance%20Sicherl.pdf" TargetMode="External"/><Relationship Id="rId5" Type="http://schemas.openxmlformats.org/officeDocument/2006/relationships/hyperlink" Target="http://www.sicenter.si/pub/Time%20distance%20Sicherl.pdf" TargetMode="External"/><Relationship Id="rId6" Type="http://schemas.openxmlformats.org/officeDocument/2006/relationships/hyperlink" Target="http://www.sicenter.si/pub/Time%20distance%20Sicherl.pdf" TargetMode="External"/><Relationship Id="rId7" Type="http://schemas.openxmlformats.org/officeDocument/2006/relationships/hyperlink" Target="http://www.sicenter.si/pub/Time%20distance%20Sicherl.pdf" TargetMode="External"/><Relationship Id="rId8" Type="http://schemas.openxmlformats.org/officeDocument/2006/relationships/hyperlink" Target="http://www.sicenter.si/pub/Time%20distance%20Sicherl.pdf" TargetMode="External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892080"/>
            <a:ext cx="708660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SI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Ljubljana, Slov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Verdana"/>
              </a:rPr>
              <a:t>Time Distance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–</a:t>
            </a:r>
            <a:r>
              <a:rPr b="1" lang="sl-SI" sz="2800" spc="-1" strike="noStrike">
                <a:solidFill>
                  <a:srgbClr val="333399"/>
                </a:solidFill>
                <a:latin typeface="Verdana"/>
              </a:rPr>
              <a:t> New Generic Approach for Analysis and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resentation</a:t>
            </a:r>
            <a:r>
              <a:rPr b="1" lang="sl-SI" sz="2800" spc="-1" strike="noStrike">
                <a:solidFill>
                  <a:srgbClr val="333399"/>
                </a:solidFill>
                <a:latin typeface="Verdana"/>
              </a:rPr>
              <a:t> of Time Relate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Professor Pavle Sich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00200" y="5486400"/>
            <a:ext cx="586728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Times New Roman"/>
              </a:rPr>
              <a:t>SICENTER and University of Ljublj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Times New Roman"/>
              </a:rPr>
              <a:t>Email: Pavle.Sicherl@sicenter.si</a:t>
            </a:r>
            <a:r>
              <a:rPr b="0" lang="sl-SI" sz="1600" spc="-1" strike="noStrike">
                <a:solidFill>
                  <a:srgbClr val="333399"/>
                </a:solidFill>
                <a:latin typeface="Arial"/>
              </a:rPr>
              <a:t>;  www.sicenter.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1994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-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P. Sicherl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46483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resented at the Time Distance Analysis conference at the George Washington University, October 25, 2005, Washington D.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99"/>
                </a:solidFill>
                <a:latin typeface="Arial"/>
                <a:ea typeface="Times New Roman"/>
              </a:rPr>
              <a:t>Importance for development strategy: the </a:t>
            </a:r>
            <a:r>
              <a:rPr b="1" lang="en-US" sz="21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relations between growth, efficiency and inequality are different</a:t>
            </a:r>
            <a:r>
              <a:rPr b="1" lang="en-US" sz="2100" spc="-1" strike="noStrike">
                <a:solidFill>
                  <a:srgbClr val="333399"/>
                </a:solidFill>
                <a:latin typeface="Arial"/>
                <a:ea typeface="Times New Roman"/>
              </a:rPr>
              <a:t> when based on a dynamic concept of overall degree of dispari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1371600"/>
            <a:ext cx="617220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c relative measure and time distance lead to different conclusion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higher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4%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growth example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ratio=1.5,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S=10 yea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lower </a:t>
            </a:r>
            <a:r>
              <a:rPr b="1" lang="sl-SI" sz="1600" spc="-1" strike="noStrike" u="sng">
                <a:solidFill>
                  <a:srgbClr val="333399"/>
                </a:solidFill>
                <a:uFillTx/>
                <a:latin typeface="Arial"/>
              </a:rPr>
              <a:t>1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%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growth example 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ratio=1.5,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S=</a:t>
            </a:r>
            <a:r>
              <a:rPr b="1" lang="sl-SI" sz="16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4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0 years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6200000">
            <a:off x="-1014120" y="3824640"/>
            <a:ext cx="264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Arial"/>
              </a:rPr>
              <a:t>Per capita income (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g scale</a:t>
            </a:r>
            <a:r>
              <a:rPr b="1" lang="sl-SI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1447920"/>
            <a:ext cx="18288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Higher growth rates lead to smaller time distances, and thus have an important effect on the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overall degree of disparity.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This is based on both static disparity and time distance, as both matter.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Static measures alone are inadequ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80880" y="1351080"/>
            <a:ext cx="6705720" cy="4976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2280" y="630864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ource: P. Sicherl, Time Distance: A Missing Link in Comparative Analysis, 28th General Conference of the International Association for Research in Income and Wealth, Cork, Ireland, August 22-28 200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atic measure and time distance show two very different messages about importance of different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5105520"/>
            <a:ext cx="4191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Percentage differences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between US and EU15 for employment rate, annual hours worked and productivity per hour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are very similar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. It seems as if the difficulty of catching up would be similar in the analysed component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4190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S-time-distance</a:t>
            </a:r>
            <a:r>
              <a:rPr b="1" lang="sl-SI" sz="1600" spc="-1" strike="noStrike" u="sng">
                <a:solidFill>
                  <a:srgbClr val="333399"/>
                </a:solidFill>
                <a:uFillTx/>
                <a:latin typeface="Arial"/>
              </a:rPr>
              <a:t>s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1" lang="sl-SI" sz="1600" spc="-1" strike="noStrike" u="sng">
                <a:solidFill>
                  <a:srgbClr val="333399"/>
                </a:solidFill>
                <a:uFillTx/>
                <a:latin typeface="Arial"/>
              </a:rPr>
              <a:t>are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 very different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, for productivity per hour only 5 years, while for employment rate and annual hours worked are about a quarter of a century.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Policy analysis should expect different difficulties of catching up in these fields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2280" y="1166760"/>
            <a:ext cx="4343400" cy="3995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800600" y="1149480"/>
            <a:ext cx="419112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539640" y="299880"/>
          <a:ext cx="7615440" cy="592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99880"/>
                    <a:ext cx="7615440" cy="592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1140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YTICAL AND PRESENTATION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553440" cy="4525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547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EMPIRICAL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4876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UNITS OF 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rebuchet MS"/>
              </a:rPr>
              <a:t>MACRO, ME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ZZ</a:t>
            </a:r>
            <a:r>
              <a:rPr b="0" lang="sl-SI" sz="2800" spc="-1" strike="noStrike">
                <a:solidFill>
                  <a:srgbClr val="333399"/>
                </a:solidFill>
                <a:latin typeface="Trebuchet MS"/>
              </a:rPr>
              <a:t>O, MIC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rebuchet MS"/>
              </a:rPr>
              <a:t>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rebuchet MS"/>
              </a:rPr>
              <a:t>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rebuchet MS"/>
              </a:rPr>
              <a:t>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066320"/>
            <a:ext cx="4038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SOCIO-ECONOMIC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HOUSEHO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INDIVID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4572000"/>
            <a:ext cx="8458200" cy="169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ime distance is a generic concept. That means that, as it has been the case e.g. with spreadsheet, one cannot in advance specify all the uses to which a generic framework can be put by imaginative users in numerous fields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J. Backhouse, Information Science Dpt., London School of Economic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ELD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Arial"/>
              </a:rPr>
              <a:t>ECONO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Arial"/>
              </a:rPr>
              <a:t>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TATISTICS AND ECONO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Arial"/>
              </a:rPr>
              <a:t>SOCI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L SC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Arial"/>
              </a:rPr>
              <a:t>TECHNOLOGIE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0" lang="sl-SI" sz="3200" spc="-1" strike="noStrike">
                <a:solidFill>
                  <a:srgbClr val="333399"/>
                </a:solidFill>
                <a:latin typeface="Arial"/>
              </a:rPr>
              <a:t>SCIENCE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Arial"/>
              </a:rPr>
              <a:t>POLITICAL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Arial"/>
              </a:rPr>
              <a:t>INE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Arial"/>
              </a:rPr>
              <a:t>COMPARATIVE PO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AP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5638680"/>
            <a:ext cx="822960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INSIGHTS FROM EXISTING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E TO AN ADDED DIMENSION OF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1140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ARADIGMATIC EXAMPLES TO BE USED IN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Trebuchet MS"/>
              </a:rPr>
              <a:t>USA EU15 COMPARISON (EUROCHAMBRES STUD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rebuchet MS"/>
              </a:rPr>
              <a:t>USA vs.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NEW MEMBER STATES AND EU15 A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rebuchet MS"/>
              </a:rPr>
              <a:t>ONE INDICATOR MANY COUNTRIES</a:t>
            </a: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MANY INDICATORS TWO COUNTRI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1936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29 OECD COUNTRIES AND 3 INDICATORS: A NOVEL TYPOLOGY OF INDICATOR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Trebuchet MS"/>
              </a:rPr>
              <a:t>CONVERGENCE IN TWO DIM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GOODNESS-OF-FIT AND MONITORING IN TWO DIM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rebuchet MS"/>
              </a:rPr>
              <a:t>INTERNET USERS AND DIGITAL DIV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547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YPES OF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Arial"/>
              </a:rPr>
              <a:t>COMPARISON BETWEEN UNITS, BENCHMA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Arial"/>
              </a:rPr>
              <a:t>COMPARISON ACROSS DIFFERENT TOPIC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TUAL VS. ESTIMATED, FORECAST, PLAN, BUDGET, TARGET VALUES, MONITORING, MODELS, REG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NALYZING A SINGLE TIME S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 u="sng">
                <a:solidFill>
                  <a:srgbClr val="333399"/>
                </a:solidFill>
                <a:uFillTx/>
                <a:latin typeface="Arial"/>
              </a:rPr>
              <a:t>An example how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analytical </a:t>
            </a:r>
            <a:r>
              <a:rPr b="1" lang="sl-SI" sz="2400" spc="-1" strike="noStrike" u="sng">
                <a:solidFill>
                  <a:srgbClr val="333399"/>
                </a:solidFill>
                <a:uFillTx/>
                <a:latin typeface="Arial"/>
              </a:rPr>
              <a:t>statistical tables can present time dimension in a new way </a:t>
            </a:r>
            <a:br>
              <a:rPr sz="2400"/>
            </a:br>
            <a:r>
              <a:rPr b="1" lang="sl-SI" sz="2400" spc="-1" strike="noStrike" u="sng">
                <a:solidFill>
                  <a:srgbClr val="333399"/>
                </a:solidFill>
                <a:uFillTx/>
                <a:latin typeface="Arial"/>
              </a:rPr>
              <a:t>Time matrix:</a:t>
            </a:r>
            <a:r>
              <a:rPr b="1" lang="sl-SI" sz="2400" spc="-1" strike="noStrike">
                <a:solidFill>
                  <a:srgbClr val="333399"/>
                </a:solidFill>
                <a:latin typeface="Arial"/>
              </a:rPr>
              <a:t> time when a given indicator level was attained (penetration rates for PC per 100 inh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33520" y="1752480"/>
          <a:ext cx="8048520" cy="419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804852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457200" y="6095880"/>
            <a:ext cx="807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P. Sicherl, A New Perspective on Digital Divide, Time-distance Analysis: Method and Applications, eWISDOM, Journal for Comparative Research, 2a/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1140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IME DISTANCE: Concept and novel generic statistical mea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934320" cy="5178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-285840"/>
            <a:ext cx="9601200" cy="720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99"/>
                </a:solidFill>
                <a:latin typeface="Arial"/>
              </a:rPr>
              <a:t>COMPARING MANY COUNTRIES FOR A GIVEN INDICATOR FOR A YEAR</a:t>
            </a:r>
            <a:br>
              <a:rPr sz="1900"/>
            </a:br>
            <a:r>
              <a:rPr b="1" lang="en-US" sz="1900" spc="-1" strike="noStrike">
                <a:solidFill>
                  <a:srgbClr val="333399"/>
                </a:solidFill>
                <a:latin typeface="Arial"/>
              </a:rPr>
              <a:t>GDP per capita (ppp): time distances for 2003 from EU15 averag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8160" y="6400800"/>
            <a:ext cx="15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P.Sicherl, ib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04920" y="939960"/>
            <a:ext cx="8534160" cy="54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99"/>
                </a:solidFill>
                <a:latin typeface="Arial"/>
              </a:rPr>
              <a:t>Time distance for EU23 countries from EU15 average for mobile phones per capita December 200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4120" y="6324480"/>
            <a:ext cx="15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P.Sicherl, ib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534520" cy="54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Comparisons over many indicators can show characteristic profiles across countries, regions, socio-economic groups, firm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4640" y="6248520"/>
            <a:ext cx="525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Interview with P.Sicherl - Semanario Economico, Lisbon, March 18, 200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2280" y="888840"/>
            <a:ext cx="876312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3520" y="1522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 u="sng">
                <a:solidFill>
                  <a:srgbClr val="333399"/>
                </a:solidFill>
                <a:uFillTx/>
                <a:latin typeface="Times New Roman"/>
              </a:rPr>
              <a:t>The time lag behind the USA over time</a:t>
            </a:r>
            <a:r>
              <a:rPr b="1" lang="sl-SI" sz="2400" spc="-1" strike="noStrike">
                <a:solidFill>
                  <a:srgbClr val="333399"/>
                </a:solidFill>
                <a:latin typeface="Times New Roman"/>
              </a:rPr>
              <a:t> has been the highest for employment rate and R&amp;D per capita (25 and 23 yea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6248520"/>
            <a:ext cx="891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P. Sicherl, A Comparison of European and US Economies Based on Time Distances, EUROCHAMBRES, Brussels, March 2005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723160" cy="52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ome hypothetical calculations: year in which EU15 would equalize with the USA for various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6248520"/>
            <a:ext cx="891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P. Sicherl, A Comparison of European and US Economies Based on Time Distances, EUROCHAMBRES, Brussels, March 2005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2280" y="976320"/>
            <a:ext cx="899172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6172200"/>
            <a:ext cx="861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P. Sicherl, </a:t>
            </a: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Time Distance As A New Additional Wa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To Measure And Assess The Overal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Position Among And Within Countr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Discussion Paper, SICENTER, Ljubljana, 2004,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sicenter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.si/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pub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/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Time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%20distance%20Sicherl.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9"/>
          <a:stretch/>
        </p:blipFill>
        <p:spPr>
          <a:xfrm>
            <a:off x="152280" y="125280"/>
            <a:ext cx="883944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99"/>
                </a:solidFill>
                <a:latin typeface="Arial"/>
              </a:rPr>
              <a:t>USA and Japa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sl-SI" sz="2400" spc="-1" strike="noStrike">
                <a:solidFill>
                  <a:srgbClr val="333399"/>
                </a:solidFill>
                <a:latin typeface="Arial"/>
              </a:rPr>
              <a:t> very different conclusions about the magnitude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l-SI" sz="2400" spc="-1" strike="noStrike">
                <a:solidFill>
                  <a:srgbClr val="333399"/>
                </a:solidFill>
                <a:latin typeface="Arial"/>
              </a:rPr>
              <a:t>of the gaps in the two dim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0280" y="1219320"/>
            <a:ext cx="4140000" cy="5486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800600" y="1295280"/>
            <a:ext cx="38386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55520" y="6400800"/>
            <a:ext cx="15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P.Sicherl, ib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2280" y="149400"/>
            <a:ext cx="8763120" cy="63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333399"/>
                </a:solidFill>
                <a:uFillTx/>
                <a:latin typeface="Verdana"/>
              </a:rPr>
              <a:t>Very different conclusions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 about the magnitude of the gaps in the two dimensions among different indicators are </a:t>
            </a:r>
            <a:r>
              <a:rPr b="1" lang="en-GB" sz="1800" spc="-1" strike="noStrike" u="sng">
                <a:solidFill>
                  <a:srgbClr val="333399"/>
                </a:solidFill>
                <a:uFillTx/>
                <a:latin typeface="Verdana"/>
              </a:rPr>
              <a:t>also observed in comparing 29 OECD countries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 (see the grap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33399"/>
                </a:solidFill>
                <a:uFillTx/>
                <a:latin typeface="Verdana"/>
              </a:rPr>
              <a:t>Development and welfare are multidimensional and long-term phenomena.</a:t>
            </a:r>
            <a:r>
              <a:rPr b="1" lang="en-GB" sz="1600" spc="-1" strike="noStrike">
                <a:solidFill>
                  <a:srgbClr val="333399"/>
                </a:solidFill>
                <a:latin typeface="Verdana"/>
              </a:rPr>
              <a:t> Comparative analysis in attributes has to deal with these characteristics in a meaningful and consistent w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33399"/>
                </a:solidFill>
                <a:uFillTx/>
                <a:latin typeface="Verdana"/>
              </a:rPr>
              <a:t>The two-dimensional approach shows a novel typology of indicators:</a:t>
            </a:r>
            <a:r>
              <a:rPr b="1" lang="en-GB" sz="16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33399"/>
                </a:solidFill>
                <a:uFillTx/>
                <a:latin typeface="Verdana"/>
              </a:rPr>
              <a:t>type-I processes</a:t>
            </a:r>
            <a:r>
              <a:rPr b="1" lang="en-GB" sz="1600" spc="-1" strike="noStrike">
                <a:solidFill>
                  <a:srgbClr val="333399"/>
                </a:solidFill>
                <a:latin typeface="Verdana"/>
              </a:rPr>
              <a:t> with long distances in time and short absolute or relative distances (e.g. life expectanc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33399"/>
                </a:solidFill>
                <a:uFillTx/>
                <a:latin typeface="Verdana"/>
              </a:rPr>
              <a:t>type-II processes</a:t>
            </a:r>
            <a:r>
              <a:rPr b="1" lang="en-GB" sz="1600" spc="-1" strike="noStrike">
                <a:solidFill>
                  <a:srgbClr val="333399"/>
                </a:solidFill>
                <a:latin typeface="Verdana"/>
              </a:rPr>
              <a:t> with short time distances and long distances in absolute or relative values (e.g. Internet users per capi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33399"/>
                </a:solidFill>
                <a:uFillTx/>
                <a:latin typeface="Verdana"/>
              </a:rPr>
              <a:t>type-III processes</a:t>
            </a:r>
            <a:r>
              <a:rPr b="1" lang="en-GB" sz="1600" spc="-1" strike="noStrike">
                <a:solidFill>
                  <a:srgbClr val="333399"/>
                </a:solidFill>
                <a:latin typeface="Verdana"/>
              </a:rPr>
              <a:t> with intermediate values of time distances and of absolute or relative distances (e.g. GDP per capita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Verdana"/>
              </a:rPr>
              <a:t>An important question from the point of view of policy is to what extent are the </a:t>
            </a:r>
            <a:r>
              <a:rPr b="1" lang="en-GB" sz="1600" spc="-1" strike="noStrike" u="sng">
                <a:solidFill>
                  <a:srgbClr val="333399"/>
                </a:solidFill>
                <a:uFillTx/>
                <a:latin typeface="Verdana"/>
              </a:rPr>
              <a:t>wide differences in growth rates</a:t>
            </a:r>
            <a:r>
              <a:rPr b="1" lang="en-GB" sz="1600" spc="-1" strike="noStrike">
                <a:solidFill>
                  <a:srgbClr val="333399"/>
                </a:solidFill>
                <a:latin typeface="Verdana"/>
              </a:rPr>
              <a:t> inherent in the nature of some particular attribute and to what extent can they quickly be changed by</a:t>
            </a:r>
            <a:r>
              <a:rPr b="1" lang="en-US" sz="1600" spc="-1" strike="noStrike">
                <a:solidFill>
                  <a:srgbClr val="333399"/>
                </a:solidFill>
                <a:latin typeface="Verdana"/>
              </a:rPr>
              <a:t> a</a:t>
            </a:r>
            <a:r>
              <a:rPr b="1" lang="en-GB" sz="1600" spc="-1" strike="noStrike">
                <a:solidFill>
                  <a:srgbClr val="333399"/>
                </a:solidFill>
                <a:latin typeface="Verdana"/>
              </a:rPr>
              <a:t>ppropriate policy measures in accord with social objectiv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 Comparison of European and US Economies Based on Time Di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010280" y="175248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629400" y="1676520"/>
            <a:ext cx="23623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he fact that comparisons should be made in two dimensions has been verified by the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world-wide media interest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in my analysis for the EUROCHAMBRES Spring Business Forum. The static ratio of 1.41 does not catch much attention, while the time gap of about two decades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obviously produced a different perception of reality. The same will be true for comparing within the E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6248520"/>
            <a:ext cx="640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P. Sicherl, A Comparison of European and US Economies Based on Time Distances, EUROCHAMBRES, Brussels, March 200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6400800" cy="47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1139760" y="779400"/>
          <a:ext cx="6954840" cy="578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9760" y="779400"/>
                    <a:ext cx="6954840" cy="578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848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Growth rate effects and a broader concept of conver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4120" y="6324480"/>
            <a:ext cx="15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P.Sicherl, ib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990720" y="838080"/>
            <a:ext cx="7543800" cy="5410080"/>
            <a:chOff x="990720" y="838080"/>
            <a:chExt cx="7543800" cy="5410080"/>
          </a:xfrm>
        </p:grpSpPr>
        <p:sp>
          <p:nvSpPr>
            <p:cNvPr id="139" name=""/>
            <p:cNvSpPr/>
            <p:nvPr/>
          </p:nvSpPr>
          <p:spPr>
            <a:xfrm flipV="1">
              <a:off x="1498320" y="1840680"/>
              <a:ext cx="0" cy="404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98320" y="5881680"/>
              <a:ext cx="595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131920" y="2426400"/>
              <a:ext cx="4589640" cy="290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12080" y="446184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83080" y="391608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39240" y="402516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472640" y="326088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13320" y="336996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2280" y="4571280"/>
              <a:ext cx="0" cy="50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38800" y="4528800"/>
              <a:ext cx="75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31920" y="431640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34680" y="501696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96880" y="446184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5120280" y="3424320"/>
              <a:ext cx="119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92520" y="4716720"/>
              <a:ext cx="8866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12080" y="4273920"/>
              <a:ext cx="134784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6377040" y="2638800"/>
              <a:ext cx="0" cy="73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011480" y="5929920"/>
              <a:ext cx="886680" cy="31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61640" y="1586160"/>
              <a:ext cx="13726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90720" y="838080"/>
              <a:ext cx="7543800" cy="7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333399"/>
                  </a:solidFill>
                  <a:latin typeface="Arial"/>
                </a:rPr>
                <a:t>S-</a:t>
              </a: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time-</a:t>
              </a:r>
              <a:r>
                <a:rPr b="1" lang="sl-SI" sz="2000" spc="-1" strike="noStrike">
                  <a:solidFill>
                    <a:srgbClr val="333399"/>
                  </a:solidFill>
                  <a:latin typeface="Arial"/>
                </a:rPr>
                <a:t>distance adds a second dimension to comparing </a:t>
              </a:r>
              <a:r>
                <a:rPr b="1" lang="sl-SI" sz="2000" spc="-1" strike="noStrike" u="sng">
                  <a:solidFill>
                    <a:srgbClr val="333399"/>
                  </a:solidFill>
                  <a:uFillTx/>
                  <a:latin typeface="Arial"/>
                </a:rPr>
                <a:t>actual value with estimated value, forecast, budget, plan, target</a:t>
              </a:r>
              <a:r>
                <a:rPr b="1" lang="sl-SI" sz="2000" spc="-1" strike="noStrike">
                  <a:solidFill>
                    <a:srgbClr val="333399"/>
                  </a:solidFill>
                  <a:latin typeface="Arial"/>
                </a:rPr>
                <a:t>, etc. and to </a:t>
              </a:r>
              <a:r>
                <a:rPr b="1" lang="sl-SI" sz="2000" spc="-1" strike="noStrike" u="sng">
                  <a:solidFill>
                    <a:srgbClr val="333399"/>
                  </a:solidFill>
                  <a:uFillTx/>
                  <a:latin typeface="Arial"/>
                </a:rPr>
                <a:t>evaluating goodness-of-fit in regressions, models, forecasting and monitor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39240" y="3369960"/>
              <a:ext cx="0" cy="43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4599360" y="3314520"/>
              <a:ext cx="71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4599360" y="3756960"/>
              <a:ext cx="0" cy="26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096440" y="4076640"/>
              <a:ext cx="44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09800" y="3973680"/>
              <a:ext cx="58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52560" y="4025160"/>
              <a:ext cx="0" cy="33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95520" y="407664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9240" y="375732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24240" y="347904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313320" y="290196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66960" y="3424320"/>
              <a:ext cx="6861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99360" y="3059640"/>
              <a:ext cx="6861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609360" y="3733920"/>
              <a:ext cx="6861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11480" y="4076640"/>
              <a:ext cx="6861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 rot="16200000">
            <a:off x="583920" y="322740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333399"/>
                </a:solidFill>
                <a:latin typeface="Times New Roman"/>
              </a:rPr>
              <a:t>Variable</a:t>
            </a:r>
            <a:r>
              <a:rPr b="0" lang="sl-SI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sl-SI" sz="1800" spc="-1" strike="noStrike">
                <a:solidFill>
                  <a:srgbClr val="333399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91760" y="449568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49680" y="41148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58800" y="380988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7760" y="358128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96880" y="320040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330600" y="274320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40400" y="350532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97600" y="38098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30760" y="281952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69200" y="31240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30492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33399"/>
                </a:solidFill>
                <a:uFillTx/>
                <a:latin typeface="Arial"/>
              </a:rPr>
              <a:t>The generic idea for many other applications of S-time-dist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28600" y="6172200"/>
            <a:ext cx="845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P.Sicherl, Time Distance – Another Measure of Achieving Lisbon Targets, European Regional Economic Forum EREF-2005 Nova Gorica, Slovenia, 27-28 October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52280" y="160200"/>
            <a:ext cx="899172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61722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P.Sicherl, ib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28600" y="266760"/>
            <a:ext cx="876312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Monitoring and goodness-of-fit test in two dimensions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2280" y="609480"/>
            <a:ext cx="8991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99"/>
                </a:solidFill>
                <a:uFillTx/>
                <a:latin typeface="Arial"/>
              </a:rPr>
              <a:t>The importance of using S-time-distance as a second dimension for monitoring and benchmarking across indicators in many fields is self explanatory, and immediately operational.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A more long term scientific assignment is to develop optimizing procedures in models based also on the time distance deviations. E.g. Nobel prize winner Granger and Jeon (1997, 2003) further elaborated S-time-distance for the use as a criterion for evaluating forecasting models of leading and lagging indicator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61976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ime distance measure is </a:t>
            </a:r>
            <a:r>
              <a:rPr b="1" lang="sl-SI" sz="2000" spc="-1" strike="noStrike">
                <a:solidFill>
                  <a:srgbClr val="333399"/>
                </a:solidFill>
                <a:latin typeface="Arial"/>
              </a:rPr>
              <a:t>intuitively understood by policy makers, managers,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l-SI" sz="2000" spc="-1" strike="noStrike">
                <a:solidFill>
                  <a:srgbClr val="333399"/>
                </a:solidFill>
                <a:latin typeface="Arial"/>
              </a:rPr>
              <a:t>media and general public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and is </a:t>
            </a:r>
            <a:r>
              <a:rPr b="1" lang="sl-SI" sz="2000" spc="-1" strike="noStrike">
                <a:solidFill>
                  <a:srgbClr val="333399"/>
                </a:solidFill>
                <a:latin typeface="Arial"/>
              </a:rPr>
              <a:t>comparable across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ifferent</a:t>
            </a:r>
            <a:r>
              <a:rPr b="1" lang="sl-SI" sz="2000" spc="-1" strike="noStrike">
                <a:solidFill>
                  <a:srgbClr val="333399"/>
                </a:solidFill>
                <a:latin typeface="Arial"/>
              </a:rPr>
              <a:t> variables, fields of concern,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l-SI" sz="2000" spc="-1" strike="noStrike">
                <a:solidFill>
                  <a:srgbClr val="333399"/>
                </a:solidFill>
                <a:latin typeface="Arial"/>
              </a:rPr>
              <a:t>and units of comparison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8960" y="6175440"/>
            <a:ext cx="813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P.Sicherl, A New Generic Statistical Measure in Dynamic Gap Analysis, The European E-Business Report, 2004 Edi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ropean Commission, Enterprise Directorate General, Luxembourg,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28600" y="1243080"/>
            <a:ext cx="868680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S-time-distances for buying online for sectors compared with the average percentage of diffusion for all sec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2440" y="6019200"/>
            <a:ext cx="8683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P. Sicherl, Pilot study: Sectoral time-distances in the adoption of e-commerce activity, in The European e-Business Market Watc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Report, A Guide to ICT Usage Indicators, European Commission, DG Enterprise &amp; Industry, 2005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ebusiness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-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watch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org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/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resources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/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documents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/TR01_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Indicators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_2005_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Times New Roman"/>
                <a:hlinkClick r:id="rId14"/>
              </a:rPr>
              <a:t>web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Times New Roman"/>
                <a:hlinkClick r:id="rId15"/>
              </a:rPr>
              <a:t>.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Times New Roman"/>
                <a:hlinkClick r:id="rId16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7"/>
          <a:stretch/>
        </p:blipFill>
        <p:spPr>
          <a:xfrm>
            <a:off x="228600" y="706320"/>
            <a:ext cx="868680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19600"/>
            <a:ext cx="8229600" cy="12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BENEFITS OF USING TIME DISTANCE ANALYS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553080" cy="4525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SUMMARY: Benefits of  immediate operational uses of time dist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.1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 new view in competitiveness issues, benchmarking</a:t>
            </a:r>
            <a:r>
              <a:rPr b="1" lang="sl-SI" sz="1800" spc="-1" strike="noStrike" u="sng">
                <a:solidFill>
                  <a:srgbClr val="333399"/>
                </a:solidFill>
                <a:uFillTx/>
                <a:latin typeface="Arial"/>
              </a:rPr>
              <a:t>, target setting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nd monitoring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for economic, employment, social, R&amp;D and environment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indicators at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the world, EU, country, regional, city, project, socio-economic groups, company, household and individual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.2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 broader dynamic framework for interrelating Lisbon strategy issues of growth, efficiency, inequality and converg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.3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Enhanced semantics for policy analysis and public deb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.4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dditional exploitation of databases and indicato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.5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n excellent presentation and communication tool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mong different levels of decision makers and interest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or describing of the situations, challenges and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or proactive discussion and presentation of policy alternatives to policy makers, media, the general public and mobilizing those participating in or being affected by the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or communicating the urgent need for change and re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19280" y="104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304920"/>
            <a:ext cx="7391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 NEW VIEW  IN TIME SERIES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1066680"/>
            <a:ext cx="6629400" cy="7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286000" y="2057400"/>
            <a:ext cx="6629040" cy="1904760"/>
            <a:chOff x="2286000" y="2057400"/>
            <a:chExt cx="6629040" cy="1904760"/>
          </a:xfrm>
        </p:grpSpPr>
        <p:sp>
          <p:nvSpPr>
            <p:cNvPr id="55" name=""/>
            <p:cNvSpPr/>
            <p:nvPr/>
          </p:nvSpPr>
          <p:spPr>
            <a:xfrm>
              <a:off x="2286000" y="2057400"/>
              <a:ext cx="6629040" cy="190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79240" y="2135880"/>
              <a:ext cx="6487200" cy="167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sl-SI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. CONCEPT OF  MULTIDIMENSIONAL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PARISON AND 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. PRESENT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. VISUAL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. SEMANTICS:</a:t>
              </a:r>
              <a:r>
                <a:rPr b="0" lang="sl-SI" sz="2000" spc="-1" strike="noStrike">
                  <a:solidFill>
                    <a:srgbClr val="000000"/>
                  </a:solidFill>
                  <a:latin typeface="Arial"/>
                </a:rPr>
                <a:t> POLICY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M</a:t>
              </a:r>
              <a:r>
                <a:rPr b="0" lang="sl-SI" sz="2000" spc="-1" strike="noStrike">
                  <a:solidFill>
                    <a:srgbClr val="000000"/>
                  </a:solidFill>
                  <a:latin typeface="Arial"/>
                </a:rPr>
                <a:t>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 rot="16200000">
            <a:off x="-10080" y="2373480"/>
            <a:ext cx="3245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 rot="-54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PERCEPTION OF A  SIT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066680" y="4191120"/>
            <a:ext cx="7772040" cy="2287080"/>
            <a:chOff x="1066680" y="4191120"/>
            <a:chExt cx="7772040" cy="2287080"/>
          </a:xfrm>
        </p:grpSpPr>
        <p:sp>
          <p:nvSpPr>
            <p:cNvPr id="59" name=""/>
            <p:cNvSpPr/>
            <p:nvPr/>
          </p:nvSpPr>
          <p:spPr>
            <a:xfrm>
              <a:off x="2282400" y="4191120"/>
              <a:ext cx="6556320" cy="220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374920" y="4191120"/>
              <a:ext cx="6186600" cy="22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. STOHASTIC MODELS WITH S-TIME-DIST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.g. criterion for evaluating forecasting models (Granger and Jeon, 200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V. DECISION MAKING MODE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 extension of decision making mode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6200000">
              <a:off x="495360" y="4853160"/>
              <a:ext cx="172080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 rot="-5400000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URTH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APPL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286000" y="1219320"/>
            <a:ext cx="5486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DESCRIPTIVE STATISTICAL MEA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227160"/>
            <a:ext cx="876312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 new view of the information using levels of the variable as identifiers and time as the focus of comparison and numerai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8135640" cy="4525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84240" y="533520"/>
          <a:ext cx="8951760" cy="373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240" y="533520"/>
                    <a:ext cx="895176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352440" y="4191120"/>
            <a:ext cx="829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99"/>
                </a:solidFill>
                <a:latin typeface="Arial"/>
                <a:ea typeface="Arial"/>
              </a:rPr>
              <a:t>The resulting time matrix provides new information from which new generic measures can be deri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Two operators</a:t>
            </a:r>
            <a:r>
              <a:rPr b="0" lang="sl-SI" sz="2400" spc="-1" strike="noStrike">
                <a:solidFill>
                  <a:srgbClr val="000099"/>
                </a:solidFill>
                <a:latin typeface="Arial"/>
                <a:ea typeface="Arial"/>
              </a:rPr>
              <a:t> applied to this time matrix lead to the </a:t>
            </a:r>
            <a:r>
              <a:rPr b="0" lang="sl-SI" sz="24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derivation of two novel statistical measures, expressed in standardized units of time</a:t>
            </a:r>
            <a:r>
              <a:rPr b="0" lang="sl-SI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57200" y="609480"/>
          <a:ext cx="7959600" cy="482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7959600" cy="48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380880" y="6019920"/>
            <a:ext cx="82296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ource: P. Sicherl, Time Distance: A Missing Link in Comparative Analysis, 28th General Conference of the International Association for Research in Income and Wealth, Cork, Ireland, August 22-28 200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19600"/>
            <a:ext cx="8229600" cy="12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ETHODOLOGY: a broader perception, policy and welfa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333399"/>
                </a:solidFill>
                <a:uFillTx/>
                <a:latin typeface="Verdana"/>
              </a:rPr>
              <a:t>The perception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 whether the gender difference in life expectancy in the EU15 is large or small </a:t>
            </a:r>
            <a:r>
              <a:rPr b="1" lang="en-GB" sz="1800" spc="-1" strike="noStrike" u="sng">
                <a:solidFill>
                  <a:srgbClr val="333399"/>
                </a:solidFill>
                <a:uFillTx/>
                <a:latin typeface="Verdana"/>
              </a:rPr>
              <a:t>depends on the measure used: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 static percentage difference is only 8 percent, while S-time-distance amounts to 29 years. </a:t>
            </a:r>
            <a:r>
              <a:rPr b="1" lang="en-GB" sz="1800" spc="-1" strike="noStrike" u="sng">
                <a:solidFill>
                  <a:srgbClr val="333399"/>
                </a:solidFill>
                <a:uFillTx/>
                <a:latin typeface="Verdana"/>
              </a:rPr>
              <a:t>For a more realistic conclusion all measures should be presented simultaneously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6172200"/>
            <a:ext cx="861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P. Sicherl, </a:t>
            </a: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Time Distance As A New Additional Wa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To Measure And Assess The Overal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Position Among And Within Countr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Discussion Paper, SICENTER, Ljubljana, 2004,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sicenter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.si/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pub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/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Time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%20distance%20Sicherl.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9"/>
          <a:stretch/>
        </p:blipFill>
        <p:spPr>
          <a:xfrm>
            <a:off x="0" y="1600200"/>
            <a:ext cx="914400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07:33:17Z</dcterms:created>
  <dc:creator>Pavle Sicherl</dc:creator>
  <dc:description/>
  <dc:language>en-US</dc:language>
  <cp:lastModifiedBy>Pavle Sicherl</cp:lastModifiedBy>
  <dcterms:modified xsi:type="dcterms:W3CDTF">2007-06-10T20:21:10Z</dcterms:modified>
  <cp:revision>197</cp:revision>
  <dc:subject/>
  <dc:title>TIME DISTANCE Concept and novel generic statistical measure</dc:title>
</cp:coreProperties>
</file>