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4.wmf" ContentType="image/x-wmf"/>
  <Override PartName="/ppt/media/image27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6.png" ContentType="image/png"/>
  <Override PartName="/ppt/media/image14.wmf" ContentType="image/x-wmf"/>
  <Override PartName="/ppt/media/image29.wmf" ContentType="image/x-wmf"/>
  <Override PartName="/ppt/media/image1.png" ContentType="image/png"/>
  <Override PartName="/ppt/media/image31.png" ContentType="image/png"/>
  <Override PartName="/ppt/media/image10.wmf" ContentType="image/x-wmf"/>
  <Override PartName="/ppt/media/image8.wmf" ContentType="image/x-wmf"/>
  <Override PartName="/ppt/media/image13.png" ContentType="image/png"/>
  <Override PartName="/ppt/media/image9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2.wmf" ContentType="image/x-wmf"/>
  <Override PartName="/ppt/media/image12.png" ContentType="image/png"/>
  <Override PartName="/ppt/media/image23.jpeg" ContentType="image/jpeg"/>
  <Override PartName="/ppt/media/image25.wmf" ContentType="image/x-wmf"/>
  <Override PartName="/ppt/media/image15.wmf" ContentType="image/x-wmf"/>
  <Override PartName="/ppt/media/image22.jpeg" ContentType="image/jpeg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4.wmf" ContentType="image/x-wmf"/>
  <Override PartName="/ppt/media/image26.wmf" ContentType="image/x-wmf"/>
  <Override PartName="/ppt/embeddings/oleObject1.docx" ContentType="application/vnd.openxmlformats-officedocument.wordprocessingml.documen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8454-BB38-4454-A2FD-2503EECA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B00-D441-484B-94B1-C4172D5A7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AB41-9FC6-496E-9712-8C1DACF6E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B52E-FC9F-4DC3-9C19-88116ABCB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0A33-1A54-489F-8D43-510356C05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9A98-F687-4E9C-8C76-45E63F3C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A5E34-740D-4430-887D-7D1B88A1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2E1A-9CB2-463F-8BE0-B8D9E88E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340-8C24-4E49-B82C-DE8C4437F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E83A-AE78-425B-872E-8FBC4B70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A95D-8B98-4646-82C3-FE1A9CEF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F3B-B6F2-436F-9B56-4AF78B79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285E-9F5C-4D06-9C0D-ABB726977E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sicenter.si/pub/Time%20distance%20Sicherl.pdf" TargetMode="External"/><Relationship Id="rId2" Type="http://schemas.openxmlformats.org/officeDocument/2006/relationships/hyperlink" Target="http://www.sicenter.si/pub/Time%20distance%20Sicherl.pdf" TargetMode="External"/><Relationship Id="rId3" Type="http://schemas.openxmlformats.org/officeDocument/2006/relationships/hyperlink" Target="http://www.sicenter.si/pub/Time%20distance%20Sicherl.pdf" TargetMode="External"/><Relationship Id="rId4" Type="http://schemas.openxmlformats.org/officeDocument/2006/relationships/hyperlink" Target="http://www.sicenter.si/pub/Time%20distance%20Sicherl.pdf" TargetMode="External"/><Relationship Id="rId5" Type="http://schemas.openxmlformats.org/officeDocument/2006/relationships/hyperlink" Target="http://www.sicenter.si/pub/Time%20distance%20Sicherl.pdf" TargetMode="External"/><Relationship Id="rId6" Type="http://schemas.openxmlformats.org/officeDocument/2006/relationships/hyperlink" Target="http://www.sicenter.si/pub/Time%20distance%20Sicherl.pdf" TargetMode="External"/><Relationship Id="rId7" Type="http://schemas.openxmlformats.org/officeDocument/2006/relationships/hyperlink" Target="http://www.sicenter.si/pub/Time%20distance%20Sicherl.pdf" TargetMode="External"/><Relationship Id="rId8" Type="http://schemas.openxmlformats.org/officeDocument/2006/relationships/hyperlink" Target="http://www.sicenter.si/pub/Time%20distance%20Sicherl.pdf" TargetMode="External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hyperlink" Target="http://www.ebusiness-watch.org/resources/documents/TR01_Indicators_2005_web.pdf" TargetMode="External"/><Relationship Id="rId2" Type="http://schemas.openxmlformats.org/officeDocument/2006/relationships/hyperlink" Target="http://www.ebusiness-watch.org/resources/documents/TR01_Indicators_2005_web.pdf" TargetMode="External"/><Relationship Id="rId3" Type="http://schemas.openxmlformats.org/officeDocument/2006/relationships/hyperlink" Target="http://www.ebusiness-watch.org/resources/documents/TR01_Indicators_2005_web.pdf" TargetMode="External"/><Relationship Id="rId4" Type="http://schemas.openxmlformats.org/officeDocument/2006/relationships/hyperlink" Target="http://www.ebusiness-watch.org/resources/documents/TR01_Indicators_2005_web.pdf" TargetMode="External"/><Relationship Id="rId5" Type="http://schemas.openxmlformats.org/officeDocument/2006/relationships/hyperlink" Target="http://www.ebusiness-watch.org/resources/documents/TR01_Indicators_2005_web.pdf" TargetMode="External"/><Relationship Id="rId6" Type="http://schemas.openxmlformats.org/officeDocument/2006/relationships/hyperlink" Target="http://www.ebusiness-watch.org/resources/documents/TR01_Indicators_2005_web.pdf" TargetMode="External"/><Relationship Id="rId7" Type="http://schemas.openxmlformats.org/officeDocument/2006/relationships/hyperlink" Target="http://www.ebusiness-watch.org/resources/documents/TR01_Indicators_2005_web.pdf" TargetMode="External"/><Relationship Id="rId8" Type="http://schemas.openxmlformats.org/officeDocument/2006/relationships/hyperlink" Target="http://www.ebusiness-watch.org/resources/documents/TR01_Indicators_2005_web.pdf" TargetMode="External"/><Relationship Id="rId9" Type="http://schemas.openxmlformats.org/officeDocument/2006/relationships/hyperlink" Target="http://www.ebusiness-watch.org/resources/documents/TR01_Indicators_2005_web.pdf" TargetMode="External"/><Relationship Id="rId10" Type="http://schemas.openxmlformats.org/officeDocument/2006/relationships/hyperlink" Target="http://www.ebusiness-watch.org/resources/documents/TR01_Indicators_2005_web.pdf" TargetMode="External"/><Relationship Id="rId11" Type="http://schemas.openxmlformats.org/officeDocument/2006/relationships/hyperlink" Target="http://www.ebusiness-watch.org/resources/documents/TR01_Indicators_2005_web.pdf" TargetMode="External"/><Relationship Id="rId12" Type="http://schemas.openxmlformats.org/officeDocument/2006/relationships/hyperlink" Target="http://www.ebusiness-watch.org/resources/documents/TR01_Indicators_2005_web.pdf" TargetMode="External"/><Relationship Id="rId13" Type="http://schemas.openxmlformats.org/officeDocument/2006/relationships/hyperlink" Target="http://www.ebusiness-watch.org/resources/documents/TR01_Indicators_2005_web.pdf" TargetMode="External"/><Relationship Id="rId14" Type="http://schemas.openxmlformats.org/officeDocument/2006/relationships/hyperlink" Target="http://www.ebusiness-watch.org/resources/documents/TR01_Indicators_2005_web.pdf" TargetMode="External"/><Relationship Id="rId15" Type="http://schemas.openxmlformats.org/officeDocument/2006/relationships/hyperlink" Target="http://www.ebusiness-watch.org/resources/documents/TR01_Indicators_2005_web.pdf" TargetMode="External"/><Relationship Id="rId16" Type="http://schemas.openxmlformats.org/officeDocument/2006/relationships/hyperlink" Target="http://www.ebusiness-watch.org/resources/documents/TR01_Indicators_2005_web.pdf" TargetMode="External"/><Relationship Id="rId17" Type="http://schemas.openxmlformats.org/officeDocument/2006/relationships/image" Target="../media/image30.wmf"/><Relationship Id="rId1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center.si/pub/Time%20distance%20Sicherl.pdf" TargetMode="External"/><Relationship Id="rId2" Type="http://schemas.openxmlformats.org/officeDocument/2006/relationships/hyperlink" Target="http://www.sicenter.si/pub/Time%20distance%20Sicherl.pdf" TargetMode="External"/><Relationship Id="rId3" Type="http://schemas.openxmlformats.org/officeDocument/2006/relationships/hyperlink" Target="http://www.sicenter.si/pub/Time%20distance%20Sicherl.pdf" TargetMode="External"/><Relationship Id="rId4" Type="http://schemas.openxmlformats.org/officeDocument/2006/relationships/hyperlink" Target="http://www.sicenter.si/pub/Time%20distance%20Sicherl.pdf" TargetMode="External"/><Relationship Id="rId5" Type="http://schemas.openxmlformats.org/officeDocument/2006/relationships/hyperlink" Target="http://www.sicenter.si/pub/Time%20distance%20Sicherl.pdf" TargetMode="External"/><Relationship Id="rId6" Type="http://schemas.openxmlformats.org/officeDocument/2006/relationships/hyperlink" Target="http://www.sicenter.si/pub/Time%20distance%20Sicherl.pdf" TargetMode="External"/><Relationship Id="rId7" Type="http://schemas.openxmlformats.org/officeDocument/2006/relationships/hyperlink" Target="http://www.sicenter.si/pub/Time%20distance%20Sicherl.pdf" TargetMode="External"/><Relationship Id="rId8" Type="http://schemas.openxmlformats.org/officeDocument/2006/relationships/hyperlink" Target="http://www.sicenter.si/pub/Time%20distance%20Sicherl.pdf" TargetMode="External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892080"/>
            <a:ext cx="7086600" cy="35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Ljubljana, 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  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Verdana"/>
              </a:rPr>
              <a:t>Time Distance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–</a:t>
            </a:r>
            <a:r>
              <a:rPr b="1" lang="sl-SI" sz="2800" spc="-1" strike="noStrike">
                <a:solidFill>
                  <a:srgbClr val="333399"/>
                </a:solidFill>
                <a:latin typeface="Verdana"/>
              </a:rPr>
              <a:t> New Generic Approach for Analysis and </a:t>
            </a:r>
            <a:r>
              <a:rPr b="1" lang="en-US" sz="2800" spc="-1" strike="noStrike">
                <a:solidFill>
                  <a:srgbClr val="333399"/>
                </a:solidFill>
                <a:latin typeface="Verdana"/>
              </a:rPr>
              <a:t>Presentation</a:t>
            </a:r>
            <a:r>
              <a:rPr b="1" lang="sl-SI" sz="2800" spc="-1" strike="noStrike">
                <a:solidFill>
                  <a:srgbClr val="333399"/>
                </a:solidFill>
                <a:latin typeface="Verdana"/>
              </a:rPr>
              <a:t> of Time Rela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Times New Roman"/>
              </a:rPr>
              <a:t>Professor Pavle Sich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00200" y="5486400"/>
            <a:ext cx="5867280" cy="10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SICENTER and University of Ljublja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  <a:ea typeface="Times New Roman"/>
              </a:rPr>
              <a:t>Email: Pavle.Sicherl@sicenter.si</a:t>
            </a:r>
            <a:r>
              <a:rPr b="0" lang="sl-SI" sz="1600" spc="-1" strike="noStrike">
                <a:solidFill>
                  <a:srgbClr val="333399"/>
                </a:solidFill>
                <a:latin typeface="Arial"/>
              </a:rPr>
              <a:t>;  www.sicenter.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pyright © 1994</a:t>
            </a:r>
            <a:r>
              <a:rPr b="0" lang="sl-SI" sz="1000" spc="-1" strike="noStrike">
                <a:solidFill>
                  <a:srgbClr val="000000"/>
                </a:solidFill>
                <a:latin typeface="Arial"/>
              </a:rPr>
              <a:t>-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P. Sicherl All rights reser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46483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  <a:ea typeface="Times New Roman"/>
              </a:rPr>
              <a:t>Presented at the Time Distance Analysis conference at the George Washington University, October 25, 2005, Washington D.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Importance for development strategy: the </a:t>
            </a:r>
            <a:r>
              <a:rPr b="1" lang="en-US" sz="21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relations between growth, efficiency and inequality are different</a:t>
            </a:r>
            <a:r>
              <a:rPr b="1" lang="en-US" sz="2100" spc="-1" strike="noStrike">
                <a:solidFill>
                  <a:srgbClr val="333399"/>
                </a:solidFill>
                <a:latin typeface="Arial"/>
                <a:ea typeface="Times New Roman"/>
              </a:rPr>
              <a:t> when based on a dynamic concept of overall degree of disparit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1371600"/>
            <a:ext cx="6172200" cy="7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ic relative measure and time distance lead to different conclusion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4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10 year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ower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1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growth example 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ratio=1.5,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S=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4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  <a:ea typeface="Times New Roman"/>
              </a:rPr>
              <a:t>0 year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-1014120" y="3824640"/>
            <a:ext cx="264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Per capita income (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g scale</a:t>
            </a:r>
            <a:r>
              <a:rPr b="1" lang="sl-SI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86600" y="1447920"/>
            <a:ext cx="18288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Higher growth rates lead to smaller time distances, and thus have an important effect on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verall degree of disparity.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This is based on both static disparity and time distance, as both matter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tatic measures alone are inadequ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80880" y="1351080"/>
            <a:ext cx="6705720" cy="49766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2280" y="6308640"/>
            <a:ext cx="822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ic measure and time distance show two very different messages about importance of different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28600" y="5105520"/>
            <a:ext cx="4191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ercentage difference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between US and EU15 for employment rate, annual hours worked and productivity per hour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are very similar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It seems as if the difficulty of catching up would be similar in the analysed component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41907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S-time-distance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s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sl-SI" sz="1600" spc="-1" strike="noStrike" u="sng">
                <a:solidFill>
                  <a:srgbClr val="333399"/>
                </a:solidFill>
                <a:uFillTx/>
                <a:latin typeface="Arial"/>
              </a:rPr>
              <a:t>are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 very differen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, for productivity per hour only 5 years, while for employment rate and annual hours worked are about a quarter of a century.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Policy analysis should expect different difficulties of catching up in these fields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52280" y="1166760"/>
            <a:ext cx="4343400" cy="39956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800600" y="1149480"/>
            <a:ext cx="4191120" cy="40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39640" y="299880"/>
          <a:ext cx="7615440" cy="592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99880"/>
                    <a:ext cx="7615440" cy="592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YTICAL AND PRESENTATION T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EMPIRICAL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229600" cy="4876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0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UNITS OF COMPARI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0384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MACRO, ME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ZZ</a:t>
            </a: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O, MIC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REG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99"/>
                </a:solidFill>
                <a:latin typeface="Trebuchet MS"/>
              </a:rPr>
              <a:t>S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38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SOCIO-ECONOMIC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COMPAN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HOUSEHOL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INDIVIDU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4572000"/>
            <a:ext cx="8458200" cy="169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Time distance is a generic concept. That means that, as it has been the case e.g. with spreadsheet, one cannot in advance specify all the uses to which a generic framework can be put by imaginative users in numerous fields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J. Backhouse, Information Science Dpt., London School of Economic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278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FIELD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BUSI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TATISTICS AND ECONOMETR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SOCI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L SCI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TECHNOLOGIE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SCIENCE STU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POLITICAL SC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INE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99"/>
                </a:solidFill>
                <a:latin typeface="Arial"/>
              </a:rPr>
              <a:t>COMPARATIVE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GAP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520" y="5638680"/>
            <a:ext cx="82296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INSIGHTS FROM EXISTING DA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E TO AN ADDED DIMENSION OF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ARADIGMATIC EXAMPLES TO BE USED IN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99"/>
                </a:solidFill>
                <a:latin typeface="Trebuchet MS"/>
              </a:rPr>
              <a:t>USA EU15 COMPARISON (EUROCHAMBRES STUD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rebuchet MS"/>
              </a:rPr>
              <a:t>USA vs.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NEW MEMBER STATES AND EU15 A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rebuchet MS"/>
              </a:rPr>
              <a:t>ONE INDICATOR MANY COUNTRIES</a:t>
            </a: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MANY INDICATORS TWO COUNTRIES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41936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29 OECD COUNTRIES AND 3 INDICATORS: A NOVEL TYPOLOGY OF INDICATOR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Trebuchet MS"/>
              </a:rPr>
              <a:t>CONVERGENCE IN TWO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rebuchet MS"/>
              </a:rPr>
              <a:t>GOODNESS-OF-FIT AND MONITORING IN TWO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99"/>
                </a:solidFill>
                <a:latin typeface="Trebuchet MS"/>
              </a:rPr>
              <a:t>INTERNET USERS AND DIGITAL DIV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547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YPES OF ANAL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COMPARISON BETWEEN UNITS, BENCHMAR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99"/>
                </a:solidFill>
                <a:latin typeface="Arial"/>
              </a:rPr>
              <a:t>COMPARISON ACROSS DIFFERENT TOPICS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TUAL VS. ESTIMATED, FORECAST, PLAN, BUDGET, TARGET VALUES, MONITORING, MODELS, REG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NALYZING A SINGLE TIME SE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333399"/>
                </a:solidFill>
                <a:uFillTx/>
                <a:latin typeface="Arial"/>
              </a:rPr>
              <a:t>An example how </a:t>
            </a:r>
            <a:r>
              <a:rPr b="1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analytical </a:t>
            </a:r>
            <a:r>
              <a:rPr b="1" lang="sl-SI" sz="2400" spc="-1" strike="noStrike" u="sng">
                <a:solidFill>
                  <a:srgbClr val="333399"/>
                </a:solidFill>
                <a:uFillTx/>
                <a:latin typeface="Arial"/>
              </a:rPr>
              <a:t>statistical tables can present time dimension in a new way </a:t>
            </a:r>
            <a:br>
              <a:rPr sz="2400"/>
            </a:br>
            <a:r>
              <a:rPr b="1" lang="sl-SI" sz="2400" spc="-1" strike="noStrike" u="sng">
                <a:solidFill>
                  <a:srgbClr val="333399"/>
                </a:solidFill>
                <a:uFillTx/>
                <a:latin typeface="Arial"/>
              </a:rPr>
              <a:t>Time matrix:</a:t>
            </a: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 time when a given indicator level was attained (penetration rates for PC per 100 in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33520" y="1752480"/>
          <a:ext cx="8048520" cy="419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804852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457200" y="6095880"/>
            <a:ext cx="807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A New Perspective on Digital Divide, Time-distance Analysis: Method and Applications, eWISDOM, Journal for Comparative Research, 2a/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31140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TIME DISTANCE: Concept and novel generic statistical meas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6934320" cy="51786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-285840"/>
            <a:ext cx="960120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22824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COMPARING MANY COUNTRIES FOR A GIVEN INDICATOR FOR A YEAR</a:t>
            </a:r>
            <a:br>
              <a:rPr sz="1900"/>
            </a:b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GDP per capita (ppp): time distances for 2003 from EU15 averag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08160" y="64008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939960"/>
            <a:ext cx="8534160" cy="54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333399"/>
                </a:solidFill>
                <a:latin typeface="Arial"/>
              </a:rPr>
              <a:t>Time distance for EU23 countries from EU15 average for mobile phones per capita December 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4120" y="632448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534520" cy="540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458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99"/>
                </a:solidFill>
                <a:uFillTx/>
                <a:latin typeface="Arial"/>
              </a:rPr>
              <a:t>Comparisons over many indicators can show characteristic profiles across countries, regions, socio-economic groups, firm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4640" y="6248520"/>
            <a:ext cx="525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Interview with P.Sicherl - Semanario Economico, Lisbon, March 18, 2005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52280" y="888840"/>
            <a:ext cx="8763120" cy="523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3520" y="15228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 u="sng">
                <a:solidFill>
                  <a:srgbClr val="333399"/>
                </a:solidFill>
                <a:uFillTx/>
                <a:latin typeface="Times New Roman"/>
              </a:rPr>
              <a:t>The time lag behind the USA over time</a:t>
            </a:r>
            <a:r>
              <a:rPr b="1" lang="sl-SI" sz="2400" spc="-1" strike="noStrike">
                <a:solidFill>
                  <a:srgbClr val="333399"/>
                </a:solidFill>
                <a:latin typeface="Times New Roman"/>
              </a:rPr>
              <a:t> has been the highest for employment rate and R&amp;D per capita (25 and 23 yea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" y="624852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P. Sicherl, A Comparison of European and US Economies Based on Time Distances, EUROCHAMBRES, Brussels, March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723160" cy="52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ome hypothetical calculations: year in which EU15 would equalize with the USA for various assum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6248520"/>
            <a:ext cx="891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P. Sicherl, A Comparison of European and US Economies Based on Time Distances, EUROCHAMBRES, Brussels, March 2005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52280" y="976320"/>
            <a:ext cx="899172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61722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ime Distance As A New Additional W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o Measure And Assess The Over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Position Among And Within Count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iscussion Paper, SICENTER, Ljubljana, 2004,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icenter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si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pub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Time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%20distance%20Sicherl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9"/>
          <a:stretch/>
        </p:blipFill>
        <p:spPr>
          <a:xfrm>
            <a:off x="152280" y="125280"/>
            <a:ext cx="883944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USA and Japan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:</a:t>
            </a: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 very different conclusions about the magnitude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400" spc="-1" strike="noStrike">
                <a:solidFill>
                  <a:srgbClr val="333399"/>
                </a:solidFill>
                <a:latin typeface="Arial"/>
              </a:rPr>
              <a:t>of the gaps in the two dimen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30280" y="1219320"/>
            <a:ext cx="4140000" cy="54864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38386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55520" y="64008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2280" y="149400"/>
            <a:ext cx="8763120" cy="63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Very different conclusions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about the magnitude of the gaps in the two dimensions among different indicators are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also observed in comparing 29 OECD countries</a:t>
            </a:r>
            <a:r>
              <a:rPr b="1" lang="en-US" sz="1800" spc="-1" strike="noStrike">
                <a:solidFill>
                  <a:srgbClr val="333399"/>
                </a:solidFill>
                <a:latin typeface="Verdana"/>
              </a:rPr>
              <a:t> (see the gra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Development and welfare are multidimensional and long-term phenomena.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Comparative analysis in attributes has to deal with these characteristics in a meaningful and consistent wa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The two-dimensional approach shows a novel typology of indicators: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type-I processes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with long distances in time and short absolute or relative distances (e.g. life expectanc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type-II processes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with short time distances and long distances in absolute or relative values (e.g. Internet users per capi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type-III processes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with intermediate values of time distances and of absolute or relative distances (e.g. GDP per capita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An important question from the point of view of policy is to what extent are the </a:t>
            </a:r>
            <a:r>
              <a:rPr b="1" lang="en-GB" sz="1600" spc="-1" strike="noStrike" u="sng">
                <a:solidFill>
                  <a:srgbClr val="333399"/>
                </a:solidFill>
                <a:uFillTx/>
                <a:latin typeface="Verdana"/>
              </a:rPr>
              <a:t>wide differences in growth rates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 inherent in the nature of some particular attribute and to what extent can they quickly be changed by</a:t>
            </a:r>
            <a:r>
              <a:rPr b="1" lang="en-US" sz="1600" spc="-1" strike="noStrike">
                <a:solidFill>
                  <a:srgbClr val="333399"/>
                </a:solidFill>
                <a:latin typeface="Verdana"/>
              </a:rPr>
              <a:t> a</a:t>
            </a:r>
            <a:r>
              <a:rPr b="1" lang="en-GB" sz="1600" spc="-1" strike="noStrike">
                <a:solidFill>
                  <a:srgbClr val="333399"/>
                </a:solidFill>
                <a:latin typeface="Verdana"/>
              </a:rPr>
              <a:t>ppropriate policy measures in accord with social objectiv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 Comparison of European and US Economies Based on Time Di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010280" y="1752480"/>
            <a:ext cx="1905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1676520"/>
            <a:ext cx="23623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The fact that comparisons should be made in two dimensions has been verified by the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world-wide media interest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 in my analysis for the EUROCHAMBRES Spring Business Forum. The static ratio of 1.41 does not catch much attention, while the time gap of about two decades </a:t>
            </a:r>
            <a:r>
              <a:rPr b="1" lang="en-US" sz="1600" spc="-1" strike="noStrike" u="sng">
                <a:solidFill>
                  <a:srgbClr val="333399"/>
                </a:solidFill>
                <a:uFillTx/>
                <a:latin typeface="Arial"/>
              </a:rPr>
              <a:t>obviously produced a different perception of reality. The same will be true for comparing within the E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624852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urce: P. Sicherl, A Comparison of European and US Economies Based on Time Distances, EUROCHAMBRES, Brussels, March 2005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64008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139760" y="779400"/>
          <a:ext cx="6954840" cy="578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9760" y="779400"/>
                    <a:ext cx="6954840" cy="57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7848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Growth rate effects and a broader concept of conv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4120" y="632448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990720" y="838080"/>
            <a:ext cx="7543800" cy="5410080"/>
            <a:chOff x="990720" y="838080"/>
            <a:chExt cx="7543800" cy="5410080"/>
          </a:xfrm>
        </p:grpSpPr>
        <p:sp>
          <p:nvSpPr>
            <p:cNvPr id="139" name=""/>
            <p:cNvSpPr/>
            <p:nvPr/>
          </p:nvSpPr>
          <p:spPr>
            <a:xfrm flipV="1">
              <a:off x="1498320" y="1840680"/>
              <a:ext cx="0" cy="404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98320" y="5881680"/>
              <a:ext cx="59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2131920" y="2426400"/>
              <a:ext cx="4589640" cy="290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12080" y="446184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83080" y="39160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539240" y="40251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72640" y="326088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13320" y="3369960"/>
              <a:ext cx="126360" cy="10908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2280" y="4571280"/>
              <a:ext cx="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38800" y="4528800"/>
              <a:ext cx="75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31920" y="431640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34680" y="5016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96880" y="44618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120280" y="3424320"/>
              <a:ext cx="1193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92520" y="4716720"/>
              <a:ext cx="886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512080" y="4273920"/>
              <a:ext cx="134784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377040" y="2638800"/>
              <a:ext cx="0" cy="73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011480" y="5929920"/>
              <a:ext cx="886680" cy="31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Times New Roman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061640" y="1586160"/>
              <a:ext cx="137268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990720" y="838080"/>
              <a:ext cx="7543800" cy="74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S-</a:t>
              </a:r>
              <a:r>
                <a:rPr b="1" lang="en-US" sz="2000" spc="-1" strike="noStrike">
                  <a:solidFill>
                    <a:srgbClr val="333399"/>
                  </a:solidFill>
                  <a:latin typeface="Arial"/>
                </a:rPr>
                <a:t>time-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distance adds a second dimension to comparing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actual value with estimated value, forecast, budget, plan, target</a:t>
              </a:r>
              <a:r>
                <a:rPr b="1" lang="sl-SI" sz="2000" spc="-1" strike="noStrike">
                  <a:solidFill>
                    <a:srgbClr val="333399"/>
                  </a:solidFill>
                  <a:latin typeface="Arial"/>
                </a:rPr>
                <a:t>, etc. and to </a:t>
              </a:r>
              <a:r>
                <a:rPr b="1" lang="sl-SI" sz="2000" spc="-1" strike="noStrike" u="sng">
                  <a:solidFill>
                    <a:srgbClr val="333399"/>
                  </a:solidFill>
                  <a:uFillTx/>
                  <a:latin typeface="Arial"/>
                </a:rPr>
                <a:t>evaluating goodness-of-fit in regressions, models, forecasting and monitor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539240" y="3369960"/>
              <a:ext cx="0" cy="43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599360" y="3314520"/>
              <a:ext cx="71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599360" y="3756960"/>
              <a:ext cx="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096440" y="4076640"/>
              <a:ext cx="44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09800" y="3973680"/>
              <a:ext cx="58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52560" y="4025160"/>
              <a:ext cx="0" cy="33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95520" y="40766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9240" y="375732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224240" y="347904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13320" y="2901960"/>
              <a:ext cx="50652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466960" y="34243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599360" y="3059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609360" y="373392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11480" y="4076640"/>
              <a:ext cx="686160" cy="25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"/>
          <p:cNvSpPr/>
          <p:nvPr/>
        </p:nvSpPr>
        <p:spPr>
          <a:xfrm rot="16200000">
            <a:off x="583920" y="322740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Variable</a:t>
            </a:r>
            <a:r>
              <a:rPr b="0" lang="sl-SI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sl-SI" sz="1800" spc="-1" strike="noStrike">
                <a:solidFill>
                  <a:srgbClr val="333399"/>
                </a:solidFill>
                <a:latin typeface="Times New Roman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91760" y="44956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749680" y="41148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58800" y="38098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7760" y="358128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96880" y="32004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30600" y="2743200"/>
            <a:ext cx="349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40400" y="35053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97600" y="38098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30760" y="281952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69200" y="31240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sl-SI" sz="1800" spc="-1" strike="noStrike" baseline="-25000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304920"/>
            <a:ext cx="8686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333399"/>
                </a:solidFill>
                <a:uFillTx/>
                <a:latin typeface="Arial"/>
              </a:rPr>
              <a:t>The generic idea for many other applications of S-time-dist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28600" y="61722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Time Distance – Another Measure of Achieving Lisbon Targets, European Regional Economic Forum EREF-2005 Nova Gorica, Slovenia, 27-28 October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52280" y="160200"/>
            <a:ext cx="899172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6172200"/>
            <a:ext cx="18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ib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228600" y="266760"/>
            <a:ext cx="876312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</a:rPr>
              <a:t>Monitoring and goodness-of-fit test in two dimensions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52280" y="609480"/>
            <a:ext cx="8991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</a:rPr>
              <a:t>The importance of using S-time-distance as a second dimension for monitoring and benchmarking across indicators in many fields is self explanatory, and immediately operational.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A more long term scientific assignment is to develop optimizing procedures in models based also on the time distance deviations. E.g. Nobel prize winner Granger and Jeon (1997, 2003) further elaborated S-time-distance for the use as a criterion for evaluating forecasting models of leading and lagging indicator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619760" cy="49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Time distance measure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intuitively understood by policy makers, managers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media and general public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and is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comparable across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ifferent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 variables, fields of concern,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sl-SI" sz="2000" spc="-1" strike="noStrike">
                <a:solidFill>
                  <a:srgbClr val="333399"/>
                </a:solidFill>
                <a:latin typeface="Arial"/>
              </a:rPr>
              <a:t>and units of comparison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18960" y="6175440"/>
            <a:ext cx="813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Sicherl, A New Generic Statistical Measure in Dynamic Gap Analysis, The European E-Business Report, 2004 Edition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ropean Commission, Enterprise Directorate General, Luxembourg, 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28600" y="1243080"/>
            <a:ext cx="8686800" cy="497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333399"/>
                </a:solidFill>
                <a:latin typeface="Arial"/>
              </a:rPr>
              <a:t>S-time-distances for buying online for sectors compared with the average percentage of diffusion for all se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2440" y="6019200"/>
            <a:ext cx="868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Pilot study: Sectoral time-distances in the adoption of e-commerce activity, in The European e-Business Market Watc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Report, A Guide to ICT Usage Indicators, European Commission, DG Enterprise &amp; Industry, 2005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ebusiness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-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watch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org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resources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9"/>
              </a:rPr>
              <a:t>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0"/>
              </a:rPr>
              <a:t>documents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1"/>
              </a:rPr>
              <a:t>/TR01_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2"/>
              </a:rPr>
              <a:t>Indicators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3"/>
              </a:rPr>
              <a:t>_2005_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4"/>
              </a:rPr>
              <a:t>web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5"/>
              </a:rPr>
              <a:t>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6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7"/>
          <a:stretch/>
        </p:blipFill>
        <p:spPr>
          <a:xfrm>
            <a:off x="228600" y="706320"/>
            <a:ext cx="868680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BENEFITS OF USING TIME DISTANCE ANALYSI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5530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53416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SUMMARY: Benefits of  immediate operational uses of time distan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1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new view in competitiveness issues, benchmarking</a:t>
            </a:r>
            <a:r>
              <a:rPr b="1" lang="sl-SI" sz="1800" spc="-1" strike="noStrike" u="sng">
                <a:solidFill>
                  <a:srgbClr val="333399"/>
                </a:solidFill>
                <a:uFillTx/>
                <a:latin typeface="Arial"/>
              </a:rPr>
              <a:t>, target setting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d monitoring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for economic, employment, social, R&amp;D and environment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indicators at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the world, EU, country, regional, city, project, socio-economic groups, company, household and individual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le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2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 broader dynamic framework for interrelating Lisbon strategy issues of growth, efficiency, inequality and converg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3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Enhanced semantics for policy analysis and public deb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4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dditional exploitation of databases and indicator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.5 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An excellent presentation and communication tool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mong different levels of decision makers and interest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describing of the situations, challenges and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proactive discussion and presentation of policy alternatives to policy makers, media, the general public and mobilizing those participating in or being affected by the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or communicating the urgent need for change and re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619280" y="10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43000" y="304920"/>
            <a:ext cx="7391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 NEW VIEW  IN TIME SERIES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1066680"/>
            <a:ext cx="662940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286000" y="2057400"/>
            <a:ext cx="6629040" cy="1904760"/>
            <a:chOff x="2286000" y="2057400"/>
            <a:chExt cx="6629040" cy="1904760"/>
          </a:xfrm>
        </p:grpSpPr>
        <p:sp>
          <p:nvSpPr>
            <p:cNvPr id="55" name=""/>
            <p:cNvSpPr/>
            <p:nvPr/>
          </p:nvSpPr>
          <p:spPr>
            <a:xfrm>
              <a:off x="2286000" y="2057400"/>
              <a:ext cx="6629040" cy="19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379240" y="2135880"/>
              <a:ext cx="6487200" cy="167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. CONCEPT OF  MULTIDIMENSION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OMPARISON AND 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. PRESENTATION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. VISUALIZ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. SEMANTICS: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 POLICY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, M</a:t>
              </a:r>
              <a:r>
                <a:rPr b="0" lang="sl-SI" sz="2000" spc="-1" strike="noStrike">
                  <a:solidFill>
                    <a:srgbClr val="000000"/>
                  </a:solidFill>
                  <a:latin typeface="Arial"/>
                </a:rPr>
                <a:t>ANAGE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 rot="16200000">
            <a:off x="-10080" y="2373480"/>
            <a:ext cx="32454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 rot="-54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333399"/>
                </a:solidFill>
                <a:latin typeface="Arial"/>
              </a:rPr>
              <a:t>PERCEPTION OF A  SITU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066680" y="4191120"/>
            <a:ext cx="7772040" cy="2287080"/>
            <a:chOff x="1066680" y="4191120"/>
            <a:chExt cx="7772040" cy="2287080"/>
          </a:xfrm>
        </p:grpSpPr>
        <p:sp>
          <p:nvSpPr>
            <p:cNvPr id="59" name=""/>
            <p:cNvSpPr/>
            <p:nvPr/>
          </p:nvSpPr>
          <p:spPr>
            <a:xfrm>
              <a:off x="2282400" y="4191120"/>
              <a:ext cx="6556320" cy="220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374920" y="4191120"/>
              <a:ext cx="618660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. STOHASTIC MODELS WITH S-TIME-DIST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.g. criterion for evaluating forecasting models (Granger and Jeon, 200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V.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- extension of decision making mode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rot="16200000">
              <a:off x="495360" y="4853160"/>
              <a:ext cx="1720800" cy="57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 rot="-5400000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URTH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APPL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2286000" y="1219320"/>
            <a:ext cx="5486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DESCRIPTIVE STATISTICAL MEA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227160"/>
            <a:ext cx="876312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A new view of the information using levels of the variable as identifiers and time as the focus of comparison and numer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33520" y="2133720"/>
            <a:ext cx="813564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4240" y="533520"/>
          <a:ext cx="8951760" cy="373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33520"/>
                    <a:ext cx="895176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/>
          <p:nvPr/>
        </p:nvSpPr>
        <p:spPr>
          <a:xfrm>
            <a:off x="352440" y="4191120"/>
            <a:ext cx="829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The resulting time matrix provides new information from which new generic measures can be deriv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Two operators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 applied to this time matrix lead to the </a:t>
            </a:r>
            <a:r>
              <a:rPr b="0" lang="sl-SI" sz="24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derivation of two novel statistical measures, expressed in standardized units of time</a:t>
            </a:r>
            <a:r>
              <a:rPr b="0" lang="sl-SI" sz="24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57200" y="609480"/>
          <a:ext cx="7959600" cy="48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09480"/>
                    <a:ext cx="7959600" cy="48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80880" y="6019920"/>
            <a:ext cx="82296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Source: P. Sicherl, Time Distance: A Missing Link in Comparative Analysis, 28th General Conference of the International Association for Research in Income and Wealth, Cork, Ireland, August 22-28 200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19600"/>
            <a:ext cx="8229600" cy="125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METHODOLOGY: a broader perception, policy and welfar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950760" y="1600200"/>
            <a:ext cx="7242480" cy="45259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The perception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whether the gender difference in life expectancy in the EU15 is large or small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depends on the measure used:</a:t>
            </a:r>
            <a:r>
              <a:rPr b="1" lang="en-GB" sz="1800" spc="-1" strike="noStrike">
                <a:solidFill>
                  <a:srgbClr val="333399"/>
                </a:solidFill>
                <a:latin typeface="Verdana"/>
              </a:rPr>
              <a:t> static percentage difference is only 8 percent, while S-time-distance amounts to 29 years. 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Verdana"/>
              </a:rPr>
              <a:t>For a more realistic conclusion all measures should be presented simultaneously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6172200"/>
            <a:ext cx="8610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rce: P. Sicherl,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ime Distance As A New Additional Wa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To Measure And Assess The Overal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Position Among And Within Countr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iscussion Paper, SICENTER, Ljubljana, 2004, 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ttp://www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sicenter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.si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4"/>
              </a:rPr>
              <a:t>pub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5"/>
              </a:rPr>
              <a:t>/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6"/>
              </a:rPr>
              <a:t>Time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7"/>
              </a:rPr>
              <a:t>%20distance%20Sicherl.</a:t>
            </a:r>
            <a:r>
              <a:rPr b="0" lang="sl-SI" sz="1200" spc="-1" strike="noStrike" u="sng">
                <a:solidFill>
                  <a:srgbClr val="009999"/>
                </a:solidFill>
                <a:uFillTx/>
                <a:latin typeface="Times New Roman"/>
                <a:hlinkClick r:id="rId8"/>
              </a:rPr>
              <a:t>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9"/>
          <a:stretch/>
        </p:blipFill>
        <p:spPr>
          <a:xfrm>
            <a:off x="0" y="1600200"/>
            <a:ext cx="914400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07:33:17Z</dcterms:created>
  <dc:creator>Pavle Sicherl</dc:creator>
  <dc:description/>
  <dc:language>en-US</dc:language>
  <cp:lastModifiedBy>Pavle Sicherl</cp:lastModifiedBy>
  <dcterms:modified xsi:type="dcterms:W3CDTF">2007-06-10T20:21:10Z</dcterms:modified>
  <cp:revision>197</cp:revision>
  <dc:subject/>
  <dc:title>TIME DISTANCE Concept and novel generic statistical measure</dc:title>
</cp:coreProperties>
</file>