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EB6-7E32-41B6-837F-9E3D8EAA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54-A3D7-4508-B58E-C7092E5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D21-7FA8-43A7-9E0E-1127DDDB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28C-CF21-4F38-9D83-F5583E3A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8B3-97A7-4B91-807B-F5BAF7E5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D8E-E9CF-4D23-96F6-D966507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A35-7155-4F2C-B7CD-DDD54534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1D2-7176-4396-9623-9D040D6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F6C-9A27-4A3A-AE47-D51503CB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01D-2513-4953-990B-D82DC55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766-72AF-4D7C-B87C-DC140C4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F53-0C8B-4FDD-8E3E-287B38A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9632-15C0-43EB-B946-8EE117EB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92080"/>
            <a:ext cx="80010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-Time-Distance – A Novel Generic Statistical Measure Providing New Insights from Exis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486400"/>
            <a:ext cx="66294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center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esented at the seminar at the Institute for Health Metrics and Evaluation, University of Washington, Seattle, April 15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37160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4479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351080"/>
            <a:ext cx="6705720" cy="4976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30864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z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4343400" cy="39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00600" y="1149480"/>
            <a:ext cx="4191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39880" y="374760"/>
          <a:ext cx="746604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746604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YPE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BETWEEN UNITS, 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ACROSS DIFFERENT TOPIC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UAL VS. ESTIMATED, FORECAST, PLAN, BUDGET, TARGET VALUES, MONITORING, MODELS,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ZING A SINGL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ELD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S AND ECON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OC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TECHNOLOG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CIENC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POLITIC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COMPARATIV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INSIGHTS FROM EXIS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 AN ADDED DIMENSION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91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S OF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MACRO, ME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ZZ</a:t>
            </a: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O,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25142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intuitively understood by policy makers, managers, media and general public and is comparable across different variables, fields of concern, and units of compari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243080"/>
            <a:ext cx="86868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96920" y="1447920"/>
          <a:ext cx="8750160" cy="3886200"/>
        </p:xfrm>
        <a:graphic>
          <a:graphicData uri="http://schemas.openxmlformats.org/drawingml/2006/table">
            <a:tbl>
              <a:tblPr/>
              <a:tblGrid>
                <a:gridCol w="199368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s of infant mortal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ized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ing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st developed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 and Caribb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 Asia and Pacif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nd East. Europe, C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 and Nor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and South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ahara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and Central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92960" y="913320"/>
            <a:ext cx="870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lag (in years) behind Sweden as a benchmark for selected levels of the infant mortality 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" y="227880"/>
            <a:ext cx="80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BENCHMARKING with S-time-distance (example Sweden as benchmark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ME DISTANCE: Concept and novel generic statistical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17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5080" y="546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6400" y="227880"/>
            <a:ext cx="80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BENCHMARKING with S-time-distance (example Sweden as benchmark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08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comparing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09480"/>
            <a:ext cx="899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400" y="838080"/>
            <a:ext cx="900576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02080" y="304200"/>
            <a:ext cx="76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IHME Child Mortality: estimates and exponential line to MDG target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477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HME web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8280" y="304200"/>
            <a:ext cx="94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nitoring MDG implementation with S-time-dis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results for Slovenia and US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4200" y="1322280"/>
            <a:ext cx="7704000" cy="492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99400" y="1019520"/>
            <a:ext cx="638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deviations (in years) from the exponential line to MDG targ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440" y="6400080"/>
            <a:ext cx="45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: (-) actual ahead or (+) behind the line to target (in years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2798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010640" cy="2806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1920" y="9896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lov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4120" y="3961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57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ample of the graphs from the web tool for 5q0 var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9800" y="1143000"/>
            <a:ext cx="5329080" cy="548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4400" y="456480"/>
            <a:ext cx="52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he time on the line to target for actual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952880"/>
            <a:ext cx="243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time-dis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t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– T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058160" cy="474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18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itoring implementation of MDG for infant mortality for SSA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609588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4724280"/>
            <a:ext cx="320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Using this methodology at national and sub-national levels can be an important additional information useful also for the MDG Africa Steering Group initiated by the UN Secretary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1424160"/>
            <a:ext cx="8996400" cy="520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2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ummary of S-time-distance dev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for 8 selected MDG indicators for Sub-Saharan countri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22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umber of SSA countries with a given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deviation from the exponential line to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81000" y="83808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itoring implementation of the MDGs in the time dim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selected indicators: DEVELOPING REGIONS, around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wo time series can and should be compared in two dimensions:</a:t>
            </a:r>
            <a:br>
              <a:rPr sz="20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 OF USING TIME DISTANC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 OF SOME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8240" y="1143000"/>
          <a:ext cx="8867520" cy="479736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70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y units, many indic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ime distances between countries in the enlarged European U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onitoring implementation of targets: e.g.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illennium Development Goals, EU Lisbon strateg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yclical characteristic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and time series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rror te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Two units, more indicator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ng USA and EU15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evelopment profiles of EU countries against the EU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agement: monitoring implement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 (e.g. actual value versus estimated value – forecast, budgeted, plan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verity of the decl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depr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nalyzing convergen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: static measures and time distance (diverse conclusions for regions in the former Yugoslav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wo-dimensional presentation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regression erro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unemployment rate as a function of capacity utilization rate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penetration rat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mobile ph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ctoral S-time-distances in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doption of e-commerce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nsensus forecast and actua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, USA, growth rate of GNP def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Further developments forthco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n time distance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usiness cycl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major OECD countries (USA, Japan, Germany) and dynamic Asian economies (Kore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AINSTORMING: ANY SUGGESTIONS FOR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38240" y="1143000"/>
          <a:ext cx="8867520" cy="533412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2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6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n the EU15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8 percent, while S-time-distance amounts to 29 years.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For a more realistic conclusion all measures should be presented simultaneous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Time Distance As A New Additional Way To Measure And Assess The Overall Position Among And Within Countries, Discussion Paper, SICENTER, Ljubljana, 2004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icenter.si/pub/Time%20distance%20Sicher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8-04-10T10:01:05Z</dcterms:modified>
  <cp:revision>216</cp:revision>
  <dc:subject/>
  <dc:title>TIME DISTANCE Concept and novel generic statistical measure</dc:title>
</cp:coreProperties>
</file>