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8.wmf" ContentType="image/x-wmf"/>
  <Override PartName="/ppt/media/image10.wmf" ContentType="image/x-wmf"/>
  <Override PartName="/ppt/media/image25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4.wmf" ContentType="image/x-wmf"/>
  <Override PartName="/ppt/media/image20.png" ContentType="image/png"/>
  <Override PartName="/ppt/media/image2.wmf" ContentType="image/x-wmf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057F-EA0E-4576-90E7-D5ED659E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4926-BBD7-44A9-B70B-D012D651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45C8-57AE-4595-96E3-1F5A8E606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E0EE-EAA4-4A96-8813-5EDC41FAC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D813-393C-4320-9B4B-C3D63F494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88C3-41B3-4934-8A77-F8E0D9911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9BC3-8736-4769-97BD-70599420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CA68-CFF9-4432-A62B-C72DF871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04D8-0E6E-4F35-A5F2-5DA3BAD0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72DF-9DFF-4BC2-B3AA-E106460C9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D877-B98C-4AEB-B591-D5110816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23DA-8304-468E-AFB0-2A278D9C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C4243-145A-41FD-93C3-97DD39E100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icenter.si/pub/Time%20distance%20Sicherl.pdf" TargetMode="External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892080"/>
            <a:ext cx="800100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SI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Ljubljana, Slov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S-Time-Distance – A Novel Generic Statistical Measure Providing New Insights from Existing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rofessor Pavle Sich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5486400"/>
            <a:ext cx="66294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SICENTER and University of Ljublj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Email: Pavle.Sicherl@sicenter.si</a:t>
            </a:r>
            <a:r>
              <a:rPr b="0" lang="sl-SI" sz="1600" spc="-1" strike="noStrike">
                <a:solidFill>
                  <a:srgbClr val="333399"/>
                </a:solidFill>
                <a:latin typeface="Arial"/>
              </a:rPr>
              <a:t>;  www.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icenter</a:t>
            </a:r>
            <a:r>
              <a:rPr b="0" lang="sl-SI" sz="1600" spc="-1" strike="noStrike">
                <a:solidFill>
                  <a:srgbClr val="333399"/>
                </a:solidFill>
                <a:latin typeface="Arial"/>
              </a:rPr>
              <a:t>.s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, www.gaptimer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1994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-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P. Sicherl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46483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esented at the seminar at the Institute for Health Metrics and Evaluation, University of Washington, Seattle, April 15, 200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Arial"/>
                <a:ea typeface="Times New Roman"/>
              </a:rPr>
              <a:t>Importance for development strategy: the </a:t>
            </a:r>
            <a:r>
              <a:rPr b="1" lang="en-US" sz="21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relations between growth, efficiency and inequality are different</a:t>
            </a:r>
            <a:r>
              <a:rPr b="1" lang="en-US" sz="2100" spc="-1" strike="noStrike">
                <a:solidFill>
                  <a:srgbClr val="333399"/>
                </a:solidFill>
                <a:latin typeface="Arial"/>
                <a:ea typeface="Times New Roman"/>
              </a:rPr>
              <a:t> when based on a dynamic concept of overall degree of dispar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371600"/>
            <a:ext cx="617220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c relative measure and time distance lead to different conclusion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higher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4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growth example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ratio=1.5,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S=10 yea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lower </a:t>
            </a:r>
            <a:r>
              <a:rPr b="1" lang="sl-SI" sz="1600" spc="-1" strike="noStrike" u="sng">
                <a:solidFill>
                  <a:srgbClr val="333399"/>
                </a:solidFill>
                <a:uFillTx/>
                <a:latin typeface="Arial"/>
              </a:rPr>
              <a:t>1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growth example 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ratio=1.5,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S=</a:t>
            </a:r>
            <a:r>
              <a:rPr b="1" lang="sl-SI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4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0 years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6200000">
            <a:off x="-1014120" y="3824640"/>
            <a:ext cx="264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Per capita income (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g scale</a:t>
            </a: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86600" y="1447920"/>
            <a:ext cx="18288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Higher growth rates lead to smaller time distances, and thus have an important effect on the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overall degree of disparity.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This is based on both static disparity and time distance, as both matter.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Static measures alone are inadequ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80880" y="1351080"/>
            <a:ext cx="6705720" cy="49766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52280" y="630864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ource: P. Sicherl, Time Distance: A Missing Link in Comparative Analysis, 28th General Conference of the International Association for Research in Income and Wealth, Cork, Ireland, August 22-28 200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tic measure and time distance show two very different messages about importance of different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5105520"/>
            <a:ext cx="4191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Percentage differences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between US and EU15 for employment rate, annual hours worked and productivity per hour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are very similar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. It seems as if the difficulty of catching up would be similar in the analyzed component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8320" y="5105520"/>
            <a:ext cx="4190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S-time-distance</a:t>
            </a:r>
            <a:r>
              <a:rPr b="1" lang="sl-SI" sz="1600" spc="-1" strike="noStrike" u="sng">
                <a:solidFill>
                  <a:srgbClr val="333399"/>
                </a:solidFill>
                <a:uFillTx/>
                <a:latin typeface="Arial"/>
              </a:rPr>
              <a:t>s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sl-SI" sz="1600" spc="-1" strike="noStrike" u="sng">
                <a:solidFill>
                  <a:srgbClr val="333399"/>
                </a:solidFill>
                <a:uFillTx/>
                <a:latin typeface="Arial"/>
              </a:rPr>
              <a:t>are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 very different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, for productivity per hour only 5 years, while for employment rate and annual hours worked are about a quarter of a century.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Policy analysis should expect different difficulties of catching up in these fields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280" y="1166760"/>
            <a:ext cx="4343400" cy="3995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4800600" y="1149480"/>
            <a:ext cx="419112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839880" y="374760"/>
          <a:ext cx="7466040" cy="583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374760"/>
                    <a:ext cx="7466040" cy="58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1140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TICAL AND PRESENTATION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553440" cy="452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547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YPES OF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Arial"/>
              </a:rPr>
              <a:t>COMPARISON BETWEEN UNITS, BENCHMA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Arial"/>
              </a:rPr>
              <a:t>COMPARISON ACROSS DIFFERENT TOPIC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TUAL VS. ESTIMATED, FORECAST, PLAN, BUDGET, TARGET VALUES, MONITORING, MODELS, REG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NALYZING A SINGLE TIME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ELD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Arial"/>
              </a:rPr>
              <a:t>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Arial"/>
              </a:rPr>
              <a:t>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ATISTICS AND ECONO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Arial"/>
              </a:rPr>
              <a:t>SOCI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L S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Arial"/>
              </a:rPr>
              <a:t>TECHNOLOGIE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0" lang="sl-SI" sz="3200" spc="-1" strike="noStrike">
                <a:solidFill>
                  <a:srgbClr val="333399"/>
                </a:solidFill>
                <a:latin typeface="Arial"/>
              </a:rPr>
              <a:t>SCIENCE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Arial"/>
              </a:rPr>
              <a:t>POLITICAL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Arial"/>
              </a:rPr>
              <a:t>INE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Arial"/>
              </a:rPr>
              <a:t>COMPARATIVE 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AP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5638680"/>
            <a:ext cx="82296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INSIGHTS FROM EXISTING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E TO AN ADDED DIMENSION OF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7912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UNITS OF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2514240"/>
            <a:ext cx="4038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rebuchet MS"/>
              </a:rPr>
              <a:t>MACRO, ME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ZZ</a:t>
            </a:r>
            <a:r>
              <a:rPr b="0" lang="sl-SI" sz="2800" spc="-1" strike="noStrike">
                <a:solidFill>
                  <a:srgbClr val="333399"/>
                </a:solidFill>
                <a:latin typeface="Trebuchet MS"/>
              </a:rPr>
              <a:t>O, MIC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rebuchet MS"/>
              </a:rPr>
              <a:t>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rebuchet MS"/>
              </a:rPr>
              <a:t>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rebuchet MS"/>
              </a:rPr>
              <a:t>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00600" y="251424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OCIO-ECONOMIC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HOUSEH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Comparisons over many indicators can show characteristic profiles across countries, regions, socio-economic groups, firm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4640" y="6248520"/>
            <a:ext cx="525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Interview with P.Sicherl - Semanario Economico, Lisbon, March 18, 200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52280" y="914400"/>
            <a:ext cx="876312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ime distance measure is intuitively understood by policy makers, managers, media and general public and is comparable across different variables, fields of concern, and units of comparis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18960" y="6175440"/>
            <a:ext cx="813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P.Sicherl, A New Generic Statistical Measure in Dynamic Gap Analysis, The European E-Business Report, 2004 Edi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pean Commission, Enterprise Directorate General, Luxembourg,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8600" y="1243080"/>
            <a:ext cx="868680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196920" y="1447920"/>
          <a:ext cx="8750160" cy="3886200"/>
        </p:xfrm>
        <a:graphic>
          <a:graphicData uri="http://schemas.openxmlformats.org/drawingml/2006/table">
            <a:tbl>
              <a:tblPr/>
              <a:tblGrid>
                <a:gridCol w="1993680"/>
                <a:gridCol w="355680"/>
                <a:gridCol w="355680"/>
                <a:gridCol w="355680"/>
                <a:gridCol w="355680"/>
                <a:gridCol w="355320"/>
                <a:gridCol w="355680"/>
                <a:gridCol w="355680"/>
                <a:gridCol w="355680"/>
                <a:gridCol w="355320"/>
                <a:gridCol w="355680"/>
                <a:gridCol w="355680"/>
                <a:gridCol w="355680"/>
                <a:gridCol w="355680"/>
                <a:gridCol w="355320"/>
                <a:gridCol w="355680"/>
                <a:gridCol w="355680"/>
                <a:gridCol w="355680"/>
                <a:gridCol w="355320"/>
                <a:gridCol w="35568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vels of infant mortality 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wed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dustrialized countr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orl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veloping countr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ast developed countr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atin America and Caribbe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ast Asia and Pacif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ntral and East. Europe, C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iddle East and North Af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uth A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astern and Southern Af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-Saharan Af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stern and Central Afr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192960" y="913320"/>
            <a:ext cx="870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-time-distance lag (in years) behind Sweden as a benchmark for selected levels of the infant mortality ra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6400" y="227880"/>
            <a:ext cx="80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BENCHMARKING with S-time-distance (example Sweden as benchmark)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1140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IME DISTANCE: Concept and novel generic statistical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934320" cy="5178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35080" y="546120"/>
            <a:ext cx="8673840" cy="5931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36400" y="227880"/>
            <a:ext cx="809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BENCHMARKING with S-time-distance (example Sweden as benchmark)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990720" y="838080"/>
            <a:ext cx="7543800" cy="5410080"/>
            <a:chOff x="990720" y="838080"/>
            <a:chExt cx="7543800" cy="5410080"/>
          </a:xfrm>
        </p:grpSpPr>
        <p:sp>
          <p:nvSpPr>
            <p:cNvPr id="108" name=""/>
            <p:cNvSpPr/>
            <p:nvPr/>
          </p:nvSpPr>
          <p:spPr>
            <a:xfrm flipV="1">
              <a:off x="1498320" y="1840680"/>
              <a:ext cx="0" cy="404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498320" y="5881680"/>
              <a:ext cx="595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2131920" y="2426400"/>
              <a:ext cx="4589640" cy="290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512080" y="446184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83080" y="391608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539240" y="402516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472640" y="326088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13320" y="336996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582280" y="4571280"/>
              <a:ext cx="0" cy="50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638800" y="4528800"/>
              <a:ext cx="75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131920" y="431640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34680" y="501696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96880" y="446184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5120280" y="3424320"/>
              <a:ext cx="119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892520" y="4716720"/>
              <a:ext cx="8866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12080" y="4273920"/>
              <a:ext cx="134784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6377040" y="2638800"/>
              <a:ext cx="0" cy="73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11480" y="5929920"/>
              <a:ext cx="88668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61640" y="1586160"/>
              <a:ext cx="13726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90720" y="838080"/>
              <a:ext cx="7543800" cy="7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S-time-distance adds a second dimension to comparing </a:t>
              </a:r>
              <a:r>
                <a:rPr b="1" lang="en-US" sz="2000" spc="-1" strike="noStrike" u="sng">
                  <a:solidFill>
                    <a:srgbClr val="333399"/>
                  </a:solidFill>
                  <a:uFillTx/>
                  <a:latin typeface="Arial"/>
                </a:rPr>
                <a:t>actual value with estimated value, forecast, budget, plan, target</a:t>
              </a: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, etc. and to </a:t>
              </a:r>
              <a:r>
                <a:rPr b="1" lang="en-US" sz="2000" spc="-1" strike="noStrike" u="sng">
                  <a:solidFill>
                    <a:srgbClr val="333399"/>
                  </a:solidFill>
                  <a:uFillTx/>
                  <a:latin typeface="Arial"/>
                </a:rPr>
                <a:t>evaluating goodness-of-fit in regressions, models, forecasting and monitor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539240" y="3369960"/>
              <a:ext cx="0" cy="4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4599360" y="3314520"/>
              <a:ext cx="71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4599360" y="3756960"/>
              <a:ext cx="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4096440" y="4076640"/>
              <a:ext cx="44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709800" y="3973680"/>
              <a:ext cx="58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52560" y="4025160"/>
              <a:ext cx="0" cy="33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95520" y="407664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539240" y="375732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224240" y="347904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13320" y="290196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66960" y="342432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99360" y="305964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609360" y="373392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11480" y="407664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 rot="16200000">
            <a:off x="583920" y="322740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333399"/>
                </a:solidFill>
                <a:latin typeface="Times New Roman"/>
              </a:rPr>
              <a:t>Variable</a:t>
            </a:r>
            <a:r>
              <a:rPr b="0" lang="sl-SI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sl-SI" sz="1800" spc="-1" strike="noStrike">
                <a:solidFill>
                  <a:srgbClr val="333399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91760" y="44956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49680" y="41148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58800" y="38098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7760" y="35812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196880" y="320040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330600" y="274320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40400" y="35053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197600" y="38098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30760" y="28195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569200" y="31240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3049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The generic idea for many other applications of S-time-dist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Monitoring and goodness-of-fit test in two dimensions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609480"/>
            <a:ext cx="8991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99"/>
                </a:solidFill>
                <a:uFillTx/>
                <a:latin typeface="Arial"/>
              </a:rPr>
              <a:t>The importance of using S-time-distance as a second dimension for monitoring and benchmarking across indicators in many fields is self explanatory, and immediately operational.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A more long term scientific assignment is to develop optimizing procedures in models based also on the time distance deviations. E.g. Nobel prize winner Granger and Jeon (1997, 2003) further elaborated S-time-distance for the use as a criterion for evaluating forecasting models of leading and lagging indicator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61976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68400" y="838080"/>
            <a:ext cx="9005760" cy="5641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802080" y="304200"/>
            <a:ext cx="76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IHME Child Mortality: estimates and exponential line to MDG target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6477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IHME web p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-98280" y="304200"/>
            <a:ext cx="94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Monitoring MDG implementation with S-time-distanc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results for Slovenia and USA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54200" y="1322280"/>
            <a:ext cx="7704000" cy="49262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499400" y="1019520"/>
            <a:ext cx="638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-time-distance deviations (in years) from the exponential line to MDG targe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287440" y="6400080"/>
            <a:ext cx="459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S-time-distance: (-) actual ahead or (+) behind the line to target (in years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010640" cy="279864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066680" y="3962520"/>
            <a:ext cx="7010640" cy="280656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51920" y="98964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love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4120" y="396144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U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14400" y="457200"/>
            <a:ext cx="75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Example of the graphs from the web tool for 5q0 vari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1909800" y="1143000"/>
            <a:ext cx="5329080" cy="54864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1904400" y="456480"/>
            <a:ext cx="524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The time on the line to target for actual val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952880"/>
            <a:ext cx="24382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-time-distanc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 (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= t(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– T(X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914400" y="1057320"/>
            <a:ext cx="7058160" cy="47466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0" y="3189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onitoring implementation of MDG for infant mortality for SSA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838080" y="6095880"/>
            <a:ext cx="7162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S-time-distance in years: - actual ahead of path to target, + actual behind the path to target</a:t>
            </a: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24280" y="4724280"/>
            <a:ext cx="3200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3399"/>
                </a:solidFill>
                <a:uFillTx/>
                <a:latin typeface="Arial"/>
              </a:rPr>
              <a:t>Using this methodology at national and sub-national levels can be an important additional information useful also for the MDG Africa Steering Group initiated by the UN Secretary-Gene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80880" y="1424160"/>
            <a:ext cx="8996400" cy="52052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0" y="1216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Summary of S-time-distance devia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for 8 selected MDG indicators for Sub-Saharan countrie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82260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Number of SSA countries with a given value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굴림"/>
              </a:rPr>
              <a:t>S-time-distance deviation from the exponential line to targ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-81000" y="838080"/>
            <a:ext cx="9306000" cy="571824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5335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onitoring implementation of the MDGs in the time dimens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r selected indicators: DEVELOPING REGIONS, around 2004-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Two time series can and should be compared in two dimensions:</a:t>
            </a:r>
            <a:br>
              <a:rPr sz="2000"/>
            </a:b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1. static gap for a given point in time</a:t>
            </a:r>
            <a:br>
              <a:rPr sz="2200"/>
            </a:b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2. gap in time for a given level of the vari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5080" y="914400"/>
            <a:ext cx="8673840" cy="59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19600"/>
            <a:ext cx="822960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ENEFITS OF USING TIME DISTANCE ANALYS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553080" cy="452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SUMMARY: Benefits of  immediate operational uses of time d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1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 new view in competitiveness issues, benchmarking</a:t>
            </a:r>
            <a:r>
              <a:rPr b="1" lang="sl-SI" sz="1800" spc="-1" strike="noStrike" u="sng">
                <a:solidFill>
                  <a:srgbClr val="333399"/>
                </a:solidFill>
                <a:uFillTx/>
                <a:latin typeface="Arial"/>
              </a:rPr>
              <a:t>, target setting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nd monitoring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for economic, employment, social, R&amp;D and environment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indicators at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the world, EU, country, regional, city, project, socio-economic groups, company, household and individual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2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 broader dynamic framework for interrelating Lisbon strategy issues of growth, efficiency, inequality and conver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3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Enhanced semantics for policy analysis and public deb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4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dditional exploitation of databases and indicato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5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n excellent presentation and communication tool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mong different levels of decision makers and interest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r describing of the situations, challenges and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r proactive discussion and presentation of policy alternatives to policy makers, media, the general public and mobilizing those participating in or being affected by the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r communicating the urgent need for change and r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S OF SOME APPLICATION TOP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38240" y="1143000"/>
          <a:ext cx="8867520" cy="4797360"/>
        </p:xfrm>
        <a:graphic>
          <a:graphicData uri="http://schemas.openxmlformats.org/drawingml/2006/table">
            <a:tbl>
              <a:tblPr/>
              <a:tblGrid>
                <a:gridCol w="2955960"/>
                <a:gridCol w="2955600"/>
                <a:gridCol w="2955960"/>
              </a:tblGrid>
              <a:tr h="704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바탕"/>
                        </a:rPr>
                        <a:t>BENCHMARKING: COMPARING TWO OR MORE UN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바탕"/>
                        </a:rPr>
                        <a:t>ANALYZING TWO STATES OF INDICATOR, MONITO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바탕"/>
                        </a:rPr>
                        <a:t>ANALYZING SINGLE S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Many units, many indicato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Time distances between countries in the enlarged European Un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Monitoring implementation of targets: e.g.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Millennium Development Goals, EU Lisbon strategy targe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nalyzing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cyclical characteristic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and time series of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error ter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Two units, more indicators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Comparing USA and EU15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development profiles of EU countries against the EU avera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Management: monitoring implementation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in two dimensions (e.g. actual value versus estimated value – forecast, budgeted, planned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nalyzing the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severity of the declin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in depress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Analyzing convergenc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in two dimensions: static measures and time distance (diverse conclusions for regions in the former Yugoslavi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Two-dimensional presentation of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regression error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for unemployment rate as a function of capacity utilization rate, U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Analyzing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penetration rat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for mobile ph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Sectoral S-time-distances in the </a:t>
                      </a: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adoption of e-commerce activi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Consensus forecast and actual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in two dimensions, USA, growth rate of GNP defl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Further developments forthcom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Human Development Index (HDI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in time distance perspec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바탕"/>
                        </a:rPr>
                        <a:t>Business cycles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 in major OECD countries (USA, Japan, Germany) and dynamic Asian economies (Kore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RAINSTORMING: ANY SUGGESTIONS FOR APPLICATION TOPIC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38240" y="1143000"/>
          <a:ext cx="8867520" cy="5334120"/>
        </p:xfrm>
        <a:graphic>
          <a:graphicData uri="http://schemas.openxmlformats.org/drawingml/2006/table">
            <a:tbl>
              <a:tblPr/>
              <a:tblGrid>
                <a:gridCol w="2955960"/>
                <a:gridCol w="2955600"/>
                <a:gridCol w="2955960"/>
              </a:tblGrid>
              <a:tr h="728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바탕"/>
                        </a:rPr>
                        <a:t>BENCHMARKING: COMPARING TWO OR MORE UNI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바탕"/>
                        </a:rPr>
                        <a:t>ANALYZING TWO STATES OF INDICATOR, MONITOR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333399"/>
                          </a:solidFill>
                          <a:latin typeface="Times New Roman"/>
                          <a:ea typeface="바탕"/>
                        </a:rPr>
                        <a:t>ANALYZING SINGLE S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19280" y="104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304920"/>
            <a:ext cx="7391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NEW VIEW  IN TIME SERIES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066680"/>
            <a:ext cx="6629400" cy="7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286000" y="2057400"/>
            <a:ext cx="6629040" cy="1904760"/>
            <a:chOff x="2286000" y="2057400"/>
            <a:chExt cx="6629040" cy="1904760"/>
          </a:xfrm>
        </p:grpSpPr>
        <p:sp>
          <p:nvSpPr>
            <p:cNvPr id="52" name=""/>
            <p:cNvSpPr/>
            <p:nvPr/>
          </p:nvSpPr>
          <p:spPr>
            <a:xfrm>
              <a:off x="2286000" y="2057400"/>
              <a:ext cx="6629040" cy="19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379240" y="2135880"/>
              <a:ext cx="6487200" cy="167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sl-SI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. CONCEPT OF  MULTIDIMENSIONA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PARISON AND 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. PRESENT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. VISUAL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. SEMANTICS:</a:t>
              </a:r>
              <a:r>
                <a:rPr b="0" lang="sl-SI" sz="2000" spc="-1" strike="noStrike">
                  <a:solidFill>
                    <a:srgbClr val="000000"/>
                  </a:solidFill>
                  <a:latin typeface="Arial"/>
                </a:rPr>
                <a:t> POLICY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M</a:t>
              </a:r>
              <a:r>
                <a:rPr b="0" lang="sl-SI" sz="2000" spc="-1" strike="noStrike">
                  <a:solidFill>
                    <a:srgbClr val="000000"/>
                  </a:solidFill>
                  <a:latin typeface="Arial"/>
                </a:rPr>
                <a:t>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 rot="16200000">
            <a:off x="-10080" y="2373480"/>
            <a:ext cx="3245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 rot="-54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PERCEPTION OF A  SIT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066680" y="4191120"/>
            <a:ext cx="7772040" cy="2287080"/>
            <a:chOff x="1066680" y="4191120"/>
            <a:chExt cx="7772040" cy="2287080"/>
          </a:xfrm>
        </p:grpSpPr>
        <p:sp>
          <p:nvSpPr>
            <p:cNvPr id="56" name=""/>
            <p:cNvSpPr/>
            <p:nvPr/>
          </p:nvSpPr>
          <p:spPr>
            <a:xfrm>
              <a:off x="2282400" y="4191120"/>
              <a:ext cx="6556320" cy="220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74920" y="4191120"/>
              <a:ext cx="6186600" cy="22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 STOHASTIC MODELS WITH S-TIME-DIST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.g. criterion for evaluating forecasting models (Granger and Jeon, 200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V. DECISION MAKING MODE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 extension of decision making mode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200000">
              <a:off x="495360" y="4853160"/>
              <a:ext cx="172080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 rot="-5400000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URTH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APPL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0" y="1219320"/>
            <a:ext cx="5486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DESCRIPTIVE STATISTICAL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876312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 new view of the information using levels of the variable as identifiers and time as the focus of comparison and numerai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135640" cy="452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84240" y="533520"/>
          <a:ext cx="8951760" cy="373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533520"/>
                    <a:ext cx="895176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352440" y="4191120"/>
            <a:ext cx="829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The resulting time matrix provides new information from which new generic measures can be deri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Two operators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 applied to this time matrix lead to the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derivation of two novel statistical measures, expressed in standardized units of time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57200" y="609480"/>
          <a:ext cx="7959600" cy="482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95960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80880" y="6019920"/>
            <a:ext cx="8229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ource: P. Sicherl, Time Distance: A Missing Link in Comparative Analysis, 28th General Conference of the International Association for Research in Income and Wealth, Cork, Ireland, August 22-28 200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19600"/>
            <a:ext cx="822960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ETHODOLOGY: a broader perception, policy and welfa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333399"/>
                </a:solidFill>
                <a:uFillTx/>
                <a:latin typeface="Verdana"/>
              </a:rPr>
              <a:t>The perception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 whether the gender difference in life expectancy in the EU15 is large or small </a:t>
            </a:r>
            <a:r>
              <a:rPr b="1" lang="en-GB" sz="1800" spc="-1" strike="noStrike" u="sng">
                <a:solidFill>
                  <a:srgbClr val="333399"/>
                </a:solidFill>
                <a:uFillTx/>
                <a:latin typeface="Verdana"/>
              </a:rPr>
              <a:t>depends on the measure used: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 static percentage difference is only 8 percent, while S-time-distance amounts to 29 years. </a:t>
            </a:r>
            <a:r>
              <a:rPr b="1" lang="en-GB" sz="1800" spc="-1" strike="noStrike" u="sng">
                <a:solidFill>
                  <a:srgbClr val="333399"/>
                </a:solidFill>
                <a:uFillTx/>
                <a:latin typeface="Verdana"/>
              </a:rPr>
              <a:t>For a more realistic conclusion all measures should be presented simultaneously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6172200"/>
            <a:ext cx="861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P. Sicherl, Time Distance As A New Additional Way To Measure And Assess The Overall Position Among And Within Countries, Discussion Paper, SICENTER, Ljubljana, 2004,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sicenter.si/pub/Time%20distance%20Sicherl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07:33:17Z</dcterms:created>
  <dc:creator>Pavle Sicherl</dc:creator>
  <dc:description/>
  <dc:language>en-US</dc:language>
  <cp:lastModifiedBy>Pavle Sicherl</cp:lastModifiedBy>
  <dcterms:modified xsi:type="dcterms:W3CDTF">2008-04-10T10:01:05Z</dcterms:modified>
  <cp:revision>216</cp:revision>
  <dc:subject/>
  <dc:title>TIME DISTANCE Concept and novel generic statistical measure</dc:title>
</cp:coreProperties>
</file>