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909-1EE8-4E76-882F-45B39D7D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5F7-0F8B-483B-82D6-A9E25825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15E-F672-4628-91A0-BB36D7FF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7C6-A8EB-4ED4-A869-A0DF2D98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34D-98D3-4745-8173-B4E42C76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113-62CA-4629-991E-2686AFED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6F6-CC88-4B51-BD42-FFA90144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224-9409-43BE-A46A-4A2D3F46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1557-098B-4EAD-B2BE-EFD39187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FF6-2605-41B8-A788-FE3ACF4F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045-677A-4C40-B9D7-C5C4D510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179-D74E-4773-82E5-CC8CC8E2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D436-1DBF-41E0-AAEF-0BD82401B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822960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I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Ljubljana, Slov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ime is not on our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Verdana"/>
              </a:rPr>
              <a:t>Europe’s Position from the Time Distance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Presented at the European Regional Economic Forum, EREF ’08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Nova Gorica, Slovenia, 5-6 June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7840" y="5638680"/>
            <a:ext cx="58672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SICENTER and University of Ljublj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Email: Pavle.Sicherl@sicenter.si</a:t>
            </a:r>
            <a:r>
              <a:rPr b="0" lang="sl-SI" sz="1600" spc="-1" strike="noStrike">
                <a:solidFill>
                  <a:srgbClr val="3333cc"/>
                </a:solidFill>
                <a:latin typeface="Arial"/>
              </a:rPr>
              <a:t>;  www.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gaptimer.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5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onitoring: frequency distribution of countries with a given value of S-time-distance (in years) from the line to target for R&amp;D in G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0160" y="1523880"/>
            <a:ext cx="762804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2280" y="5791320"/>
            <a:ext cx="8763120" cy="44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40% of Europeans are more than 6 years behind for R&amp;D in GD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11440" y="304920"/>
            <a:ext cx="5719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2800" y="838080"/>
            <a:ext cx="5916600" cy="4237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56386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4120"/>
            <a:ext cx="8076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EC Report on Lisbon implementation for 11 countries their total employment rate targets were not 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763120" cy="4648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0880" y="685800"/>
            <a:ext cx="82296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are Spanish regions faring against the EU employment rate target of 70% for 20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4360" y="1143000"/>
            <a:ext cx="8855280" cy="5330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461880"/>
            <a:ext cx="8839440" cy="44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panish regions against the lower country NRP employment targ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2250" t="0" r="2250" b="5000"/>
          <a:stretch/>
        </p:blipFill>
        <p:spPr>
          <a:xfrm>
            <a:off x="152280" y="130320"/>
            <a:ext cx="891540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0" r="0" b="3500"/>
          <a:stretch/>
        </p:blipFill>
        <p:spPr>
          <a:xfrm>
            <a:off x="76320" y="152280"/>
            <a:ext cx="899136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0" r="0" b="6569"/>
          <a:stretch/>
        </p:blipFill>
        <p:spPr>
          <a:xfrm>
            <a:off x="304920" y="152280"/>
            <a:ext cx="6368760" cy="6502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705720" y="457200"/>
            <a:ext cx="23619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e free web tool provides estimates of the S-time-distance and percentage deviations from the line to target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nd two graphs for each of the 27 EU countries and for EU27, EU25 and EU15 aggre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839880" y="374760"/>
          <a:ext cx="6789600" cy="53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374760"/>
                    <a:ext cx="6789600" cy="53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velopment is first and foremost a process of learn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cc"/>
                </a:solidFill>
                <a:uFillTx/>
                <a:latin typeface="Times New Roman"/>
              </a:rPr>
              <a:t>We should learn from others in and outside the EU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 – and set high benchmarks. One way to learn is by </a:t>
            </a:r>
            <a:r>
              <a:rPr b="1" lang="en-US" sz="2200" spc="-1" strike="noStrike" u="sng">
                <a:solidFill>
                  <a:srgbClr val="3333cc"/>
                </a:solidFill>
                <a:uFillTx/>
                <a:latin typeface="Times New Roman"/>
              </a:rPr>
              <a:t>comparisons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cc"/>
                </a:solidFill>
                <a:latin typeface="Times New Roman"/>
              </a:rPr>
              <a:t>Three main topics in the presentatio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The position of EU in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Tracking the timetable of implementation of Lisbon and NRP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Methodological by-product: S-time-distance for benchmarking and monitoring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at EU, national and sub-national levels that is </a:t>
            </a:r>
            <a:r>
              <a:rPr b="1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easily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understood by policy makers, media and the 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UMMARY: Benefits of  immediate operational uses of time dis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2.1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A new view in competitiveness issues, benchmarking</a:t>
            </a:r>
            <a:r>
              <a:rPr b="1" lang="sl-SI" sz="1800" spc="-1" strike="noStrike" u="sng">
                <a:solidFill>
                  <a:srgbClr val="3333cc"/>
                </a:solidFill>
                <a:uFillTx/>
                <a:latin typeface="Times New Roman"/>
              </a:rPr>
              <a:t>, target setting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and monitoring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for economic, employment, social, R&amp;D and environment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indicators at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the world, EU, country, regional, city, project, socio-economic groups, company, household and individual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levels and groups of stake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2.2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A broader dynamic framework for interrelating Lisbon strategy issues of growth, efficiency, inequality and conve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2.3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Enhanced semantics for policy analysis and public deb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2.4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Additional exploitation of databases and indicator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2.5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An excellent presentation and communication tool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mong different levels of decision makers and interest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for describing of the situations, challenges and scen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for proactive discussion and presentation of policy alternatives to policy makers, media, the general public and mobilizing those participating in or being affected by the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for communicating the urgent need for chang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010280" y="17524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6035760"/>
            <a:ext cx="8839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 139 shows the static gap, the time gap of about two decades produces a different perception of reality. The same is true for comparisons within the E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9082" r="0" b="0"/>
          <a:stretch/>
        </p:blipFill>
        <p:spPr>
          <a:xfrm>
            <a:off x="457200" y="1523880"/>
            <a:ext cx="830592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cc"/>
                </a:solidFill>
                <a:uFillTx/>
                <a:latin typeface="Times New Roman"/>
              </a:rPr>
              <a:t>Two time series can and should be compared in two dimensions:</a:t>
            </a:r>
            <a:br>
              <a:rPr sz="2000"/>
            </a:b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1. static gap for a given point in time</a:t>
            </a:r>
            <a:br>
              <a:rPr sz="2400"/>
            </a:b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2. gap in time for a given level of th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4952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295200"/>
            <a:ext cx="8305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rope has a long way to go to catch up with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024600"/>
            <a:ext cx="8534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g.: With 1% higher growth rate of R&amp;D per capita EU would reach USA in 2086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4648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295200"/>
            <a:ext cx="8305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China would grow at 7% it would reach the EU present level of GDP per capita in 20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024600"/>
            <a:ext cx="8534160" cy="38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 time distance between China and EU would decrease from 48 to 17 yea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876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295200"/>
            <a:ext cx="8305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gence China EU27 for GDP per capita in 20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024600"/>
            <a:ext cx="8534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 4% higher growth rate of GDP per capita China would reach EU27 in 2036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990720" y="838080"/>
            <a:ext cx="7543800" cy="5410080"/>
            <a:chOff x="990720" y="838080"/>
            <a:chExt cx="7543800" cy="5410080"/>
          </a:xfrm>
        </p:grpSpPr>
        <p:sp>
          <p:nvSpPr>
            <p:cNvPr id="60" name=""/>
            <p:cNvSpPr/>
            <p:nvPr/>
          </p:nvSpPr>
          <p:spPr>
            <a:xfrm flipV="1">
              <a:off x="1498320" y="1840680"/>
              <a:ext cx="0" cy="404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98320" y="5881680"/>
              <a:ext cx="59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131920" y="2426400"/>
              <a:ext cx="4589640" cy="29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2080" y="44618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3080" y="39160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39240" y="40251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72640" y="32608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13320" y="33699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82280" y="457128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38800" y="4528800"/>
              <a:ext cx="7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31920" y="431640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34680" y="5016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96880" y="44618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120280" y="3424320"/>
              <a:ext cx="11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92520" y="4716720"/>
              <a:ext cx="886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2080" y="4273920"/>
              <a:ext cx="1347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377040" y="2638800"/>
              <a:ext cx="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11480" y="5929920"/>
              <a:ext cx="8866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1640" y="1586160"/>
              <a:ext cx="1372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90720" y="838080"/>
              <a:ext cx="754380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3333cc"/>
                  </a:solidFill>
                  <a:latin typeface="Arial"/>
                </a:rPr>
                <a:t>S-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time-</a:t>
              </a:r>
              <a:r>
                <a:rPr b="1" lang="sl-SI" sz="2000" spc="-1" strike="noStrike">
                  <a:solidFill>
                    <a:srgbClr val="3333cc"/>
                  </a:solidFill>
                  <a:latin typeface="Arial"/>
                </a:rPr>
                <a:t>distance adds a second dimension to comparing </a:t>
              </a:r>
              <a:r>
                <a:rPr b="1" lang="sl-SI" sz="2000" spc="-1" strike="noStrike" u="sng">
                  <a:solidFill>
                    <a:srgbClr val="3333cc"/>
                  </a:solidFill>
                  <a:uFillTx/>
                  <a:latin typeface="Arial"/>
                </a:rPr>
                <a:t>actual value with estimated value, forecast, budget, plan, target</a:t>
              </a:r>
              <a:r>
                <a:rPr b="1" lang="sl-SI" sz="2000" spc="-1" strike="noStrike">
                  <a:solidFill>
                    <a:srgbClr val="3333cc"/>
                  </a:solidFill>
                  <a:latin typeface="Arial"/>
                </a:rPr>
                <a:t>, etc. and to </a:t>
              </a:r>
              <a:r>
                <a:rPr b="1" lang="sl-SI" sz="2000" spc="-1" strike="noStrike" u="sng">
                  <a:solidFill>
                    <a:srgbClr val="3333cc"/>
                  </a:solidFill>
                  <a:uFillTx/>
                  <a:latin typeface="Arial"/>
                </a:rPr>
                <a:t>evaluating goodness-of-fit in regressions, models, forecasting and monito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39240" y="3369960"/>
              <a:ext cx="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599360" y="331452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599360" y="375696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096440" y="4076640"/>
              <a:ext cx="44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09800" y="39736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52560" y="402516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95520" y="40766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39240" y="375732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24240" y="34790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13320" y="2901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66960" y="34243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99360" y="3059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09360" y="37339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11480" y="4076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16200000">
            <a:off x="583920" y="3227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cc"/>
                </a:solidFill>
                <a:latin typeface="Times New Roman"/>
              </a:rPr>
              <a:t>Variable</a:t>
            </a:r>
            <a:r>
              <a:rPr b="0" lang="sl-SI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91760" y="44956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9680" y="4114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8800" y="3809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7760" y="35812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6880" y="3200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0600" y="27432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40400" y="3505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7600" y="38098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30760" y="28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9200" y="3124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04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The generic idea for many other applications of S-time-di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3680" y="395280"/>
            <a:ext cx="87552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7:03:08Z</dcterms:created>
  <dc:creator>Pavle Sicherl</dc:creator>
  <dc:description/>
  <dc:language>en-US</dc:language>
  <cp:lastModifiedBy>Pavle Sicherl</cp:lastModifiedBy>
  <dcterms:modified xsi:type="dcterms:W3CDTF">2008-06-01T10:00:23Z</dcterms:modified>
  <cp:revision>251</cp:revision>
  <dc:subject/>
  <dc:title>PowerPoint Presentation</dc:title>
</cp:coreProperties>
</file>