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0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E03D-8854-41CE-AB06-66F48638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B7B9-BA59-4FED-8009-AE9734EF9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03B6-6F54-46D4-8F87-C0E32941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50B1-0842-4240-8194-C960837CC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5369-67E8-4595-9B39-ACB4D57CD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6DA65-3DB4-4390-B0E2-6C80A3179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CFB8-D4BD-4055-B8AB-4F60447A8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DAEC-6872-4DAF-9D0F-28A130ED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BDCA2-3832-461B-BA36-E85BFF7B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88F3-45B4-4FFD-8EC3-C530D05D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C0E1-4505-4737-BB12-224193C6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1E73-2F14-42F9-8780-C3D10C018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E7AF-FF37-4BE2-AC63-691F7FB48C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685800"/>
            <a:ext cx="8229600" cy="49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SICE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Ljubljana, Slov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Verdana"/>
              </a:rPr>
              <a:t>Time is not on our s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3333cc"/>
                </a:solidFill>
                <a:uFillTx/>
                <a:latin typeface="Verdana"/>
              </a:rPr>
              <a:t>Europe’s Position from the Time Distance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Presented at the European Regional Economic Forum, EREF ’08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Nova Gorica, Slovenia, 5-6 June 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17840" y="5638680"/>
            <a:ext cx="58672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SICENTER and University of Ljublja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  <a:ea typeface="Times New Roman"/>
              </a:rPr>
              <a:t>Email: Pavle.Sicherl@sicenter.si</a:t>
            </a:r>
            <a:r>
              <a:rPr b="0" lang="sl-SI" sz="1600" spc="-1" strike="noStrike">
                <a:solidFill>
                  <a:srgbClr val="3333cc"/>
                </a:solidFill>
                <a:latin typeface="Arial"/>
              </a:rPr>
              <a:t>;  www.</a:t>
            </a: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gaptimer.e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5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35080" y="463680"/>
            <a:ext cx="8673840" cy="59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Monitoring: frequency distribution of countries with a given value of S-time-distance (in years) from the line to target for R&amp;D in G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30160" y="1523880"/>
            <a:ext cx="7628040" cy="4114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52280" y="5791320"/>
            <a:ext cx="8763120" cy="44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40% of Europeans are more than 6 years behind for R&amp;D in GDP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11440" y="304920"/>
            <a:ext cx="571968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612800" y="838080"/>
            <a:ext cx="5916600" cy="4237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57200" y="56386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4120"/>
            <a:ext cx="807696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 the EC Report on Lisbon implementation for 11 countries their total employment rate targets were not spec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1752480"/>
            <a:ext cx="8763120" cy="4648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380880" y="685800"/>
            <a:ext cx="82296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 are Spanish regions faring against the EU employment rate target of 70% for 20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44360" y="1143000"/>
            <a:ext cx="8855280" cy="5330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52280" y="461880"/>
            <a:ext cx="8839440" cy="44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Times New Roman"/>
              </a:rPr>
              <a:t>Spanish regions against the lower country NRP employment target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2250" t="0" r="2250" b="5000"/>
          <a:stretch/>
        </p:blipFill>
        <p:spPr>
          <a:xfrm>
            <a:off x="152280" y="130320"/>
            <a:ext cx="891540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0" r="0" b="3500"/>
          <a:stretch/>
        </p:blipFill>
        <p:spPr>
          <a:xfrm>
            <a:off x="76320" y="152280"/>
            <a:ext cx="8991360" cy="65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0" t="0" r="0" b="6569"/>
          <a:stretch/>
        </p:blipFill>
        <p:spPr>
          <a:xfrm>
            <a:off x="304920" y="152280"/>
            <a:ext cx="6368760" cy="650268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705720" y="457200"/>
            <a:ext cx="23619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he free web tool provides estimates of the S-time-distance and percentage deviations from the line to target </a:t>
            </a:r>
            <a:br>
              <a:rPr sz="2000"/>
            </a:b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and two graphs for each of the 27 EU countries and for EU27, EU25 and EU15 aggre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"/>
          <p:cNvGraphicFramePr/>
          <p:nvPr/>
        </p:nvGraphicFramePr>
        <p:xfrm>
          <a:off x="839880" y="374760"/>
          <a:ext cx="6789600" cy="530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374760"/>
                    <a:ext cx="6789600" cy="53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Development is first and foremost a process of learn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cc"/>
                </a:solidFill>
                <a:uFillTx/>
                <a:latin typeface="Times New Roman"/>
              </a:rPr>
              <a:t>We should learn from others in and outside the EU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 – and set high benchmarks. One way to learn is by </a:t>
            </a:r>
            <a:r>
              <a:rPr b="1" lang="en-US" sz="2200" spc="-1" strike="noStrike" u="sng">
                <a:solidFill>
                  <a:srgbClr val="3333cc"/>
                </a:solidFill>
                <a:uFillTx/>
                <a:latin typeface="Times New Roman"/>
              </a:rPr>
              <a:t>comparisons</a:t>
            </a:r>
            <a:r>
              <a:rPr b="1" lang="en-US" sz="2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50"/>
              </a:spcBef>
              <a:spcAft>
                <a:spcPts val="1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50"/>
              </a:spcBef>
              <a:spcAft>
                <a:spcPts val="550"/>
              </a:spcAft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cc"/>
                </a:solidFill>
                <a:latin typeface="Times New Roman"/>
              </a:rPr>
              <a:t>Three main topics in the presentation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Times New Roman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The position of EU in the wor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Times New Roman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Tracking the timetable of implementation of Lisbon and NRP targe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3333cc"/>
              </a:buClr>
              <a:buFont typeface="Times New Roman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Methodological by-product: S-time-distance for benchmarking and monitoring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at EU, national and sub-national levels that is </a:t>
            </a:r>
            <a:r>
              <a:rPr b="1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easily</a:t>
            </a:r>
            <a:r>
              <a:rPr b="1" lang="en-GB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GB" sz="2000" spc="-1" strike="noStrike" u="sng">
                <a:solidFill>
                  <a:srgbClr val="3333cc"/>
                </a:solidFill>
                <a:uFillTx/>
                <a:latin typeface="Times New Roman"/>
              </a:rPr>
              <a:t>understood by policy makers, media and the general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cc"/>
                </a:solidFill>
                <a:uFillTx/>
                <a:latin typeface="Times New Roman"/>
              </a:rPr>
              <a:t>SUMMARY: Benefits of  immediate operational uses of time dista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2.1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A new view in competitiveness issues, benchmarking</a:t>
            </a:r>
            <a:r>
              <a:rPr b="1" lang="sl-SI" sz="1800" spc="-1" strike="noStrike" u="sng">
                <a:solidFill>
                  <a:srgbClr val="3333cc"/>
                </a:solidFill>
                <a:uFillTx/>
                <a:latin typeface="Times New Roman"/>
              </a:rPr>
              <a:t>, target setting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and monitoring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for economic, employment, social, R&amp;D and environment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indicators at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the world, EU, country, regional, city, project, socio-economic groups, company, household and individual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levels and groups of stakehold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2.2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A broader dynamic framework for interrelating Lisbon strategy issues of growth, efficiency, inequality and converg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2.3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Enhanced semantics for policy analysis and public deb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2.4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Additional exploitation of databases and indicator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2.5 </a:t>
            </a:r>
            <a:r>
              <a:rPr b="1" lang="en-US" sz="1800" spc="-1" strike="noStrike" u="sng">
                <a:solidFill>
                  <a:srgbClr val="3333cc"/>
                </a:solidFill>
                <a:uFillTx/>
                <a:latin typeface="Times New Roman"/>
              </a:rPr>
              <a:t>An excellent presentation and communication tool</a:t>
            </a: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among different levels of decision makers and interest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for describing of the situations, challenges and scen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for proactive discussion and presentation of policy alternatives to policy makers, media, the general public and mobilizing those participating in or being affected by the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for communicating the urgent need for change and re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010280" y="17524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2280" y="6035760"/>
            <a:ext cx="883944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 139 shows the static gap, the time gap of about two decades produces a different perception of reality. The same is true for comparisons within the E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0" t="9082" r="0" b="0"/>
          <a:stretch/>
        </p:blipFill>
        <p:spPr>
          <a:xfrm>
            <a:off x="457200" y="1523880"/>
            <a:ext cx="8305920" cy="4572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cc"/>
                </a:solidFill>
                <a:uFillTx/>
                <a:latin typeface="Times New Roman"/>
              </a:rPr>
              <a:t>Two time series can and should be compared in two dimensions:</a:t>
            </a:r>
            <a:br>
              <a:rPr sz="2000"/>
            </a:b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1. static gap for a given point in time</a:t>
            </a:r>
            <a:br>
              <a:rPr sz="2400"/>
            </a:b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2. gap in time for a given level of the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35080" y="46512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05920" cy="4952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295200"/>
            <a:ext cx="8305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urope has a long way to go to catch up with the U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6024600"/>
            <a:ext cx="8534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E.g.: With 1% higher growth rate of R&amp;D per capita EU would reach USA in 2086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1295280"/>
            <a:ext cx="8839440" cy="46483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80880" y="295200"/>
            <a:ext cx="830592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China would grow at 7% it would reach the EU present level of GDP per capita in 20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6024600"/>
            <a:ext cx="8534160" cy="38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imes New Roman"/>
              </a:rPr>
              <a:t>The time distance between China and EU would decrease from 48 to 17 yea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876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0880" y="295200"/>
            <a:ext cx="83059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sible convergence China EU27 for GDP per capita in 20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6024600"/>
            <a:ext cx="8534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With 4% higher growth rate of GDP per capita China would reach EU27 in 2036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990720" y="838080"/>
            <a:ext cx="7543800" cy="5410080"/>
            <a:chOff x="990720" y="838080"/>
            <a:chExt cx="7543800" cy="5410080"/>
          </a:xfrm>
        </p:grpSpPr>
        <p:sp>
          <p:nvSpPr>
            <p:cNvPr id="60" name=""/>
            <p:cNvSpPr/>
            <p:nvPr/>
          </p:nvSpPr>
          <p:spPr>
            <a:xfrm flipV="1">
              <a:off x="1498320" y="1840680"/>
              <a:ext cx="0" cy="404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98320" y="5881680"/>
              <a:ext cx="59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2131920" y="2426400"/>
              <a:ext cx="4589640" cy="29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2080" y="44618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3080" y="39160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39240" y="40251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472640" y="32608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313320" y="33699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582280" y="457128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638800" y="4528800"/>
              <a:ext cx="7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131920" y="431640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434680" y="5016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296880" y="44618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120280" y="3424320"/>
              <a:ext cx="11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92520" y="4716720"/>
              <a:ext cx="886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12080" y="4273920"/>
              <a:ext cx="1347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6377040" y="2638800"/>
              <a:ext cx="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011480" y="5929920"/>
              <a:ext cx="8866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061640" y="1586160"/>
              <a:ext cx="1372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90720" y="838080"/>
              <a:ext cx="754380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3333cc"/>
                  </a:solidFill>
                  <a:latin typeface="Arial"/>
                </a:rPr>
                <a:t>S-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time-</a:t>
              </a:r>
              <a:r>
                <a:rPr b="1" lang="sl-SI" sz="2000" spc="-1" strike="noStrike">
                  <a:solidFill>
                    <a:srgbClr val="3333cc"/>
                  </a:solidFill>
                  <a:latin typeface="Arial"/>
                </a:rPr>
                <a:t>distance adds a second dimension to comparing </a:t>
              </a:r>
              <a:r>
                <a:rPr b="1" lang="sl-SI" sz="2000" spc="-1" strike="noStrike" u="sng">
                  <a:solidFill>
                    <a:srgbClr val="3333cc"/>
                  </a:solidFill>
                  <a:uFillTx/>
                  <a:latin typeface="Arial"/>
                </a:rPr>
                <a:t>actual value with estimated value, forecast, budget, plan, target</a:t>
              </a:r>
              <a:r>
                <a:rPr b="1" lang="sl-SI" sz="2000" spc="-1" strike="noStrike">
                  <a:solidFill>
                    <a:srgbClr val="3333cc"/>
                  </a:solidFill>
                  <a:latin typeface="Arial"/>
                </a:rPr>
                <a:t>, etc. and to </a:t>
              </a:r>
              <a:r>
                <a:rPr b="1" lang="sl-SI" sz="2000" spc="-1" strike="noStrike" u="sng">
                  <a:solidFill>
                    <a:srgbClr val="3333cc"/>
                  </a:solidFill>
                  <a:uFillTx/>
                  <a:latin typeface="Arial"/>
                </a:rPr>
                <a:t>evaluating goodness-of-fit in regressions, models, forecasting and monitor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39240" y="3369960"/>
              <a:ext cx="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4599360" y="331452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4599360" y="375696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4096440" y="4076640"/>
              <a:ext cx="44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09800" y="39736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652560" y="402516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395520" y="40766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39240" y="375732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224240" y="34790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313320" y="2901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466960" y="34243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599360" y="3059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09360" y="37339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011480" y="4076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 rot="16200000">
            <a:off x="583920" y="3227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cc"/>
                </a:solidFill>
                <a:latin typeface="Times New Roman"/>
              </a:rPr>
              <a:t>Variable</a:t>
            </a:r>
            <a:r>
              <a:rPr b="0" lang="sl-SI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3333cc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91760" y="44956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749680" y="4114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58800" y="3809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7760" y="35812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196880" y="3200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330600" y="27432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40400" y="3505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197600" y="38098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30760" y="28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69200" y="3124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304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cc"/>
                </a:solidFill>
                <a:uFillTx/>
                <a:latin typeface="Arial"/>
              </a:rPr>
              <a:t>The generic idea for many other applications of S-time-distanc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93680" y="395280"/>
            <a:ext cx="8755200" cy="60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9T07:03:08Z</dcterms:created>
  <dc:creator>Pavle Sicherl</dc:creator>
  <dc:description/>
  <dc:language>en-US</dc:language>
  <cp:lastModifiedBy>Pavle Sicherl</cp:lastModifiedBy>
  <dcterms:modified xsi:type="dcterms:W3CDTF">2008-06-01T10:00:23Z</dcterms:modified>
  <cp:revision>251</cp:revision>
  <dc:subject/>
  <dc:title>PowerPoint Presentation</dc:title>
</cp:coreProperties>
</file>