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4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00AA-5E86-4AB6-B7F7-73B52CBDC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88DE-0407-49A1-859D-A22D8E1F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8B38-00CD-41A6-9FA2-E0C2A4C0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8E61-CFEB-41ED-BB9A-725057799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906F-6B78-4926-B5C7-D5D8A1B2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AEEB-3149-448E-B455-463148B3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364D-9DF9-4FE3-8296-578B71A8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0B2C-A159-4FC2-9A47-B0939066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BAC4-4DBE-43E8-AC8F-EF2801D9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542D-8584-478A-AD5D-4BFC4046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2837-8EFF-4AD5-AA7A-7EFB71A9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EB2B-F62D-4044-B4A4-814F0E9D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E9EF-E5B0-4A15-AB16-8712D0AE2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892080"/>
            <a:ext cx="708660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SI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Ljubljana, Slov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Verdana"/>
              </a:rPr>
              <a:t>Time Distance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 Measure for Analysis and Presentation:  Benchmarking and Monitoring of Structur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Professor Pavle Sich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5486400"/>
            <a:ext cx="586728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SICENTER and University of Ljublj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Email: Pavle.Sicherl@sicenter.si</a:t>
            </a:r>
            <a:r>
              <a:rPr b="0" lang="sl-SI" sz="1600" spc="-1" strike="noStrike">
                <a:solidFill>
                  <a:srgbClr val="333399"/>
                </a:solidFill>
                <a:latin typeface="Arial"/>
              </a:rPr>
              <a:t>;  www.sicenter.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1994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-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P. Sicherl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46483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vited presentation at the 2</a:t>
            </a:r>
            <a:r>
              <a:rPr b="0" lang="en-US" sz="1800" spc="-1" strike="noStrike" baseline="30000">
                <a:solidFill>
                  <a:srgbClr val="333399"/>
                </a:solidFill>
                <a:latin typeface="Arial"/>
                <a:ea typeface="Times New Roman"/>
              </a:rPr>
              <a:t>nd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 Meeting of the EPC Task Force on Structural Indicators, Brussels, September 7, 2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99"/>
                </a:solidFill>
                <a:latin typeface="Arial"/>
                <a:ea typeface="Times New Roman"/>
              </a:rPr>
              <a:t>Importance for European development paradigm: the </a:t>
            </a:r>
            <a:r>
              <a:rPr b="1" lang="en-US" sz="21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relations between growth, efficiency and inequality in Lisbon strategy are different</a:t>
            </a:r>
            <a:r>
              <a:rPr b="1" lang="en-US" sz="2100" spc="-1" strike="noStrike">
                <a:solidFill>
                  <a:srgbClr val="333399"/>
                </a:solidFill>
                <a:latin typeface="Arial"/>
                <a:ea typeface="Times New Roman"/>
              </a:rPr>
              <a:t> with a dynamic concept of overall degree of dispar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33520" y="1828800"/>
          <a:ext cx="6933960" cy="481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28800"/>
                    <a:ext cx="693396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990720" y="1905120"/>
            <a:ext cx="617220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c relative measure and time distance lead to different conclusion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higher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4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growth example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ratio=1.5,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S=10 yea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lower </a:t>
            </a:r>
            <a:r>
              <a:rPr b="1" lang="sl-SI" sz="1600" spc="-1" strike="noStrike" u="sng">
                <a:solidFill>
                  <a:srgbClr val="333399"/>
                </a:solidFill>
                <a:uFillTx/>
                <a:latin typeface="Arial"/>
              </a:rPr>
              <a:t>1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growth example 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ratio=1.5,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S=</a:t>
            </a:r>
            <a:r>
              <a:rPr b="1" lang="sl-SI" sz="16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4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0 years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-1014120" y="3824640"/>
            <a:ext cx="264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Per capita income (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g scale</a:t>
            </a: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15200" y="1905120"/>
            <a:ext cx="18288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Higher growth rates lead to smaller time distances, and thus have an important effect on the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overall degree of disparity.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This is based on both static disparity and time distance, as both matter.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Static measures alone are inadequ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atic measure and time distance show two very different messages about importance of different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28600" y="1219320"/>
          <a:ext cx="4232160" cy="389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4232160" cy="3894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724280" y="1219320"/>
          <a:ext cx="4048200" cy="3886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219320"/>
                    <a:ext cx="4048200" cy="3886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228600" y="5105520"/>
            <a:ext cx="4191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Percentage differences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between US and EU15 for employment rate, annual hours worked and productivity per hour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are very similar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. It seems as if the difficulty of catching up would be similar in the analysed component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5105520"/>
            <a:ext cx="4190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S-time-distance</a:t>
            </a:r>
            <a:r>
              <a:rPr b="1" lang="sl-SI" sz="1600" spc="-1" strike="noStrike" u="sng">
                <a:solidFill>
                  <a:srgbClr val="333399"/>
                </a:solidFill>
                <a:uFillTx/>
                <a:latin typeface="Arial"/>
              </a:rPr>
              <a:t>s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lang="sl-SI" sz="1600" spc="-1" strike="noStrike" u="sng">
                <a:solidFill>
                  <a:srgbClr val="333399"/>
                </a:solidFill>
                <a:uFillTx/>
                <a:latin typeface="Arial"/>
              </a:rPr>
              <a:t>are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 very different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, for productivity per hour only 5 years, while for employment rate and annual hours worked are about a quarter of a century.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Policy analysis should expect different difficulties of catching up in these fields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1140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TICAL AND PRESENTATION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553440" cy="4525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57200" y="1017720"/>
          <a:ext cx="8229600" cy="500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17720"/>
                    <a:ext cx="822960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731880" y="324000"/>
          <a:ext cx="7723080" cy="566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880" y="324000"/>
                    <a:ext cx="7723080" cy="56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Comparisons over many indicators can show characteristic profiles across countries, regions, socio-economic groups, firm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066680"/>
          <a:ext cx="8267760" cy="494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6680"/>
                    <a:ext cx="8267760" cy="49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314640" y="6248520"/>
            <a:ext cx="525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Interview with P.Sicherl - Semanario Economico, Lisbon, March 18, 200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457200" y="685800"/>
          <a:ext cx="822960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85800"/>
                    <a:ext cx="82296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ime distance measure is </a:t>
            </a:r>
            <a:r>
              <a:rPr b="1" lang="sl-SI" sz="2000" spc="-1" strike="noStrike">
                <a:solidFill>
                  <a:srgbClr val="333399"/>
                </a:solidFill>
                <a:latin typeface="Arial"/>
              </a:rPr>
              <a:t>intuitively understood by policy makers, managers,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2000" spc="-1" strike="noStrike">
                <a:solidFill>
                  <a:srgbClr val="333399"/>
                </a:solidFill>
                <a:latin typeface="Arial"/>
              </a:rPr>
              <a:t>media and general public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and is </a:t>
            </a:r>
            <a:r>
              <a:rPr b="1" lang="sl-SI" sz="2000" spc="-1" strike="noStrike">
                <a:solidFill>
                  <a:srgbClr val="333399"/>
                </a:solidFill>
                <a:latin typeface="Arial"/>
              </a:rPr>
              <a:t>comparable across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ifferent</a:t>
            </a:r>
            <a:r>
              <a:rPr b="1" lang="sl-SI" sz="2000" spc="-1" strike="noStrike">
                <a:solidFill>
                  <a:srgbClr val="333399"/>
                </a:solidFill>
                <a:latin typeface="Arial"/>
              </a:rPr>
              <a:t> variables, fields of concern,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2000" spc="-1" strike="noStrike">
                <a:solidFill>
                  <a:srgbClr val="333399"/>
                </a:solidFill>
                <a:latin typeface="Arial"/>
              </a:rPr>
              <a:t>and units of compariso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09480" y="1371600"/>
          <a:ext cx="7963200" cy="455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7963200" cy="45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18960" y="6175440"/>
            <a:ext cx="813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P.Sicherl, A New Generic Statistical Measure in Dynamic Gap Analysis, The European E-Business Report, 2004 Edi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pean Commission, Enterprise Directorate General, Luxembourg,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990720" y="838080"/>
            <a:ext cx="7543800" cy="5410080"/>
            <a:chOff x="990720" y="838080"/>
            <a:chExt cx="7543800" cy="5410080"/>
          </a:xfrm>
        </p:grpSpPr>
        <p:sp>
          <p:nvSpPr>
            <p:cNvPr id="106" name=""/>
            <p:cNvSpPr/>
            <p:nvPr/>
          </p:nvSpPr>
          <p:spPr>
            <a:xfrm flipV="1">
              <a:off x="1498320" y="1840680"/>
              <a:ext cx="0" cy="404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98320" y="5881680"/>
              <a:ext cx="595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2131920" y="2426400"/>
              <a:ext cx="4589640" cy="290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12080" y="446184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83080" y="391608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39240" y="402516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72640" y="326088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13320" y="336996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82280" y="4571280"/>
              <a:ext cx="0" cy="50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38800" y="4528800"/>
              <a:ext cx="75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31920" y="431640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34680" y="501696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96880" y="446184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5120280" y="3424320"/>
              <a:ext cx="119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92520" y="4716720"/>
              <a:ext cx="8866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12080" y="4273920"/>
              <a:ext cx="134784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6377040" y="2638800"/>
              <a:ext cx="0" cy="73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11480" y="5929920"/>
              <a:ext cx="88668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061640" y="1586160"/>
              <a:ext cx="13726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90720" y="838080"/>
              <a:ext cx="7543800" cy="7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333399"/>
                  </a:solidFill>
                  <a:latin typeface="Arial"/>
                </a:rPr>
                <a:t>S-</a:t>
              </a: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time-</a:t>
              </a:r>
              <a:r>
                <a:rPr b="1" lang="sl-SI" sz="2000" spc="-1" strike="noStrike">
                  <a:solidFill>
                    <a:srgbClr val="333399"/>
                  </a:solidFill>
                  <a:latin typeface="Arial"/>
                </a:rPr>
                <a:t>distance adds a second dimension to comparing </a:t>
              </a:r>
              <a:r>
                <a:rPr b="1" lang="sl-SI" sz="2000" spc="-1" strike="noStrike" u="sng">
                  <a:solidFill>
                    <a:srgbClr val="333399"/>
                  </a:solidFill>
                  <a:uFillTx/>
                  <a:latin typeface="Arial"/>
                </a:rPr>
                <a:t>actual value with estimated value, forecast, budget, plan, target</a:t>
              </a:r>
              <a:r>
                <a:rPr b="1" lang="sl-SI" sz="2000" spc="-1" strike="noStrike">
                  <a:solidFill>
                    <a:srgbClr val="333399"/>
                  </a:solidFill>
                  <a:latin typeface="Arial"/>
                </a:rPr>
                <a:t>, etc. and to </a:t>
              </a:r>
              <a:r>
                <a:rPr b="1" lang="sl-SI" sz="2000" spc="-1" strike="noStrike" u="sng">
                  <a:solidFill>
                    <a:srgbClr val="333399"/>
                  </a:solidFill>
                  <a:uFillTx/>
                  <a:latin typeface="Arial"/>
                </a:rPr>
                <a:t>evaluating goodness-of-fit in regressions, models, forecasting and monitor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39240" y="3369960"/>
              <a:ext cx="0" cy="43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4599360" y="3314520"/>
              <a:ext cx="71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4599360" y="3756960"/>
              <a:ext cx="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4096440" y="4076640"/>
              <a:ext cx="44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709800" y="3973680"/>
              <a:ext cx="58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52560" y="4025160"/>
              <a:ext cx="0" cy="33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95520" y="407664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39240" y="375732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24240" y="347904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13320" y="290196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66960" y="342432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99360" y="305964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09360" y="373392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11480" y="407664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 rot="16200000">
            <a:off x="583920" y="322740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333399"/>
                </a:solidFill>
                <a:latin typeface="Times New Roman"/>
              </a:rPr>
              <a:t>Variable</a:t>
            </a:r>
            <a:r>
              <a:rPr b="0" lang="sl-SI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sl-SI" sz="1800" spc="-1" strike="noStrike">
                <a:solidFill>
                  <a:srgbClr val="333399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91760" y="44956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49680" y="41148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58800" y="38098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7760" y="35812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96880" y="320040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30600" y="274320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40400" y="350532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97600" y="38098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0760" y="281952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69200" y="31240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3049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99"/>
                </a:solidFill>
                <a:uFillTx/>
                <a:latin typeface="Arial"/>
              </a:rPr>
              <a:t>The generic idea for many other applications of S-time-dist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Monitoring and goodness-of-fit test in two dimensions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143000" y="2133720"/>
          <a:ext cx="69897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69897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152280" y="762120"/>
            <a:ext cx="8839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99"/>
                </a:solidFill>
                <a:uFillTx/>
                <a:latin typeface="Arial"/>
              </a:rPr>
              <a:t>The importance of using S-time-distance as a second dimension for monitoring and benchmarking across indicators in many fields is self explanatory, and immediately operational.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A more long term scientific assignment is to develop optimizing procedures in models based also on the time distance deviations. E.g. Nobel prize winner Granger and Jeon (1997, 2003) further elaborated S-time-distance for the use as a criterion for evaluating forecasting models of leading and lagging indicator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ree issues in the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-time-distance is a novel generic statistical measure (like static difference or growth rate) and an excellent presentati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in comparative analysis and in benchma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Application in monitoring implementation of Lisbon and Growth and Jobs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Arial"/>
              </a:rPr>
              <a:t>SUMMARY: Benefits of  immediate operational uses of time distance methodology for Commission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57200" y="1752480"/>
          <a:ext cx="8229600" cy="3276360"/>
        </p:xfrm>
        <a:graphic>
          <a:graphicData uri="http://schemas.openxmlformats.org/drawingml/2006/table">
            <a:tbl>
              <a:tblPr/>
              <a:tblGrid>
                <a:gridCol w="612720"/>
                <a:gridCol w="1268640"/>
                <a:gridCol w="1269720"/>
                <a:gridCol w="1270080"/>
                <a:gridCol w="1270080"/>
                <a:gridCol w="1268280"/>
                <a:gridCol w="127008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Percentage deviation of actual from path to tar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S-time-distance deviation of actual from path to target (in yea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Share of R&amp;D in GDP (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Employment rate (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GDP Lev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Share of R&amp;D in GDP (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Employment rate (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GDP Lev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7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9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9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S-time-distance in years: - actual ahead of path to target, + actual behind the path to targ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1371600" y="685800"/>
            <a:ext cx="670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xample of monitoring from original Lisbon targets: past deviations of actual from path to target in two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1523880" y="1600200"/>
          <a:ext cx="6132600" cy="4772160"/>
        </p:xfrm>
        <a:graphic>
          <a:graphicData uri="http://schemas.openxmlformats.org/drawingml/2006/table">
            <a:tbl>
              <a:tblPr/>
              <a:tblGrid>
                <a:gridCol w="608040"/>
                <a:gridCol w="1184400"/>
                <a:gridCol w="922320"/>
                <a:gridCol w="1579680"/>
                <a:gridCol w="1838160"/>
              </a:tblGrid>
              <a:tr h="520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Share of R&amp;D in GDP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Monitoring deviations of actual from path to target in two dimens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Implied path 1 to target 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Actual EU15 and new targ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Percentage deviation of actual from path to targ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S-time-distance deviation of actual from path to target (in year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ye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 ye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 ye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 ye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7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9 ye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9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5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9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5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4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3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3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S-time-distance in years: - actual ahead of path to target, + actual behind the path to targ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1219320" y="457200"/>
            <a:ext cx="6629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What would be deviations in two dimensions from the original Barcelona target if the new Lisbon 2 targets for EU15 countries would be reached?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457200" y="2514600"/>
          <a:ext cx="8229600" cy="4138560"/>
        </p:xfrm>
        <a:graphic>
          <a:graphicData uri="http://schemas.openxmlformats.org/drawingml/2006/table">
            <a:tbl>
              <a:tblPr/>
              <a:tblGrid>
                <a:gridCol w="814320"/>
                <a:gridCol w="1590840"/>
                <a:gridCol w="1239840"/>
                <a:gridCol w="2117520"/>
                <a:gridCol w="2467080"/>
              </a:tblGrid>
              <a:tr h="520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Share of R&amp;D in GDP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Monitoring deviations of actual from path to target in two dimens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Implied Lisbon 2 path  to target 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Actua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Percentage deviation of actual from path to targ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S-time-distance deviation of actual from path to target (in year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S-time-distance in years: - actual ahead of path to target, + actual behind the path to targ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1143000" y="2057400"/>
            <a:ext cx="685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xample: monitoring deviations of actual from path to target in two dimensions, Austria, Lisbon 2 target for R&amp;D share in G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228600"/>
            <a:ext cx="8001000" cy="21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Template for monitoring implementation in two dimensions against NRPs specified targets at relevant levels:             national, EU and sub-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25 countries times number of selected indicators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0176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NEW INSIGHTS FROM EXISTING DATA DUE TO AN ADDED DIMENSION OF ANALYS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553080" cy="4525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SUMMARY: Benefits of  immediate operational uses of time dis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1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 new view in competitiveness issues, benchmarking</a:t>
            </a:r>
            <a:r>
              <a:rPr b="1" lang="sl-SI" sz="1800" spc="-1" strike="noStrike" u="sng">
                <a:solidFill>
                  <a:srgbClr val="333399"/>
                </a:solidFill>
                <a:uFillTx/>
                <a:latin typeface="Arial"/>
              </a:rPr>
              <a:t>, target setting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nd monitoring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for economic, employment, social, R&amp;D and environment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indicators at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the world, EU, country, regional, city, project, socio-economic groups, company, household and individual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2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 broader dynamic framework for interrelating Lisbon strategy issues of growth, efficiency, inequality and converg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3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Enhanced semantics for policy analysis and public deb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4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dditional exploitation of databases and indicato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5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n excellent presentation and communication tool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mong different levels of decision makers and interest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or describing of the situations, challenges and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or proactive discussion and presentation of policy alternatives to policy makers, media, the general public and mobilizing those participating in or being affected by the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or communicating the urgent need for change and r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ample: A Comparison of European and US Economies Based on Time Di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2280" y="1752480"/>
          <a:ext cx="6400800" cy="444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52480"/>
                    <a:ext cx="6400800" cy="4443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7010280" y="175248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1676520"/>
            <a:ext cx="23623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he fact that comparisons should be made in two dimensions has been verified by the world-wide media interest in my analysis for the EUROCHAMBRES Spring Business Forum. The static ratio of 1.41 does not catch much attention, while the time gap of about two decades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obviously produced a different perception of reality. The same will be true for comparing within the E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6248520"/>
            <a:ext cx="640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P. Sicherl, A Comparison of European and US Economies Based on Time Distances, EUROCHAMBRES, Brussels, March 200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619280" y="104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304920"/>
            <a:ext cx="7391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NEW VIEW  IN TIME SERIES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1066680"/>
            <a:ext cx="6629400" cy="7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286000" y="2057400"/>
            <a:ext cx="6629040" cy="1904760"/>
            <a:chOff x="2286000" y="2057400"/>
            <a:chExt cx="6629040" cy="1904760"/>
          </a:xfrm>
        </p:grpSpPr>
        <p:sp>
          <p:nvSpPr>
            <p:cNvPr id="56" name=""/>
            <p:cNvSpPr/>
            <p:nvPr/>
          </p:nvSpPr>
          <p:spPr>
            <a:xfrm>
              <a:off x="2286000" y="2057400"/>
              <a:ext cx="6629040" cy="19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379240" y="2135880"/>
              <a:ext cx="6487200" cy="167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sl-SI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. CONCEPT OF  MULTIDIMENSIONA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MPARISON AND 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. PRESENT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. VISUAL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. SEMANTICS:</a:t>
              </a: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 POLICY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, M</a:t>
              </a: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 rot="16200000">
            <a:off x="-10080" y="2373480"/>
            <a:ext cx="3245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 rot="-54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PERCEPTION OF A  SIT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066680" y="4191120"/>
            <a:ext cx="7772040" cy="2287080"/>
            <a:chOff x="1066680" y="4191120"/>
            <a:chExt cx="7772040" cy="2287080"/>
          </a:xfrm>
        </p:grpSpPr>
        <p:sp>
          <p:nvSpPr>
            <p:cNvPr id="60" name=""/>
            <p:cNvSpPr/>
            <p:nvPr/>
          </p:nvSpPr>
          <p:spPr>
            <a:xfrm>
              <a:off x="2282400" y="4191120"/>
              <a:ext cx="6556320" cy="220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374920" y="4191120"/>
              <a:ext cx="6186600" cy="22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 STOHASTIC MODELS WITH S-TIME-DIST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.g. criterion for evaluating forecasting models (Granger and Jeon, 200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V. DECISION MAKING MODE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 extension of decision making mode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200000">
              <a:off x="495360" y="4853160"/>
              <a:ext cx="172080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 rot="-5400000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URTH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APPL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286000" y="1219320"/>
            <a:ext cx="5486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VE STATISTICAL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876312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 new view of the information using levels of the variable as identifiers and time as the focus of comparison and numerai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135640" cy="4525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84240" y="533520"/>
          <a:ext cx="8951760" cy="373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0" y="533520"/>
                    <a:ext cx="895176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352440" y="4191120"/>
            <a:ext cx="829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99"/>
                </a:solidFill>
                <a:latin typeface="Arial"/>
                <a:ea typeface="Arial"/>
              </a:rPr>
              <a:t>The resulting time matrix provides new information from which new generic measures can be deri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Two operators</a:t>
            </a:r>
            <a:r>
              <a:rPr b="0" lang="sl-SI" sz="2400" spc="-1" strike="noStrike">
                <a:solidFill>
                  <a:srgbClr val="000099"/>
                </a:solidFill>
                <a:latin typeface="Arial"/>
                <a:ea typeface="Arial"/>
              </a:rPr>
              <a:t> applied to this time matrix lead to the </a:t>
            </a:r>
            <a:r>
              <a:rPr b="0" lang="sl-SI" sz="24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derivation of two novel statistical measures, expressed in standardized units of time</a:t>
            </a:r>
            <a:r>
              <a:rPr b="0" lang="sl-SI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57200" y="609480"/>
          <a:ext cx="7959600" cy="482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95960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80880" y="6019920"/>
            <a:ext cx="82296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ource: P. Sicherl, Time Distance: A Missing Link in Comparative Analysis, 28th General Conference of the International Association for Research in Income and Wealth, Cork, Ireland, August 22-28 200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839880" y="374760"/>
          <a:ext cx="6789600" cy="530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374760"/>
                    <a:ext cx="6789600" cy="53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19600"/>
            <a:ext cx="8229600" cy="12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ETHODOLOGY: a broader perception, policy and welfa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07:33:17Z</dcterms:created>
  <dc:creator>Pavle Sicherl</dc:creator>
  <dc:description/>
  <dc:language>en-US</dc:language>
  <cp:lastModifiedBy>Pavle Sicherl</cp:lastModifiedBy>
  <dcterms:modified xsi:type="dcterms:W3CDTF">2007-05-23T08:25:48Z</dcterms:modified>
  <cp:revision>213</cp:revision>
  <dc:subject/>
  <dc:title>TIME DISTANCE Concept and novel generic statistical measure</dc:title>
</cp:coreProperties>
</file>