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1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7.png" ContentType="image/png"/>
  <Override PartName="/ppt/media/image16.wmf" ContentType="image/x-wmf"/>
  <Override PartName="/ppt/media/image15.wmf" ContentType="image/x-wmf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4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1876-9462-4615-A9D7-A71512F51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FD6D-034C-4222-A736-7CBB56C0A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430A-7D23-4C67-B471-E4507727F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0DF5-4310-4035-9A45-C5D99EF1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1634-9E73-4522-9959-28F4512EB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3FA5-D02B-4C2F-AD41-269F2945E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3BA-0E1D-46D2-8BA1-223EF908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628C-2C17-4815-BD00-294FCA2F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814-34D2-44C7-BD06-CF559D27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3B77-2103-4386-BECF-B084957C9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9DDC-FCBA-45EE-BE65-8D27985CA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68E5-BC59-45A9-B78F-A44F6EDD3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BD146-F6CD-47EE-8058-1DDB49D281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92080"/>
            <a:ext cx="70866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Time Distance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 Measure for Analysis and Presentation:  Benchmarking and Monitoring of Structur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58672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www.sicenter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Invited presentation at the 2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  <a:ea typeface="Times New Roman"/>
              </a:rPr>
              <a:t>nd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 Meeting of the EPC Task Force on Structural Indicators, Brussels, September 7, 200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European development paradigm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in Lisbon strategy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533520" y="1828800"/>
          <a:ext cx="693396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69339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990720" y="190512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15200" y="19051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c measure and time distance show two very different messages about importance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228600" y="1219320"/>
          <a:ext cx="4232160" cy="3894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219320"/>
                    <a:ext cx="4232160" cy="38941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4724280" y="1219320"/>
          <a:ext cx="4048200" cy="3886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219320"/>
                    <a:ext cx="4048200" cy="38862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28600" y="5105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ercentage difference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between US and EU15 for employment rate, annual hours worked and productivity per hou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are very simila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It seems as if the difficulty of catching up would be similar in the analysed compon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510552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are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very differ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for productivity per hour only 5 years, while for employment rate and annual hours worked are about a quarter of a century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olicy analysis should expect different difficulties of catching up in these fiel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AND PRES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1" name=""/>
          <p:cNvGraphicFramePr/>
          <p:nvPr/>
        </p:nvGraphicFramePr>
        <p:xfrm>
          <a:off x="457200" y="1017720"/>
          <a:ext cx="8229600" cy="5002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17720"/>
                    <a:ext cx="82296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731880" y="324000"/>
          <a:ext cx="7723080" cy="5663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880" y="324000"/>
                    <a:ext cx="7723080" cy="56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over many indicators can show characteristic profiles across countries, regions, socio-economic groups, fir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066680"/>
          <a:ext cx="8267760" cy="494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066680"/>
                    <a:ext cx="8267760" cy="494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314640" y="6248520"/>
            <a:ext cx="52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nterview with P.Sicherl - Semanario Economico, Lisbon, March 18,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" name=""/>
          <p:cNvGraphicFramePr/>
          <p:nvPr/>
        </p:nvGraphicFramePr>
        <p:xfrm>
          <a:off x="457200" y="685800"/>
          <a:ext cx="8229600" cy="548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5800"/>
                    <a:ext cx="82296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371600"/>
          <a:ext cx="796320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1600"/>
                    <a:ext cx="79632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18960" y="6175440"/>
            <a:ext cx="81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A New Generic Statistical Measure in Dynamic Gap Analysis, The European E-Business Report, 2004 Edi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an Commission, Enterprise Directorate General, Luxembourg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106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2746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nitoring and goodness-of-fit test in two dimension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2133720"/>
          <a:ext cx="69897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133720"/>
                    <a:ext cx="69897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"/>
          <p:cNvSpPr/>
          <p:nvPr/>
        </p:nvSpPr>
        <p:spPr>
          <a:xfrm>
            <a:off x="152280" y="762120"/>
            <a:ext cx="8839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The importance of using S-time-distance as a second dimension for monitoring and benchmarking across indicators in many fields is self explanatory, and immediately operational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A more long term scientific assignment is to develop optimizing procedures in models based also on the time distance deviations. E.g. Nobel prize winner Granger and Jeon (1997, 2003) further elaborated S-time-distance for the use as a criterion for evaluating forecasting models of leading and lagging indicato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hree issues in the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-time-distance is a novel generic statistical measure (like static difference or growth rate) and an excellent presentation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pplication in comparative analysis and in benchma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pplication in monitoring implementation of Lisbon and Growth and Jobs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methodology for Commission serv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457200" y="1752480"/>
          <a:ext cx="8229600" cy="3276360"/>
        </p:xfrm>
        <a:graphic>
          <a:graphicData uri="http://schemas.openxmlformats.org/drawingml/2006/table">
            <a:tbl>
              <a:tblPr/>
              <a:tblGrid>
                <a:gridCol w="612720"/>
                <a:gridCol w="1268640"/>
                <a:gridCol w="1269720"/>
                <a:gridCol w="1270080"/>
                <a:gridCol w="1270080"/>
                <a:gridCol w="1268280"/>
                <a:gridCol w="1270080"/>
              </a:tblGrid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ercentage deviation of actual from path to targe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deviation of actual from path to target (in year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Employment rat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GDP 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Employment rate (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GDP Leve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1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4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.8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96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in years: - actual ahead of path to target, + actual behind the path to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1371600" y="685800"/>
            <a:ext cx="67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 of monitoring from original Lisbon targets: past deviations of actual from path to target in two dim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8" name=""/>
          <p:cNvGraphicFramePr/>
          <p:nvPr/>
        </p:nvGraphicFramePr>
        <p:xfrm>
          <a:off x="1523880" y="1600200"/>
          <a:ext cx="6132600" cy="4772160"/>
        </p:xfrm>
        <a:graphic>
          <a:graphicData uri="http://schemas.openxmlformats.org/drawingml/2006/table">
            <a:tbl>
              <a:tblPr/>
              <a:tblGrid>
                <a:gridCol w="608040"/>
                <a:gridCol w="1184400"/>
                <a:gridCol w="922320"/>
                <a:gridCol w="1579680"/>
                <a:gridCol w="183816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onitoring deviations of actual from path to target in two dim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1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mplied path 1 to target 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ctual EU15 and new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ercentage deviation of actual from path to targ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deviation of actual from path to target (in year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2.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2.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7.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6.7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9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5.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4.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.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3.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8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in years: - actual ahead of path to target, + actual behind the path to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1219320" y="457200"/>
            <a:ext cx="6629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What would be deviations in two dimensions from the original Barcelona target if the new Lisbon 2 targets for EU15 countries would be reached?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0" name=""/>
          <p:cNvGraphicFramePr/>
          <p:nvPr/>
        </p:nvGraphicFramePr>
        <p:xfrm>
          <a:off x="457200" y="2514600"/>
          <a:ext cx="8229600" cy="4138560"/>
        </p:xfrm>
        <a:graphic>
          <a:graphicData uri="http://schemas.openxmlformats.org/drawingml/2006/table">
            <a:tbl>
              <a:tblPr/>
              <a:tblGrid>
                <a:gridCol w="814320"/>
                <a:gridCol w="1590840"/>
                <a:gridCol w="1239840"/>
                <a:gridCol w="2117520"/>
                <a:gridCol w="2467080"/>
              </a:tblGrid>
              <a:tr h="5202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hare of R&amp;D in GDP 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Monitoring deviations of actual from path to target in two dimen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Implied Lisbon 2 path  to target 3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Actua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Percentage deviation of actual from path to targ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deviation of actual from path to target (in years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.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3 yea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S-time-distance in years: - actual ahead of path to target, + actual behind the path to targ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143000" y="2057400"/>
            <a:ext cx="685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Example: monitoring deviations of actual from path to target in two dimensions, Austria, Lisbon 2 target for R&amp;D share in GD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28600"/>
            <a:ext cx="8001000" cy="21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Template for monitoring implementation in two dimensions against NRPs specified targets at relevant levels:             national, EU and sub-n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(</a:t>
            </a:r>
            <a:r>
              <a:rPr b="1" i="1" lang="en-US" sz="24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25 countries times number of selected indicators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01760"/>
            <a:ext cx="822960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NEW INSIGHTS FROM EXISTING DATA DUE TO AN ADDED DIMENSION OF ANALYS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xample: A Comparison of European and US Economies Based on Time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52280" y="1752480"/>
          <a:ext cx="6400800" cy="444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752480"/>
                    <a:ext cx="6400800" cy="4443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1676520"/>
            <a:ext cx="23623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fact that comparisons should be made in two dimensions has been verified by the world-wide media interest in my analysis for the EUROCHAMBRES Spring Business Forum. The static ratio of 1.41 does not catch much attention, while the time gap of about two decades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bviously produced a different perception of reality. The same will be true for comparing within the E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624852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6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1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60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87631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84240" y="533520"/>
          <a:ext cx="895176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33520"/>
                    <a:ext cx="895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352440" y="419112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The resulting time matrix provides new information from which new generic measures can be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wo operators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 applied to this time matrix lead to the </a:t>
            </a: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derivation of two novel statistical measures, expressed in standardized units of time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7200" y="609480"/>
          <a:ext cx="795960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9596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380880" y="6019920"/>
            <a:ext cx="822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839880" y="374760"/>
          <a:ext cx="6789600" cy="53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374760"/>
                    <a:ext cx="678960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7:33:17Z</dcterms:created>
  <dc:creator>Pavle Sicherl</dc:creator>
  <dc:description/>
  <dc:language>en-US</dc:language>
  <cp:lastModifiedBy>Pavle Sicherl</cp:lastModifiedBy>
  <dcterms:modified xsi:type="dcterms:W3CDTF">2007-05-23T08:25:48Z</dcterms:modified>
  <cp:revision>213</cp:revision>
  <dc:subject/>
  <dc:title>TIME DISTANCE Concept and novel generic statistical measure</dc:title>
</cp:coreProperties>
</file>