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jpeg" ContentType="image/jpeg"/>
  <Override PartName="/ppt/media/image7.png" ContentType="image/png"/>
  <Override PartName="/ppt/media/image8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A3FD-2282-4F65-A05D-5AA886E0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B8D9-561A-4560-A0EB-5E4FEE9A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1449-3DA1-495F-9091-9A9ACC097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B758-2933-4FDE-8314-A3AB443F6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9849-7BD0-4EC0-B247-468535138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CCB9-0342-4F9A-ACC3-76D9CBB5D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7362-BE72-4D4D-8CE6-6E657A324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26D4-65DA-4093-B7A6-71C555180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C782-DB99-4AEC-BFAB-FC3F15158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675E-4F09-4276-B913-ABA78DE6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425E-C470-46AB-BF36-A2FFB3EA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15C3-72E4-4968-A360-79A946E0C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A9E9-86A4-447D-A9D5-7448076033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gaptimer.eu/" TargetMode="External"/><Relationship Id="rId3" Type="http://schemas.openxmlformats.org/officeDocument/2006/relationships/hyperlink" Target="http://www.gaptimer.eu/s-t-d_monitoring_tool.html" TargetMode="External"/><Relationship Id="rId4" Type="http://schemas.openxmlformats.org/officeDocument/2006/relationships/hyperlink" Target="http://www.gaptimer.eu/gm2" TargetMode="Externa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066680"/>
            <a:ext cx="8153280" cy="38894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Visualisation of digital divid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굴림"/>
              </a:rPr>
              <a:t>in the wor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The Future of Information Society and Challenges for Good Govern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11</a:t>
            </a:r>
            <a:r>
              <a:rPr b="1" lang="en-US" sz="2000" spc="-1" strike="noStrike" baseline="30000">
                <a:solidFill>
                  <a:srgbClr val="ffcc66"/>
                </a:solidFill>
                <a:latin typeface="Arial"/>
                <a:ea typeface="굴림"/>
              </a:rPr>
              <a:t>th</a:t>
            </a:r>
            <a:r>
              <a:rPr b="1" lang="en-US" sz="2000" spc="-1" strike="noStrike">
                <a:solidFill>
                  <a:srgbClr val="ffcc66"/>
                </a:solidFill>
                <a:latin typeface="Arial"/>
                <a:ea typeface="굴림"/>
              </a:rPr>
              <a:t> Bled Forum on Euro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239840" y="5113440"/>
            <a:ext cx="656424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Member of Millennium Project Node Bled Forum on Euro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Verdana"/>
                <a:ea typeface="Times New Roman"/>
              </a:rPr>
              <a:t>pavle.sicherl@sicenter.si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477120" y="6400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600" spc="-1" strike="noStrike">
                <a:solidFill>
                  <a:srgbClr val="000000"/>
                </a:solidFill>
                <a:latin typeface="Arial"/>
              </a:rPr>
              <a:t>March 11,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5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enetration rate of Internet users in two dimensions: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in 2008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2008 level for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49680" y="2146320"/>
            <a:ext cx="280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ed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089240" y="5203800"/>
            <a:ext cx="313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1160" y="1495440"/>
            <a:ext cx="6945120" cy="44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1160" y="1495440"/>
            <a:ext cx="6945120" cy="4460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1160" y="1495440"/>
            <a:ext cx="1440" cy="446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39760" y="595620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39760" y="56386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39760" y="531972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39760" y="5000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39760" y="46832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9760" y="436248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39760" y="40449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139760" y="372600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39760" y="340668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39760" y="308916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39760" y="27687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39760" y="24512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39760" y="2131920"/>
            <a:ext cx="41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39760" y="181296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39760" y="1495440"/>
            <a:ext cx="41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27160" y="595620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27160" y="53197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27160" y="46832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27160" y="40449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127160" y="340668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127160" y="27687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27160" y="213192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27160" y="14954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81160" y="5956200"/>
            <a:ext cx="6945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118116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156672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95264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33856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272412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11148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9560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388152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426888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65444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V="1">
            <a:off x="503856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2592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81184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619596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58332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96924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735480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7740720" y="5956200"/>
            <a:ext cx="144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8126280" y="5956200"/>
            <a:ext cx="1800" cy="316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118116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156672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195264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233856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72412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311148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49560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388152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426888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465444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503856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V="1">
            <a:off x="542592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81184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V="1">
            <a:off x="619596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658332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696924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735480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740720" y="595584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8126280" y="595584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81160" y="1644480"/>
            <a:ext cx="6945120" cy="4294440"/>
          </a:xfrm>
          <a:custGeom>
            <a:avLst/>
            <a:gdLst/>
            <a:ahLst/>
            <a:rect l="l" t="t" r="r" b="b"/>
            <a:pathLst>
              <a:path w="4801" h="2968">
                <a:moveTo>
                  <a:pt x="0" y="2968"/>
                </a:moveTo>
                <a:lnTo>
                  <a:pt x="267" y="2959"/>
                </a:lnTo>
                <a:lnTo>
                  <a:pt x="533" y="2947"/>
                </a:lnTo>
                <a:lnTo>
                  <a:pt x="800" y="2935"/>
                </a:lnTo>
                <a:lnTo>
                  <a:pt x="1067" y="2888"/>
                </a:lnTo>
                <a:lnTo>
                  <a:pt x="1334" y="2808"/>
                </a:lnTo>
                <a:lnTo>
                  <a:pt x="1600" y="2666"/>
                </a:lnTo>
                <a:lnTo>
                  <a:pt x="1867" y="2492"/>
                </a:lnTo>
                <a:lnTo>
                  <a:pt x="2134" y="2251"/>
                </a:lnTo>
                <a:lnTo>
                  <a:pt x="2401" y="1964"/>
                </a:lnTo>
                <a:lnTo>
                  <a:pt x="2667" y="1667"/>
                </a:lnTo>
                <a:lnTo>
                  <a:pt x="2934" y="1421"/>
                </a:lnTo>
                <a:lnTo>
                  <a:pt x="3201" y="990"/>
                </a:lnTo>
                <a:lnTo>
                  <a:pt x="3467" y="823"/>
                </a:lnTo>
                <a:lnTo>
                  <a:pt x="3734" y="624"/>
                </a:lnTo>
                <a:lnTo>
                  <a:pt x="4001" y="461"/>
                </a:lnTo>
                <a:lnTo>
                  <a:pt x="4268" y="343"/>
                </a:lnTo>
                <a:lnTo>
                  <a:pt x="4534" y="146"/>
                </a:lnTo>
                <a:lnTo>
                  <a:pt x="4801" y="0"/>
                </a:lnTo>
              </a:path>
            </a:pathLst>
          </a:custGeom>
          <a:noFill/>
          <a:ln w="237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181160" y="4848120"/>
            <a:ext cx="6945120" cy="1108080"/>
          </a:xfrm>
          <a:custGeom>
            <a:avLst/>
            <a:gdLst/>
            <a:ahLst/>
            <a:rect l="l" t="t" r="r" b="b"/>
            <a:pathLst>
              <a:path w="4801" h="766">
                <a:moveTo>
                  <a:pt x="0" y="766"/>
                </a:moveTo>
                <a:lnTo>
                  <a:pt x="267" y="765"/>
                </a:lnTo>
                <a:lnTo>
                  <a:pt x="533" y="765"/>
                </a:lnTo>
                <a:lnTo>
                  <a:pt x="800" y="765"/>
                </a:lnTo>
                <a:lnTo>
                  <a:pt x="1067" y="765"/>
                </a:lnTo>
                <a:lnTo>
                  <a:pt x="1334" y="763"/>
                </a:lnTo>
                <a:lnTo>
                  <a:pt x="1600" y="760"/>
                </a:lnTo>
                <a:lnTo>
                  <a:pt x="1867" y="753"/>
                </a:lnTo>
                <a:lnTo>
                  <a:pt x="2134" y="739"/>
                </a:lnTo>
                <a:lnTo>
                  <a:pt x="2401" y="709"/>
                </a:lnTo>
                <a:lnTo>
                  <a:pt x="2667" y="658"/>
                </a:lnTo>
                <a:lnTo>
                  <a:pt x="2934" y="620"/>
                </a:lnTo>
                <a:lnTo>
                  <a:pt x="3201" y="543"/>
                </a:lnTo>
                <a:lnTo>
                  <a:pt x="3467" y="485"/>
                </a:lnTo>
                <a:lnTo>
                  <a:pt x="3734" y="425"/>
                </a:lnTo>
                <a:lnTo>
                  <a:pt x="4001" y="366"/>
                </a:lnTo>
                <a:lnTo>
                  <a:pt x="4268" y="290"/>
                </a:lnTo>
                <a:lnTo>
                  <a:pt x="4534" y="153"/>
                </a:lnTo>
                <a:lnTo>
                  <a:pt x="4801" y="0"/>
                </a:lnTo>
              </a:path>
            </a:pathLst>
          </a:custGeom>
          <a:noFill/>
          <a:ln w="237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138320" y="5896080"/>
            <a:ext cx="8388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525680" y="5883120"/>
            <a:ext cx="83880" cy="8424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52" y="0"/>
                </a:moveTo>
                <a:lnTo>
                  <a:pt x="105" y="53"/>
                </a:lnTo>
                <a:lnTo>
                  <a:pt x="52" y="105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909800" y="586584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297160" y="584820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682720" y="5780160"/>
            <a:ext cx="8424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068640" y="5664240"/>
            <a:ext cx="8424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2"/>
                </a:lnTo>
                <a:lnTo>
                  <a:pt x="53" y="105"/>
                </a:lnTo>
                <a:lnTo>
                  <a:pt x="0" y="52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454560" y="545940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40120" y="5207040"/>
            <a:ext cx="8424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226040" y="4859280"/>
            <a:ext cx="8388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611600" y="4443480"/>
            <a:ext cx="8424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997520" y="401472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83080" y="3659040"/>
            <a:ext cx="84240" cy="8280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770440" y="3035160"/>
            <a:ext cx="8280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54560" y="279396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540480" y="2505240"/>
            <a:ext cx="8424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927840" y="227016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13760" y="2098800"/>
            <a:ext cx="8388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697880" y="1814400"/>
            <a:ext cx="8388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085240" y="1603440"/>
            <a:ext cx="8244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38320" y="5915160"/>
            <a:ext cx="8388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525680" y="5913360"/>
            <a:ext cx="8388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09800" y="591336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297160" y="591336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682720" y="5913360"/>
            <a:ext cx="84240" cy="8424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068640" y="591012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454560" y="590544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40120" y="5896080"/>
            <a:ext cx="8424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3" y="0"/>
                </a:moveTo>
                <a:lnTo>
                  <a:pt x="105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26040" y="5875200"/>
            <a:ext cx="8388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3"/>
                </a:lnTo>
                <a:lnTo>
                  <a:pt x="53" y="105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611600" y="583236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997520" y="5759280"/>
            <a:ext cx="84240" cy="8280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383080" y="570384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770440" y="5592600"/>
            <a:ext cx="82800" cy="84240"/>
          </a:xfrm>
          <a:custGeom>
            <a:avLst/>
            <a:gdLst/>
            <a:ahLst/>
            <a:rect l="l" t="t" r="r" b="b"/>
            <a:pathLst>
              <a:path w="106" h="105">
                <a:moveTo>
                  <a:pt x="53" y="0"/>
                </a:moveTo>
                <a:lnTo>
                  <a:pt x="106" y="52"/>
                </a:lnTo>
                <a:lnTo>
                  <a:pt x="53" y="105"/>
                </a:lnTo>
                <a:lnTo>
                  <a:pt x="0" y="52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54560" y="5508720"/>
            <a:ext cx="8424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40480" y="5421240"/>
            <a:ext cx="84240" cy="8424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52" y="0"/>
                </a:moveTo>
                <a:lnTo>
                  <a:pt x="105" y="52"/>
                </a:lnTo>
                <a:lnTo>
                  <a:pt x="52" y="105"/>
                </a:lnTo>
                <a:lnTo>
                  <a:pt x="0" y="52"/>
                </a:lnTo>
                <a:lnTo>
                  <a:pt x="5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927840" y="533556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313760" y="5226120"/>
            <a:ext cx="83880" cy="84240"/>
          </a:xfrm>
          <a:custGeom>
            <a:avLst/>
            <a:gdLst/>
            <a:ahLst/>
            <a:rect l="l" t="t" r="r" b="b"/>
            <a:pathLst>
              <a:path w="105" h="105">
                <a:moveTo>
                  <a:pt x="53" y="0"/>
                </a:moveTo>
                <a:lnTo>
                  <a:pt x="105" y="52"/>
                </a:lnTo>
                <a:lnTo>
                  <a:pt x="53" y="105"/>
                </a:lnTo>
                <a:lnTo>
                  <a:pt x="0" y="52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697880" y="5027760"/>
            <a:ext cx="83880" cy="83880"/>
          </a:xfrm>
          <a:custGeom>
            <a:avLst/>
            <a:gdLst/>
            <a:ahLst/>
            <a:rect l="l" t="t" r="r" b="b"/>
            <a:pathLst>
              <a:path w="105" h="106">
                <a:moveTo>
                  <a:pt x="52" y="0"/>
                </a:moveTo>
                <a:lnTo>
                  <a:pt x="105" y="53"/>
                </a:lnTo>
                <a:lnTo>
                  <a:pt x="52" y="106"/>
                </a:lnTo>
                <a:lnTo>
                  <a:pt x="0" y="53"/>
                </a:lnTo>
                <a:lnTo>
                  <a:pt x="52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085240" y="4807080"/>
            <a:ext cx="82440" cy="8388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955800" y="58579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62200" y="52196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62200" y="45831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62200" y="39448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62200" y="3306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862200" y="266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62200" y="20318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62200" y="139536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03320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191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8046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19060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761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9635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34764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37335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1209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50684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8909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27832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6638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4800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4353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8212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20684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59276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978680" y="6075360"/>
            <a:ext cx="311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456440" y="6315120"/>
            <a:ext cx="384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-897840" y="3492000"/>
            <a:ext cx="290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net users per 100 inhabitan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511440" y="6558120"/>
            <a:ext cx="2276640" cy="215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559320" y="6664320"/>
            <a:ext cx="264960" cy="144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649680" y="6621480"/>
            <a:ext cx="824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ff00ff"/>
          </a:solidFill>
          <a:ln w="11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59200" y="6586560"/>
            <a:ext cx="707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660920" y="6664320"/>
            <a:ext cx="263520" cy="144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749840" y="6621480"/>
            <a:ext cx="84240" cy="84240"/>
          </a:xfrm>
          <a:custGeom>
            <a:avLst/>
            <a:gdLst/>
            <a:ahLst/>
            <a:rect l="l" t="t" r="r" b="b"/>
            <a:pathLst>
              <a:path w="106" h="106">
                <a:moveTo>
                  <a:pt x="53" y="0"/>
                </a:moveTo>
                <a:lnTo>
                  <a:pt x="106" y="53"/>
                </a:lnTo>
                <a:lnTo>
                  <a:pt x="53" y="106"/>
                </a:lnTo>
                <a:lnTo>
                  <a:pt x="0" y="53"/>
                </a:lnTo>
                <a:lnTo>
                  <a:pt x="53" y="0"/>
                </a:lnTo>
                <a:close/>
              </a:path>
            </a:pathLst>
          </a:custGeom>
          <a:solidFill>
            <a:srgbClr val="000080"/>
          </a:solidFill>
          <a:ln w="11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59000" y="6586560"/>
            <a:ext cx="755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velop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03800" y="4764240"/>
            <a:ext cx="3808440" cy="144360"/>
          </a:xfrm>
          <a:custGeom>
            <a:avLst/>
            <a:gdLst/>
            <a:ahLst/>
            <a:rect l="l" t="t" r="r" b="b"/>
            <a:pathLst>
              <a:path w="4797" h="183">
                <a:moveTo>
                  <a:pt x="4797" y="121"/>
                </a:moveTo>
                <a:lnTo>
                  <a:pt x="151" y="121"/>
                </a:lnTo>
                <a:lnTo>
                  <a:pt x="151" y="61"/>
                </a:lnTo>
                <a:lnTo>
                  <a:pt x="4797" y="61"/>
                </a:lnTo>
                <a:lnTo>
                  <a:pt x="4797" y="121"/>
                </a:lnTo>
                <a:close/>
                <a:moveTo>
                  <a:pt x="182" y="183"/>
                </a:moveTo>
                <a:lnTo>
                  <a:pt x="0" y="92"/>
                </a:lnTo>
                <a:lnTo>
                  <a:pt x="182" y="0"/>
                </a:lnTo>
                <a:lnTo>
                  <a:pt x="182" y="183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039160" y="1646280"/>
            <a:ext cx="144360" cy="3189240"/>
          </a:xfrm>
          <a:custGeom>
            <a:avLst/>
            <a:gdLst/>
            <a:ahLst/>
            <a:rect l="l" t="t" r="r" b="b"/>
            <a:pathLst>
              <a:path w="182" h="4019">
                <a:moveTo>
                  <a:pt x="60" y="4019"/>
                </a:moveTo>
                <a:lnTo>
                  <a:pt x="60" y="152"/>
                </a:lnTo>
                <a:lnTo>
                  <a:pt x="120" y="152"/>
                </a:lnTo>
                <a:lnTo>
                  <a:pt x="120" y="4019"/>
                </a:lnTo>
                <a:lnTo>
                  <a:pt x="60" y="4019"/>
                </a:lnTo>
                <a:close/>
                <a:moveTo>
                  <a:pt x="0" y="183"/>
                </a:moveTo>
                <a:lnTo>
                  <a:pt x="91" y="0"/>
                </a:lnTo>
                <a:lnTo>
                  <a:pt x="182" y="183"/>
                </a:lnTo>
                <a:lnTo>
                  <a:pt x="0" y="183"/>
                </a:lnTo>
                <a:close/>
              </a:path>
            </a:pathLst>
          </a:custGeom>
          <a:solidFill>
            <a:srgbClr val="00ff00"/>
          </a:solidFill>
          <a:ln w="1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238000" y="4597560"/>
            <a:ext cx="197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-time-distance 9.8 year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75600" y="3656160"/>
            <a:ext cx="4762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ex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74520" y="38671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8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01200" y="6607080"/>
            <a:ext cx="2501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ITU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"/>
          <p:cNvGrpSpPr/>
          <p:nvPr/>
        </p:nvGrpSpPr>
        <p:grpSpPr>
          <a:xfrm>
            <a:off x="474840" y="1336680"/>
            <a:ext cx="7345080" cy="4336920"/>
            <a:chOff x="474840" y="1336680"/>
            <a:chExt cx="7345080" cy="4336920"/>
          </a:xfrm>
        </p:grpSpPr>
        <p:sp>
          <p:nvSpPr>
            <p:cNvPr id="445" name="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8184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369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146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9224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970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8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4840" y="1336680"/>
              <a:ext cx="7343640" cy="43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594480" y="1336680"/>
              <a:ext cx="876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594480" y="1357200"/>
              <a:ext cx="784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594480" y="1379520"/>
              <a:ext cx="779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594480" y="1400040"/>
              <a:ext cx="692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594480" y="1424160"/>
              <a:ext cx="677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594480" y="1444680"/>
              <a:ext cx="6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594480" y="1465200"/>
              <a:ext cx="622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594480" y="1487520"/>
              <a:ext cx="614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94480" y="1508040"/>
              <a:ext cx="61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594480" y="1530360"/>
              <a:ext cx="57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594480" y="1552680"/>
              <a:ext cx="550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594480" y="1574640"/>
              <a:ext cx="5284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594480" y="1595520"/>
              <a:ext cx="4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594480" y="1616040"/>
              <a:ext cx="384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594480" y="1638360"/>
              <a:ext cx="368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594480" y="1658880"/>
              <a:ext cx="357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6594480" y="1682640"/>
              <a:ext cx="325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594480" y="1703520"/>
              <a:ext cx="287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594480" y="1725480"/>
              <a:ext cx="243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594480" y="1746360"/>
              <a:ext cx="239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594480" y="1766880"/>
              <a:ext cx="21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594480" y="1789200"/>
              <a:ext cx="206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594480" y="1811160"/>
              <a:ext cx="182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594480" y="1833480"/>
              <a:ext cx="174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594480" y="1854360"/>
              <a:ext cx="1699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594480" y="1876320"/>
              <a:ext cx="1494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594480" y="1897200"/>
              <a:ext cx="142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94480" y="1917720"/>
              <a:ext cx="85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594480" y="1941480"/>
              <a:ext cx="82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594480" y="1962000"/>
              <a:ext cx="54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594480" y="1984320"/>
              <a:ext cx="44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594480" y="2004840"/>
              <a:ext cx="3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594480" y="2027160"/>
              <a:ext cx="2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588000" y="2070000"/>
              <a:ext cx="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6558120" y="2092320"/>
              <a:ext cx="36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550200" y="2112840"/>
              <a:ext cx="4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513480" y="2135160"/>
              <a:ext cx="81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6505560" y="2155680"/>
              <a:ext cx="8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481800" y="2178000"/>
              <a:ext cx="11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478560" y="2200320"/>
              <a:ext cx="11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450120" y="2220840"/>
              <a:ext cx="144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27800" y="2243160"/>
              <a:ext cx="166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415200" y="2263680"/>
              <a:ext cx="17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00800" y="2286000"/>
              <a:ext cx="19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73800" y="2306520"/>
              <a:ext cx="220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365880" y="2330280"/>
              <a:ext cx="228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364440" y="2351160"/>
              <a:ext cx="230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342120" y="2371680"/>
              <a:ext cx="252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324480" y="2394000"/>
              <a:ext cx="270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15120" y="2414520"/>
              <a:ext cx="279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269040" y="2436840"/>
              <a:ext cx="325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269040" y="2459160"/>
              <a:ext cx="325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234120" y="2481120"/>
              <a:ext cx="3603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130800" y="2502000"/>
              <a:ext cx="46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080040" y="2522520"/>
              <a:ext cx="514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067440" y="2544840"/>
              <a:ext cx="527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40360" y="2565360"/>
              <a:ext cx="654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925960" y="2589120"/>
              <a:ext cx="6685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916600" y="2610000"/>
              <a:ext cx="677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872320" y="2631960"/>
              <a:ext cx="7221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853240" y="2652840"/>
              <a:ext cx="741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37400" y="2673360"/>
              <a:ext cx="75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00680" y="2695680"/>
              <a:ext cx="793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776920" y="2717640"/>
              <a:ext cx="81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773680" y="2739960"/>
              <a:ext cx="820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769000" y="2760840"/>
              <a:ext cx="825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719680" y="2782800"/>
              <a:ext cx="8748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632560" y="2803680"/>
              <a:ext cx="961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349960" y="2824200"/>
              <a:ext cx="1244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321160" y="2846520"/>
              <a:ext cx="12733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316480" y="2868480"/>
              <a:ext cx="127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308560" y="2890800"/>
              <a:ext cx="1285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99200" y="2911320"/>
              <a:ext cx="129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280120" y="2933640"/>
              <a:ext cx="131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76880" y="2954160"/>
              <a:ext cx="1317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245200" y="2975040"/>
              <a:ext cx="134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27560" y="2998800"/>
              <a:ext cx="1366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26120" y="3019320"/>
              <a:ext cx="1368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07040" y="3041640"/>
              <a:ext cx="1387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03800" y="3062160"/>
              <a:ext cx="1390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170320" y="3084480"/>
              <a:ext cx="1424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146560" y="3105000"/>
              <a:ext cx="1447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127480" y="3127320"/>
              <a:ext cx="146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099040" y="3149640"/>
              <a:ext cx="1495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062680" y="3170160"/>
              <a:ext cx="1531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059440" y="3192480"/>
              <a:ext cx="1535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054760" y="3213000"/>
              <a:ext cx="153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37120" y="3235320"/>
              <a:ext cx="1557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05440" y="3257640"/>
              <a:ext cx="158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987800" y="3278160"/>
              <a:ext cx="1606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986360" y="3300480"/>
              <a:ext cx="160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883040" y="3321000"/>
              <a:ext cx="1711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883040" y="3343320"/>
              <a:ext cx="1711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873680" y="3363840"/>
              <a:ext cx="1720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856040" y="3387600"/>
              <a:ext cx="1738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21120" y="3408480"/>
              <a:ext cx="1773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807080" y="3429000"/>
              <a:ext cx="1787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91240" y="3451320"/>
              <a:ext cx="180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72160" y="3471840"/>
              <a:ext cx="182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759200" y="3494160"/>
              <a:ext cx="183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53080" y="3516480"/>
              <a:ext cx="1841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51280" y="3538440"/>
              <a:ext cx="18432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735440" y="3559320"/>
              <a:ext cx="18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722840" y="3579840"/>
              <a:ext cx="1871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659480" y="3602160"/>
              <a:ext cx="1935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654440" y="3622680"/>
              <a:ext cx="194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48320" y="3646440"/>
              <a:ext cx="1946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622760" y="366696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610160" y="3689280"/>
              <a:ext cx="19843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10160" y="3710160"/>
              <a:ext cx="1984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94320" y="3730680"/>
              <a:ext cx="2000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591080" y="3753000"/>
              <a:ext cx="2003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557600" y="3774960"/>
              <a:ext cx="2036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545000" y="3797280"/>
              <a:ext cx="20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518000" y="3817800"/>
              <a:ext cx="207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508640" y="3840120"/>
              <a:ext cx="2085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460760" y="3860640"/>
              <a:ext cx="2133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11800" y="3882960"/>
              <a:ext cx="2182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05320" y="3905280"/>
              <a:ext cx="2189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97400" y="3925800"/>
              <a:ext cx="2197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392720" y="3948120"/>
              <a:ext cx="2201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68960" y="3968640"/>
              <a:ext cx="2225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344840" y="3990960"/>
              <a:ext cx="2249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35480" y="4011480"/>
              <a:ext cx="225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316400" y="4033800"/>
              <a:ext cx="2278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0560" y="4056120"/>
              <a:ext cx="2293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292640" y="4076640"/>
              <a:ext cx="2301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275000" y="4098960"/>
              <a:ext cx="231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41880" y="4119480"/>
              <a:ext cx="2352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8640" y="4141800"/>
              <a:ext cx="2355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35400" y="4164120"/>
              <a:ext cx="2359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224240" y="4184640"/>
              <a:ext cx="2370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219560" y="4206960"/>
              <a:ext cx="2374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18120" y="4227480"/>
              <a:ext cx="237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214880" y="4249800"/>
              <a:ext cx="23796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210200" y="4270320"/>
              <a:ext cx="238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197240" y="4292640"/>
              <a:ext cx="2397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67360" y="4314960"/>
              <a:ext cx="242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149720" y="4335480"/>
              <a:ext cx="2444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94280" y="4357800"/>
              <a:ext cx="250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043520" y="4378320"/>
              <a:ext cx="2550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038480" y="4400640"/>
              <a:ext cx="2556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38480" y="4421160"/>
              <a:ext cx="2556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992400" y="4444920"/>
              <a:ext cx="26020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979800" y="4465800"/>
              <a:ext cx="2614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948120" y="4486320"/>
              <a:ext cx="2646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943440" y="4508640"/>
              <a:ext cx="2651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919680" y="4529160"/>
              <a:ext cx="2674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906720" y="4551480"/>
              <a:ext cx="2687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848040" y="4573440"/>
              <a:ext cx="2746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43360" y="4595760"/>
              <a:ext cx="2751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819600" y="4616280"/>
              <a:ext cx="27748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94040" y="4637160"/>
              <a:ext cx="2800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87920" y="4659480"/>
              <a:ext cx="2806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772080" y="4680000"/>
              <a:ext cx="282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741840" y="4703760"/>
              <a:ext cx="2852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35360" y="4724280"/>
              <a:ext cx="2859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735360" y="4746600"/>
              <a:ext cx="285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95760" y="4767120"/>
              <a:ext cx="2898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695760" y="4789440"/>
              <a:ext cx="2898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686040" y="4809960"/>
              <a:ext cx="290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683160" y="4832280"/>
              <a:ext cx="2911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662280" y="4854600"/>
              <a:ext cx="2932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651120" y="4875120"/>
              <a:ext cx="2943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645000" y="4897440"/>
              <a:ext cx="2949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638520" y="4917960"/>
              <a:ext cx="2955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605040" y="4940280"/>
              <a:ext cx="2989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3605040" y="4962600"/>
              <a:ext cx="2989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578400" y="4983120"/>
              <a:ext cx="301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546360" y="5005440"/>
              <a:ext cx="3048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527280" y="5025960"/>
              <a:ext cx="3067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465360" y="5048280"/>
              <a:ext cx="312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322800" y="5068800"/>
              <a:ext cx="327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303720" y="5091120"/>
              <a:ext cx="3290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290760" y="5113440"/>
              <a:ext cx="3303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252960" y="5133960"/>
              <a:ext cx="3341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203640" y="5156280"/>
              <a:ext cx="3390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197160" y="5176800"/>
              <a:ext cx="3397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181320" y="5199120"/>
              <a:ext cx="3413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54320" y="5221440"/>
              <a:ext cx="3440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125880" y="5241960"/>
              <a:ext cx="3468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121200" y="5264280"/>
              <a:ext cx="3473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92400" y="5284800"/>
              <a:ext cx="3502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081240" y="5307120"/>
              <a:ext cx="351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035160" y="5327640"/>
              <a:ext cx="3559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013200" y="5351400"/>
              <a:ext cx="3581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2935440" y="5372280"/>
              <a:ext cx="3659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2932200" y="5392800"/>
              <a:ext cx="3662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924280" y="5415120"/>
              <a:ext cx="367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40160" y="5435640"/>
              <a:ext cx="4054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386080" y="5457960"/>
              <a:ext cx="4208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301840" y="5479920"/>
              <a:ext cx="4292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5" name=""/>
          <p:cNvSpPr/>
          <p:nvPr/>
        </p:nvSpPr>
        <p:spPr>
          <a:xfrm>
            <a:off x="1909800" y="5502240"/>
            <a:ext cx="46846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1830240" y="5522760"/>
            <a:ext cx="476424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709640" y="5545080"/>
            <a:ext cx="488484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649520" y="5565600"/>
            <a:ext cx="494496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82840" y="5586480"/>
            <a:ext cx="51116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316160" y="5610240"/>
            <a:ext cx="527832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1049400" y="5630760"/>
            <a:ext cx="554508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92000" y="5653080"/>
            <a:ext cx="58024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74840" y="5673600"/>
            <a:ext cx="7343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 flipV="1">
            <a:off x="7818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 flipV="1">
            <a:off x="65944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 flipV="1">
            <a:off x="5369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 flipV="1">
            <a:off x="4146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flipV="1">
            <a:off x="29224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 flipV="1">
            <a:off x="16970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 flipV="1">
            <a:off x="4748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6594480" y="1336680"/>
            <a:ext cx="1440" cy="433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613080" y="554040"/>
            <a:ext cx="7768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ime-distance view of 200 countries: how many years earlier the level of cellul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663120" y="825480"/>
            <a:ext cx="7573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hones per 100 inhabitants for a given country in 2008 was attained in Sw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751160" y="580716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6552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532836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40608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837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613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916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889760" y="1292400"/>
            <a:ext cx="741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ong Kong Ch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888680" y="1379520"/>
            <a:ext cx="532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uxembourg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886880" y="1465200"/>
            <a:ext cx="25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rub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7888320" y="15508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7887600" y="163836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rbado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887960" y="172404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888680" y="1809720"/>
            <a:ext cx="311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887600" y="189720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7890120" y="1982880"/>
            <a:ext cx="70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FYR Macedo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887240" y="20685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887600" y="215568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7891200" y="2241720"/>
            <a:ext cx="77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887240" y="23288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7889400" y="241452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887240" y="2500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892640" y="258768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893720" y="267336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887240" y="275904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889400" y="2846520"/>
            <a:ext cx="80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unei Darussa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887600" y="2933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7888320" y="301788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7887600" y="3105000"/>
            <a:ext cx="21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7887240" y="31924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7889760" y="3278160"/>
            <a:ext cx="390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uriti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7887240" y="336384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7888320" y="34513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7888320" y="353700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7888320" y="36226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7886880" y="370836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7887240" y="379584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7887240" y="388296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7888320" y="3967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891560" y="4054320"/>
            <a:ext cx="75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7887600" y="4141800"/>
            <a:ext cx="27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7887960" y="422604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7887600" y="431316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887600" y="440064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887960" y="448632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886880" y="457200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889760" y="46594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7888320" y="47451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7887960" y="483084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7887240" y="4917960"/>
            <a:ext cx="268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d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7887600" y="500364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7888680" y="5091120"/>
            <a:ext cx="53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7887960" y="517680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7889040" y="52624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7890840" y="5349960"/>
            <a:ext cx="79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7887600" y="543564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7890480" y="552132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887960" y="560880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40760" y="6121440"/>
            <a:ext cx="4403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in years: - time lead, + time lag from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0120" y="3443400"/>
            <a:ext cx="3089520" cy="75960"/>
          </a:xfrm>
          <a:custGeom>
            <a:avLst/>
            <a:gdLst/>
            <a:ahLst/>
            <a:rect l="l" t="t" r="r" b="b"/>
            <a:pathLst>
              <a:path w="3893" h="96">
                <a:moveTo>
                  <a:pt x="3885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4"/>
                </a:lnTo>
                <a:lnTo>
                  <a:pt x="73" y="42"/>
                </a:lnTo>
                <a:lnTo>
                  <a:pt x="77" y="41"/>
                </a:lnTo>
                <a:lnTo>
                  <a:pt x="79" y="41"/>
                </a:lnTo>
                <a:lnTo>
                  <a:pt x="3885" y="41"/>
                </a:lnTo>
                <a:lnTo>
                  <a:pt x="3887" y="41"/>
                </a:lnTo>
                <a:lnTo>
                  <a:pt x="3891" y="42"/>
                </a:lnTo>
                <a:lnTo>
                  <a:pt x="3891" y="44"/>
                </a:lnTo>
                <a:lnTo>
                  <a:pt x="3893" y="48"/>
                </a:lnTo>
                <a:lnTo>
                  <a:pt x="3891" y="50"/>
                </a:lnTo>
                <a:lnTo>
                  <a:pt x="3891" y="54"/>
                </a:lnTo>
                <a:lnTo>
                  <a:pt x="3887" y="54"/>
                </a:lnTo>
                <a:lnTo>
                  <a:pt x="3885" y="56"/>
                </a:lnTo>
                <a:lnTo>
                  <a:pt x="3885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835320" y="328284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02320" y="3506760"/>
            <a:ext cx="75960" cy="2247840"/>
          </a:xfrm>
          <a:custGeom>
            <a:avLst/>
            <a:gdLst/>
            <a:ahLst/>
            <a:rect l="l" t="t" r="r" b="b"/>
            <a:pathLst>
              <a:path w="96" h="2831">
                <a:moveTo>
                  <a:pt x="56" y="9"/>
                </a:moveTo>
                <a:lnTo>
                  <a:pt x="56" y="2750"/>
                </a:lnTo>
                <a:lnTo>
                  <a:pt x="54" y="2754"/>
                </a:lnTo>
                <a:lnTo>
                  <a:pt x="54" y="2756"/>
                </a:lnTo>
                <a:lnTo>
                  <a:pt x="50" y="2758"/>
                </a:lnTo>
                <a:lnTo>
                  <a:pt x="48" y="2758"/>
                </a:lnTo>
                <a:lnTo>
                  <a:pt x="44" y="2758"/>
                </a:lnTo>
                <a:lnTo>
                  <a:pt x="42" y="2756"/>
                </a:lnTo>
                <a:lnTo>
                  <a:pt x="40" y="2754"/>
                </a:lnTo>
                <a:lnTo>
                  <a:pt x="39" y="2750"/>
                </a:lnTo>
                <a:lnTo>
                  <a:pt x="39" y="9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6" y="9"/>
                </a:lnTo>
                <a:lnTo>
                  <a:pt x="56" y="9"/>
                </a:lnTo>
                <a:close/>
                <a:moveTo>
                  <a:pt x="96" y="2735"/>
                </a:moveTo>
                <a:lnTo>
                  <a:pt x="48" y="2831"/>
                </a:lnTo>
                <a:lnTo>
                  <a:pt x="0" y="2735"/>
                </a:lnTo>
                <a:lnTo>
                  <a:pt x="96" y="2735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356360" y="5796000"/>
            <a:ext cx="78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.5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4444920" y="5748480"/>
            <a:ext cx="795240" cy="2872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(ITU: Measuring the Information Society 2010, Genev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9" name=""/>
          <p:cNvGrpSpPr/>
          <p:nvPr/>
        </p:nvGrpSpPr>
        <p:grpSpPr>
          <a:xfrm>
            <a:off x="482760" y="1257480"/>
            <a:ext cx="7250040" cy="4506840"/>
            <a:chOff x="482760" y="1257480"/>
            <a:chExt cx="7250040" cy="4506840"/>
          </a:xfrm>
        </p:grpSpPr>
        <p:sp>
          <p:nvSpPr>
            <p:cNvPr id="730" name=""/>
            <p:cNvSpPr/>
            <p:nvPr/>
          </p:nvSpPr>
          <p:spPr>
            <a:xfrm>
              <a:off x="482760" y="1257480"/>
              <a:ext cx="7248240" cy="4506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731000" y="125748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31504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108320" y="125748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90052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169236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82760" y="125748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2760" y="1257480"/>
              <a:ext cx="7248240" cy="4506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523200" y="1257480"/>
              <a:ext cx="741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523200" y="1281240"/>
              <a:ext cx="645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523200" y="1303200"/>
              <a:ext cx="6188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442120" y="1351080"/>
              <a:ext cx="1081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07200" y="1373040"/>
              <a:ext cx="1116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356080" y="1395360"/>
              <a:ext cx="11671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297400" y="1420920"/>
              <a:ext cx="1225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80120" y="1442880"/>
              <a:ext cx="12430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5273640" y="1467000"/>
              <a:ext cx="12495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256360" y="1488960"/>
              <a:ext cx="126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235480" y="1512720"/>
              <a:ext cx="12877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210280" y="1536840"/>
              <a:ext cx="13129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189400" y="1558800"/>
              <a:ext cx="133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5148360" y="1582560"/>
              <a:ext cx="13748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111640" y="1606680"/>
              <a:ext cx="14115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068800" y="1628640"/>
              <a:ext cx="14544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62680" y="1652760"/>
              <a:ext cx="14605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059440" y="1674720"/>
              <a:ext cx="1463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51520" y="1698480"/>
              <a:ext cx="14716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49720" y="1722600"/>
              <a:ext cx="1473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018040" y="1744560"/>
              <a:ext cx="1505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008680" y="1768320"/>
              <a:ext cx="1514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005440" y="1792440"/>
              <a:ext cx="1517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000760" y="1814400"/>
              <a:ext cx="1522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984920" y="1838160"/>
              <a:ext cx="153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983120" y="1860480"/>
              <a:ext cx="1540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971960" y="1886040"/>
              <a:ext cx="1551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967280" y="1908000"/>
              <a:ext cx="1555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43520" y="1930320"/>
              <a:ext cx="1579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929120" y="1954080"/>
              <a:ext cx="15940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923000" y="1978200"/>
              <a:ext cx="16002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17960" y="2000160"/>
              <a:ext cx="1605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897440" y="2023920"/>
              <a:ext cx="1625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894200" y="2046240"/>
              <a:ext cx="162900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875120" y="2071800"/>
              <a:ext cx="1648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873680" y="2093760"/>
              <a:ext cx="1649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853160" y="2116080"/>
              <a:ext cx="167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835520" y="2139840"/>
              <a:ext cx="1687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818240" y="2163600"/>
              <a:ext cx="1704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809960" y="2187720"/>
              <a:ext cx="1713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95920" y="2209680"/>
              <a:ext cx="1727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4735440" y="2232000"/>
              <a:ext cx="17877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730760" y="2257560"/>
              <a:ext cx="1792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719600" y="2279520"/>
              <a:ext cx="18036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719600" y="2303640"/>
              <a:ext cx="18036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711680" y="2325600"/>
              <a:ext cx="1811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621320" y="2349360"/>
              <a:ext cx="19018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611600" y="2373480"/>
              <a:ext cx="19116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562640" y="2395440"/>
              <a:ext cx="1960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4495680" y="2417760"/>
              <a:ext cx="20275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435560" y="2443320"/>
              <a:ext cx="20876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386240" y="2465280"/>
              <a:ext cx="2136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4368960" y="2489040"/>
              <a:ext cx="2154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307040" y="2511360"/>
              <a:ext cx="2216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287960" y="2535120"/>
              <a:ext cx="2235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253040" y="2558880"/>
              <a:ext cx="2270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46560" y="2581200"/>
              <a:ext cx="2276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246560" y="2604960"/>
              <a:ext cx="22766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237200" y="2629080"/>
              <a:ext cx="2286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170240" y="2651040"/>
              <a:ext cx="2352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157640" y="2674800"/>
              <a:ext cx="236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46480" y="2697120"/>
              <a:ext cx="2376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125960" y="2720880"/>
              <a:ext cx="2397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121280" y="2744640"/>
              <a:ext cx="2401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00400" y="2766960"/>
              <a:ext cx="2422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087800" y="2790720"/>
              <a:ext cx="243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084560" y="2814480"/>
              <a:ext cx="2438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083120" y="2836800"/>
              <a:ext cx="2440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079880" y="2860560"/>
              <a:ext cx="2443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060800" y="2882880"/>
              <a:ext cx="246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056120" y="2906640"/>
              <a:ext cx="2467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46400" y="2930400"/>
              <a:ext cx="2476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4720" y="2952720"/>
              <a:ext cx="250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94200" y="2976480"/>
              <a:ext cx="2529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994200" y="3000240"/>
              <a:ext cx="252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986280" y="3022560"/>
              <a:ext cx="2536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973680" y="3046320"/>
              <a:ext cx="2549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60720" y="3068640"/>
              <a:ext cx="25624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56040" y="3094200"/>
              <a:ext cx="2567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16440" y="3116160"/>
              <a:ext cx="2606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908520" y="3138480"/>
              <a:ext cx="2614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906720" y="3162240"/>
              <a:ext cx="2616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94120" y="3186000"/>
              <a:ext cx="2629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3890880" y="3209760"/>
              <a:ext cx="263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886200" y="3232080"/>
              <a:ext cx="263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3873600" y="3254400"/>
              <a:ext cx="26496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873600" y="3279600"/>
              <a:ext cx="2649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862440" y="3301920"/>
              <a:ext cx="2660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852720" y="3324240"/>
              <a:ext cx="267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852720" y="3348000"/>
              <a:ext cx="267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846600" y="3371760"/>
              <a:ext cx="2676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1920" y="3395520"/>
              <a:ext cx="268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841920" y="3417840"/>
              <a:ext cx="268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27520" y="3440160"/>
              <a:ext cx="26956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821040" y="3465360"/>
              <a:ext cx="2702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816360" y="3487680"/>
              <a:ext cx="270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814920" y="3511440"/>
              <a:ext cx="270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805200" y="3533760"/>
              <a:ext cx="271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790800" y="3556080"/>
              <a:ext cx="27324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751200" y="3581280"/>
              <a:ext cx="277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751200" y="3603600"/>
              <a:ext cx="277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38600" y="3625920"/>
              <a:ext cx="2784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730680" y="3649680"/>
              <a:ext cx="2792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728880" y="3673440"/>
              <a:ext cx="2794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22760" y="3697200"/>
              <a:ext cx="2800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705120" y="3719520"/>
              <a:ext cx="2818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700440" y="3741840"/>
              <a:ext cx="282276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689280" y="3767040"/>
              <a:ext cx="2833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681360" y="3789360"/>
              <a:ext cx="2841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76680" y="3813120"/>
              <a:ext cx="2846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676680" y="3835440"/>
              <a:ext cx="2846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3662280" y="3859200"/>
              <a:ext cx="2860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59040" y="3882960"/>
              <a:ext cx="2864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656160" y="3905280"/>
              <a:ext cx="2867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652920" y="3927600"/>
              <a:ext cx="2870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652920" y="3952800"/>
              <a:ext cx="2870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648240" y="3975120"/>
              <a:ext cx="2874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648240" y="3998880"/>
              <a:ext cx="2874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3646440" y="4021200"/>
              <a:ext cx="287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46440" y="4044960"/>
              <a:ext cx="287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639960" y="4068720"/>
              <a:ext cx="288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635280" y="4091040"/>
              <a:ext cx="2887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625920" y="4114800"/>
              <a:ext cx="2897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622680" y="4138560"/>
              <a:ext cx="2900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14760" y="4160880"/>
              <a:ext cx="290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611520" y="4184640"/>
              <a:ext cx="291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602160" y="4206960"/>
              <a:ext cx="2921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600360" y="4230720"/>
              <a:ext cx="2922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97120" y="4254480"/>
              <a:ext cx="292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587760" y="4276800"/>
              <a:ext cx="2935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581280" y="4300560"/>
              <a:ext cx="2941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76600" y="4324320"/>
              <a:ext cx="2946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565440" y="4346640"/>
              <a:ext cx="2957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552840" y="4370400"/>
              <a:ext cx="2970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27280" y="4392720"/>
              <a:ext cx="29959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514680" y="4417920"/>
              <a:ext cx="300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511440" y="4440240"/>
              <a:ext cx="3011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495600" y="4462560"/>
              <a:ext cx="3027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490920" y="4486320"/>
              <a:ext cx="3032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449520" y="4510080"/>
              <a:ext cx="307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435480" y="4532400"/>
              <a:ext cx="3087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425760" y="4556160"/>
              <a:ext cx="309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421080" y="4578480"/>
              <a:ext cx="31021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413160" y="4603680"/>
              <a:ext cx="3110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408480" y="4626000"/>
              <a:ext cx="3114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400560" y="4648320"/>
              <a:ext cx="3122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397320" y="4672080"/>
              <a:ext cx="3125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332160" y="4695840"/>
              <a:ext cx="3191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328920" y="4719600"/>
              <a:ext cx="3194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67000" y="4741920"/>
              <a:ext cx="3256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63760" y="4764240"/>
              <a:ext cx="32594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46480" y="4789440"/>
              <a:ext cx="3276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44680" y="4811760"/>
              <a:ext cx="327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184560" y="4834080"/>
              <a:ext cx="3338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165480" y="4857840"/>
              <a:ext cx="3357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43160" y="4881600"/>
              <a:ext cx="338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11480" y="4905360"/>
              <a:ext cx="341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094200" y="4927680"/>
              <a:ext cx="342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90960" y="4950000"/>
              <a:ext cx="34322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087720" y="4975200"/>
              <a:ext cx="3435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073320" y="4997520"/>
              <a:ext cx="3449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054240" y="5021280"/>
              <a:ext cx="3468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987640" y="5043600"/>
              <a:ext cx="35355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57400" y="5067360"/>
              <a:ext cx="3565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952720" y="5091120"/>
              <a:ext cx="3570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17800" y="5113440"/>
              <a:ext cx="3605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13120" y="5135400"/>
              <a:ext cx="3610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911320" y="5160960"/>
              <a:ext cx="3611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908440" y="5183280"/>
              <a:ext cx="3614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822400" y="5207040"/>
              <a:ext cx="3700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813040" y="5229360"/>
              <a:ext cx="3710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722680" y="5253120"/>
              <a:ext cx="3800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614680" y="5276880"/>
              <a:ext cx="390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606760" y="5299200"/>
              <a:ext cx="3916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595600" y="5322960"/>
              <a:ext cx="3927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595600" y="5346720"/>
              <a:ext cx="3927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544840" y="5369040"/>
              <a:ext cx="3978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459160" y="5392800"/>
              <a:ext cx="4064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438280" y="5415120"/>
              <a:ext cx="4084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398680" y="5438880"/>
              <a:ext cx="4124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340000" y="5462640"/>
              <a:ext cx="4183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319480" y="5484960"/>
              <a:ext cx="4203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317680" y="5508720"/>
              <a:ext cx="4205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317680" y="5532480"/>
              <a:ext cx="4205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70160" y="5554800"/>
              <a:ext cx="4253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74760" y="557856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74760" y="5600880"/>
              <a:ext cx="43484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74760" y="562608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74760" y="564840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74760" y="5670720"/>
              <a:ext cx="434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74760" y="5694480"/>
              <a:ext cx="434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74760" y="5718240"/>
              <a:ext cx="434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>
            <a:off x="2174760" y="5740560"/>
            <a:ext cx="43484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482760" y="5764320"/>
            <a:ext cx="72482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7731000" y="57643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652320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531504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4108320" y="5764320"/>
            <a:ext cx="180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290052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69236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482760" y="5764320"/>
            <a:ext cx="1440" cy="475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523200" y="1257480"/>
            <a:ext cx="1440" cy="4506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01360" y="719280"/>
            <a:ext cx="7315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-time-distances from Sweden for Internet users per 100 inhabitants in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663680" y="5896080"/>
            <a:ext cx="136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479280" y="589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5271120" y="58960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02120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281304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160524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397080" y="589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7822800" y="119844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7821720" y="131436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7821000" y="1430280"/>
            <a:ext cx="7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roe Is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7822080" y="154620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7821720" y="166212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7822080" y="17780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7822440" y="189396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7821720" y="20098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7822080" y="21272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7822080" y="2243160"/>
            <a:ext cx="230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ta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7822080" y="235908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7821720" y="247500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7822080" y="259092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7822080" y="27082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7822800" y="2824200"/>
            <a:ext cx="37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7822080" y="294012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7821000" y="3056040"/>
            <a:ext cx="86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n 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822080" y="31719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7821720" y="328788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7822080" y="340344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7822440" y="351936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7822080" y="363708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821000" y="375300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821720" y="38685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7822440" y="3984480"/>
            <a:ext cx="24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7821360" y="410220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7822080" y="421812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7822080" y="433404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7822440" y="444960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7821720" y="456732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7822440" y="46832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7822080" y="47973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7822440" y="49132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it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7822440" y="502920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7821720" y="51465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7822080" y="526248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7821720" y="53784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7822440" y="549432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7822800" y="5611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ig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2463840" y="6151680"/>
            <a:ext cx="3324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514440" y="5584680"/>
            <a:ext cx="163188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514440" y="5584680"/>
            <a:ext cx="1631880" cy="1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581760" y="5591160"/>
            <a:ext cx="1503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8 countries more than 18 yea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617720" y="35193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3782880" y="3494160"/>
            <a:ext cx="76320" cy="2367000"/>
          </a:xfrm>
          <a:custGeom>
            <a:avLst/>
            <a:gdLst/>
            <a:ahLst/>
            <a:rect l="l" t="t" r="r" b="b"/>
            <a:pathLst>
              <a:path w="96" h="2983">
                <a:moveTo>
                  <a:pt x="55" y="10"/>
                </a:moveTo>
                <a:lnTo>
                  <a:pt x="55" y="2902"/>
                </a:lnTo>
                <a:lnTo>
                  <a:pt x="53" y="2906"/>
                </a:lnTo>
                <a:lnTo>
                  <a:pt x="53" y="2908"/>
                </a:lnTo>
                <a:lnTo>
                  <a:pt x="50" y="2910"/>
                </a:lnTo>
                <a:lnTo>
                  <a:pt x="48" y="2910"/>
                </a:lnTo>
                <a:lnTo>
                  <a:pt x="44" y="2910"/>
                </a:lnTo>
                <a:lnTo>
                  <a:pt x="42" y="2908"/>
                </a:lnTo>
                <a:lnTo>
                  <a:pt x="40" y="2906"/>
                </a:lnTo>
                <a:lnTo>
                  <a:pt x="38" y="2902"/>
                </a:lnTo>
                <a:lnTo>
                  <a:pt x="38" y="10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3" y="4"/>
                </a:lnTo>
                <a:lnTo>
                  <a:pt x="53" y="6"/>
                </a:lnTo>
                <a:lnTo>
                  <a:pt x="55" y="10"/>
                </a:lnTo>
                <a:lnTo>
                  <a:pt x="55" y="10"/>
                </a:lnTo>
                <a:close/>
                <a:moveTo>
                  <a:pt x="96" y="2887"/>
                </a:moveTo>
                <a:lnTo>
                  <a:pt x="48" y="2983"/>
                </a:lnTo>
                <a:lnTo>
                  <a:pt x="0" y="2887"/>
                </a:lnTo>
                <a:lnTo>
                  <a:pt x="96" y="2887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3410280" y="5911920"/>
            <a:ext cx="610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.2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21040" y="3463920"/>
            <a:ext cx="3946680" cy="76320"/>
          </a:xfrm>
          <a:custGeom>
            <a:avLst/>
            <a:gdLst/>
            <a:ahLst/>
            <a:rect l="l" t="t" r="r" b="b"/>
            <a:pathLst>
              <a:path w="4971" h="96">
                <a:moveTo>
                  <a:pt x="78" y="40"/>
                </a:moveTo>
                <a:lnTo>
                  <a:pt x="4964" y="40"/>
                </a:lnTo>
                <a:lnTo>
                  <a:pt x="4965" y="40"/>
                </a:lnTo>
                <a:lnTo>
                  <a:pt x="4969" y="42"/>
                </a:lnTo>
                <a:lnTo>
                  <a:pt x="4969" y="44"/>
                </a:lnTo>
                <a:lnTo>
                  <a:pt x="4971" y="48"/>
                </a:lnTo>
                <a:lnTo>
                  <a:pt x="4969" y="49"/>
                </a:lnTo>
                <a:lnTo>
                  <a:pt x="4969" y="53"/>
                </a:lnTo>
                <a:lnTo>
                  <a:pt x="4965" y="53"/>
                </a:lnTo>
                <a:lnTo>
                  <a:pt x="4964" y="55"/>
                </a:lnTo>
                <a:lnTo>
                  <a:pt x="78" y="55"/>
                </a:lnTo>
                <a:lnTo>
                  <a:pt x="76" y="53"/>
                </a:lnTo>
                <a:lnTo>
                  <a:pt x="73" y="53"/>
                </a:lnTo>
                <a:lnTo>
                  <a:pt x="71" y="49"/>
                </a:lnTo>
                <a:lnTo>
                  <a:pt x="71" y="48"/>
                </a:lnTo>
                <a:lnTo>
                  <a:pt x="71" y="44"/>
                </a:lnTo>
                <a:lnTo>
                  <a:pt x="73" y="42"/>
                </a:lnTo>
                <a:lnTo>
                  <a:pt x="76" y="40"/>
                </a:lnTo>
                <a:lnTo>
                  <a:pt x="78" y="40"/>
                </a:lnTo>
                <a:lnTo>
                  <a:pt x="78" y="40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6802920" y="3306600"/>
            <a:ext cx="53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3335400" y="5862600"/>
            <a:ext cx="717480" cy="2872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7" name=""/>
          <p:cNvGrpSpPr/>
          <p:nvPr/>
        </p:nvGrpSpPr>
        <p:grpSpPr>
          <a:xfrm>
            <a:off x="460440" y="1243080"/>
            <a:ext cx="7556400" cy="4478400"/>
            <a:chOff x="460440" y="1243080"/>
            <a:chExt cx="7556400" cy="4478400"/>
          </a:xfrm>
        </p:grpSpPr>
        <p:sp>
          <p:nvSpPr>
            <p:cNvPr id="998" name=""/>
            <p:cNvSpPr/>
            <p:nvPr/>
          </p:nvSpPr>
          <p:spPr>
            <a:xfrm>
              <a:off x="460440" y="1243080"/>
              <a:ext cx="7554960" cy="44244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801540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49756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3720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97828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1936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60440" y="1243080"/>
              <a:ext cx="1440" cy="442440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60440" y="1243080"/>
              <a:ext cx="7554960" cy="44244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6756480" y="1243080"/>
              <a:ext cx="45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6756480" y="1266840"/>
              <a:ext cx="44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756480" y="1292400"/>
              <a:ext cx="3096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6756480" y="1314360"/>
              <a:ext cx="3045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756480" y="1338120"/>
              <a:ext cx="209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6756480" y="1362240"/>
              <a:ext cx="115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756480" y="1386000"/>
              <a:ext cx="838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6756480" y="1411200"/>
              <a:ext cx="6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6756480" y="1433520"/>
              <a:ext cx="65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6756480" y="1457280"/>
              <a:ext cx="20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753240" y="1504800"/>
              <a:ext cx="32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6675480" y="1528920"/>
              <a:ext cx="81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6673680" y="1552680"/>
              <a:ext cx="82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659640" y="1576440"/>
              <a:ext cx="9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659640" y="1600200"/>
              <a:ext cx="96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630840" y="1623960"/>
              <a:ext cx="125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6624720" y="1647720"/>
              <a:ext cx="131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6615000" y="1671480"/>
              <a:ext cx="1414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6580080" y="1695600"/>
              <a:ext cx="176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6567480" y="1719360"/>
              <a:ext cx="189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554880" y="1743120"/>
              <a:ext cx="201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6545160" y="1766880"/>
              <a:ext cx="211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6537240" y="1790640"/>
              <a:ext cx="219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6521400" y="1814400"/>
              <a:ext cx="235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113520" y="1838160"/>
              <a:ext cx="642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108840" y="1862280"/>
              <a:ext cx="647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6108840" y="1886040"/>
              <a:ext cx="647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103800" y="1909800"/>
              <a:ext cx="652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097680" y="1933560"/>
              <a:ext cx="658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97680" y="1957320"/>
              <a:ext cx="658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081840" y="1981080"/>
              <a:ext cx="674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81840" y="2004840"/>
              <a:ext cx="6746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68880" y="2028960"/>
              <a:ext cx="687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058080" y="2052720"/>
              <a:ext cx="698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54840" y="2076480"/>
              <a:ext cx="701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033960" y="2098800"/>
              <a:ext cx="7225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033960" y="2124000"/>
              <a:ext cx="722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031080" y="2147760"/>
              <a:ext cx="725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961240" y="2170080"/>
              <a:ext cx="7952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842080" y="2195640"/>
              <a:ext cx="914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810400" y="2217600"/>
              <a:ext cx="946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07160" y="2243160"/>
              <a:ext cx="9493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791320" y="2266920"/>
              <a:ext cx="965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416560" y="2289240"/>
              <a:ext cx="13399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83080" y="2314440"/>
              <a:ext cx="1373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273640" y="2336760"/>
              <a:ext cx="1482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268960" y="2360520"/>
              <a:ext cx="14875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253120" y="2386080"/>
              <a:ext cx="1503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219640" y="2408400"/>
              <a:ext cx="15368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219640" y="2433600"/>
              <a:ext cx="1536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189400" y="2455920"/>
              <a:ext cx="1567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184720" y="2479680"/>
              <a:ext cx="15717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184720" y="2505240"/>
              <a:ext cx="1571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159520" y="2527200"/>
              <a:ext cx="1596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143680" y="2550960"/>
              <a:ext cx="16128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138640" y="2575080"/>
              <a:ext cx="1617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135400" y="2598840"/>
              <a:ext cx="16210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116680" y="2624040"/>
              <a:ext cx="1639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095800" y="2646360"/>
              <a:ext cx="1660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059440" y="2670120"/>
              <a:ext cx="1697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056200" y="2693880"/>
              <a:ext cx="1700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052960" y="2717640"/>
              <a:ext cx="1703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037120" y="2741760"/>
              <a:ext cx="1719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987800" y="2765520"/>
              <a:ext cx="1768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983120" y="2789280"/>
              <a:ext cx="1773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4981680" y="2813040"/>
              <a:ext cx="1774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919760" y="2836800"/>
              <a:ext cx="1836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896000" y="2860560"/>
              <a:ext cx="186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884840" y="2884320"/>
              <a:ext cx="18716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4883040" y="2908440"/>
              <a:ext cx="1873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875120" y="2932200"/>
              <a:ext cx="1881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871880" y="2955960"/>
              <a:ext cx="1884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859280" y="2979720"/>
              <a:ext cx="1897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848120" y="3003480"/>
              <a:ext cx="1908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834080" y="3027240"/>
              <a:ext cx="192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832280" y="3051000"/>
              <a:ext cx="19242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16440" y="3075120"/>
              <a:ext cx="1940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4813200" y="3098880"/>
              <a:ext cx="1943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805280" y="3122640"/>
              <a:ext cx="1951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789440" y="3146400"/>
              <a:ext cx="1967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4784760" y="317016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781520" y="3192480"/>
              <a:ext cx="19749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781520" y="3218040"/>
              <a:ext cx="1974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773600" y="3241800"/>
              <a:ext cx="198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756320" y="3265560"/>
              <a:ext cx="2000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743360" y="3289320"/>
              <a:ext cx="201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722840" y="3311640"/>
              <a:ext cx="20336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721400" y="3336840"/>
              <a:ext cx="2035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695840" y="3360600"/>
              <a:ext cx="2060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680000" y="3382920"/>
              <a:ext cx="20764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4664160" y="3408480"/>
              <a:ext cx="20923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4653000" y="3430440"/>
              <a:ext cx="21034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629240" y="3456000"/>
              <a:ext cx="2127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597560" y="3479760"/>
              <a:ext cx="215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595760" y="3502080"/>
              <a:ext cx="216072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595760" y="3527280"/>
              <a:ext cx="2160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567320" y="3549600"/>
              <a:ext cx="2189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4567320" y="3573360"/>
              <a:ext cx="21891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4562640" y="3598920"/>
              <a:ext cx="2193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60840" y="3621240"/>
              <a:ext cx="2195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4560840" y="3645000"/>
              <a:ext cx="2195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557600" y="3668760"/>
              <a:ext cx="2198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554360" y="3692520"/>
              <a:ext cx="22021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4541760" y="3718080"/>
              <a:ext cx="2214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4541760" y="3740040"/>
              <a:ext cx="2214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538520" y="3763800"/>
              <a:ext cx="22179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4535640" y="3789360"/>
              <a:ext cx="2220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4522680" y="3811680"/>
              <a:ext cx="223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503600" y="3835440"/>
              <a:ext cx="225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483080" y="3859200"/>
              <a:ext cx="2273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441680" y="3882960"/>
              <a:ext cx="231480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440240" y="3908520"/>
              <a:ext cx="2316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437000" y="3930480"/>
              <a:ext cx="23194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419720" y="3954600"/>
              <a:ext cx="233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416480" y="3978360"/>
              <a:ext cx="2340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413240" y="4002120"/>
              <a:ext cx="234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403880" y="4025880"/>
              <a:ext cx="2352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356000" y="4049640"/>
              <a:ext cx="240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343400" y="4073400"/>
              <a:ext cx="2413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322880" y="4097160"/>
              <a:ext cx="24336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321080" y="4121280"/>
              <a:ext cx="243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4295880" y="4145040"/>
              <a:ext cx="2460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272120" y="4168800"/>
              <a:ext cx="2484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60960" y="4192560"/>
              <a:ext cx="2495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260960" y="4216320"/>
              <a:ext cx="2495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260960" y="4240080"/>
              <a:ext cx="2495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248000" y="4264200"/>
              <a:ext cx="2508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245120" y="4286160"/>
              <a:ext cx="251136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243320" y="4311720"/>
              <a:ext cx="2513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43320" y="4335480"/>
              <a:ext cx="2513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237200" y="43592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237200" y="438300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237200" y="440532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237200" y="44308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37200" y="445464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7200" y="447660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237200" y="450216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37200" y="452448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37200" y="45496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37200" y="457344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237200" y="459576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237200" y="462132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237200" y="464328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237200" y="466740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237200" y="469260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237200" y="471492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237200" y="474012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237200" y="47624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237200" y="478620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237200" y="481176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237200" y="48340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237200" y="4857840"/>
              <a:ext cx="25192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37200" y="488304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237200" y="490536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237200" y="493092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37200" y="49528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237200" y="497664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237200" y="500220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237200" y="50245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237200" y="50482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237200" y="50720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237200" y="509580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237200" y="511956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237200" y="51436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237200" y="51674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237200" y="519120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237200" y="52149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237200" y="52387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237200" y="52624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237200" y="528624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237200" y="53103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237200" y="53341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237200" y="53578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237200" y="538164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237200" y="540540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37200" y="54291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237200" y="5452920"/>
              <a:ext cx="25192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237200" y="5477040"/>
              <a:ext cx="251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37200" y="549900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237200" y="552456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237200" y="55483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237200" y="557208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237200" y="5595840"/>
              <a:ext cx="2519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237200" y="5618160"/>
              <a:ext cx="2519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237200" y="5643720"/>
              <a:ext cx="2519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0440" y="5667480"/>
              <a:ext cx="7554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 flipV="1">
              <a:off x="801540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75648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549756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 flipV="1">
              <a:off x="423720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V="1">
              <a:off x="297828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 flipV="1">
              <a:off x="1719360" y="5667480"/>
              <a:ext cx="1440" cy="54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 flipV="1">
            <a:off x="460440" y="566748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6756480" y="1243080"/>
            <a:ext cx="1440" cy="4424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58040" y="449280"/>
            <a:ext cx="8777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S-time-distance showing for 186 countries how many years earlier (or later) a given level of tot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76640" y="719280"/>
            <a:ext cx="8068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</a:rPr>
              <a:t>fixed broadband Internet subscribers per 100 inhabitants in 2008 was attained in Swede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938360" y="58197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708240" y="5819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5449320" y="58197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414108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288216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62324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362880" y="58197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8083800" y="120168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rmu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8087760" y="1297080"/>
            <a:ext cx="56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iechtenste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8085960" y="139068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witzer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8084160" y="148752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8084880" y="1581120"/>
            <a:ext cx="348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8083800" y="167796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8084880" y="1771560"/>
            <a:ext cx="23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8085600" y="1866960"/>
            <a:ext cx="35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8084520" y="196200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8085240" y="205740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8086320" y="2152800"/>
            <a:ext cx="654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8083800" y="224784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8084520" y="2343240"/>
            <a:ext cx="328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8084520" y="243684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8086320" y="2533680"/>
            <a:ext cx="62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ew Caledo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8084880" y="262728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8085240" y="2722680"/>
            <a:ext cx="410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8085600" y="2817720"/>
            <a:ext cx="474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8084880" y="2913120"/>
            <a:ext cx="36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8085240" y="3008160"/>
            <a:ext cx="455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ychell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8084880" y="3103560"/>
            <a:ext cx="282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uval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8083800" y="319896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8085600" y="329400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8084520" y="3389400"/>
            <a:ext cx="25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8084160" y="3484440"/>
            <a:ext cx="323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8084520" y="3578400"/>
            <a:ext cx="37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8084880" y="367524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8085240" y="37688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8084160" y="386568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8084520" y="3959280"/>
            <a:ext cx="26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8083800" y="405432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la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8084520" y="414972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8087040" y="4245120"/>
            <a:ext cx="381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n (I.R.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087400" y="434016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8084520" y="443556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8086680" y="4530600"/>
            <a:ext cx="439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8085240" y="462600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8084520" y="4721400"/>
            <a:ext cx="298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8086680" y="4816440"/>
            <a:ext cx="404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8084520" y="491004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8084880" y="500688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8084160" y="510048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8084160" y="519732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8085960" y="52912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8084160" y="5386320"/>
            <a:ext cx="32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8084160" y="5481720"/>
            <a:ext cx="43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8085600" y="557676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739520" y="6130800"/>
            <a:ext cx="5145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in years: - time lead, + time lag from Sw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154280" y="322092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4443840" y="5924520"/>
            <a:ext cx="540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8.4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4325760" y="5867280"/>
            <a:ext cx="795600" cy="2872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3014640" y="4276800"/>
            <a:ext cx="1203480" cy="13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3014640" y="4276800"/>
            <a:ext cx="1203480" cy="1317600"/>
          </a:xfrm>
          <a:prstGeom prst="rect">
            <a:avLst/>
          </a:prstGeom>
          <a:noFill/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3168360" y="4562640"/>
            <a:ext cx="943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5 count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3143160" y="4751280"/>
            <a:ext cx="994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than 1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3418200" y="4940280"/>
            <a:ext cx="40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4597200" y="3421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4649760" y="3424320"/>
            <a:ext cx="0" cy="2388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 flipH="1">
            <a:off x="4640400" y="3406680"/>
            <a:ext cx="336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8" name=""/>
          <p:cNvGrpSpPr/>
          <p:nvPr/>
        </p:nvGrpSpPr>
        <p:grpSpPr>
          <a:xfrm>
            <a:off x="1343160" y="1336680"/>
            <a:ext cx="7288200" cy="4336920"/>
            <a:chOff x="1343160" y="1336680"/>
            <a:chExt cx="7288200" cy="4336920"/>
          </a:xfrm>
        </p:grpSpPr>
        <p:sp>
          <p:nvSpPr>
            <p:cNvPr id="1269" name=""/>
            <p:cNvSpPr/>
            <p:nvPr/>
          </p:nvSpPr>
          <p:spPr>
            <a:xfrm>
              <a:off x="1343160" y="1336680"/>
              <a:ext cx="7286400" cy="43369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17272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210996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49228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87640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26088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4320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02732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41180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9592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17860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556092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94504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32952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71184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09596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48044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864560" y="1336680"/>
              <a:ext cx="144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824544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629560" y="1336680"/>
              <a:ext cx="1800" cy="433692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1343160" y="1336680"/>
              <a:ext cx="7286400" cy="433692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343160" y="1336680"/>
              <a:ext cx="6703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1343160" y="1357200"/>
              <a:ext cx="618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1343160" y="1379520"/>
              <a:ext cx="6046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1343160" y="1400040"/>
              <a:ext cx="58006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1343160" y="1424160"/>
              <a:ext cx="5300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343160" y="1444680"/>
              <a:ext cx="5111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1343160" y="1465200"/>
              <a:ext cx="5019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1343160" y="1487520"/>
              <a:ext cx="4857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1343160" y="1508040"/>
              <a:ext cx="4808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1343160" y="1530360"/>
              <a:ext cx="477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1343160" y="1552680"/>
              <a:ext cx="4725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1343160" y="1574640"/>
              <a:ext cx="4589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1343160" y="1595520"/>
              <a:ext cx="4589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1343160" y="1616040"/>
              <a:ext cx="4498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343160" y="1638360"/>
              <a:ext cx="4486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343160" y="1658880"/>
              <a:ext cx="443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343160" y="1682640"/>
              <a:ext cx="4302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343160" y="1703520"/>
              <a:ext cx="4289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343160" y="1725480"/>
              <a:ext cx="42591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43160" y="1746360"/>
              <a:ext cx="4221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43160" y="1766880"/>
              <a:ext cx="4187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343160" y="1789200"/>
              <a:ext cx="4168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343160" y="1811160"/>
              <a:ext cx="4136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343160" y="1833480"/>
              <a:ext cx="40924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343160" y="1854360"/>
              <a:ext cx="3981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343160" y="1876320"/>
              <a:ext cx="39639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343160" y="1897200"/>
              <a:ext cx="3943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343160" y="1917720"/>
              <a:ext cx="3936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343160" y="1941480"/>
              <a:ext cx="3922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343160" y="1962000"/>
              <a:ext cx="3921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343160" y="1984320"/>
              <a:ext cx="3889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343160" y="2004840"/>
              <a:ext cx="387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343160" y="2027160"/>
              <a:ext cx="38559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343160" y="2048040"/>
              <a:ext cx="3835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343160" y="2070000"/>
              <a:ext cx="3830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343160" y="2092320"/>
              <a:ext cx="3794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1343160" y="2112840"/>
              <a:ext cx="378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343160" y="2135160"/>
              <a:ext cx="3746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343160" y="2155680"/>
              <a:ext cx="3740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1343160" y="2178000"/>
              <a:ext cx="3713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343160" y="2200320"/>
              <a:ext cx="37098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1343160" y="2220840"/>
              <a:ext cx="3679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1343160" y="2243160"/>
              <a:ext cx="365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343160" y="2263680"/>
              <a:ext cx="3639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343160" y="2286000"/>
              <a:ext cx="3625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343160" y="2306520"/>
              <a:ext cx="3597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1343160" y="2330280"/>
              <a:ext cx="35877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1343160" y="2351160"/>
              <a:ext cx="35859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343160" y="2371680"/>
              <a:ext cx="3563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343160" y="2394000"/>
              <a:ext cx="3551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1343160" y="2414520"/>
              <a:ext cx="3543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343160" y="2436840"/>
              <a:ext cx="3508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1343160" y="2459160"/>
              <a:ext cx="35082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1343160" y="2481120"/>
              <a:ext cx="34830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1343160" y="2502000"/>
              <a:ext cx="3406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1343160" y="2522520"/>
              <a:ext cx="3371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1343160" y="2544840"/>
              <a:ext cx="3363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1343160" y="2565360"/>
              <a:ext cx="3284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1343160" y="2589120"/>
              <a:ext cx="32749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343160" y="2610000"/>
              <a:ext cx="3268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1343160" y="2631960"/>
              <a:ext cx="32414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1343160" y="2652840"/>
              <a:ext cx="3230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1343160" y="2673360"/>
              <a:ext cx="3225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1343160" y="2695680"/>
              <a:ext cx="3209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1343160" y="2717640"/>
              <a:ext cx="3198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1343160" y="2739960"/>
              <a:ext cx="31986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1343160" y="2760840"/>
              <a:ext cx="3197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1343160" y="2782800"/>
              <a:ext cx="3176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1343160" y="2803680"/>
              <a:ext cx="3139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1343160" y="2824200"/>
              <a:ext cx="3128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1343160" y="2846520"/>
              <a:ext cx="3093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1343160" y="2868480"/>
              <a:ext cx="3085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1343160" y="2890800"/>
              <a:ext cx="3078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343160" y="2911320"/>
              <a:ext cx="3065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1343160" y="2933640"/>
              <a:ext cx="3041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343160" y="2954160"/>
              <a:ext cx="30398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343160" y="2975040"/>
              <a:ext cx="3001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343160" y="2998800"/>
              <a:ext cx="29826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343160" y="3019320"/>
              <a:ext cx="2977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343160" y="3041640"/>
              <a:ext cx="29559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343160" y="3062160"/>
              <a:ext cx="2952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43160" y="3084480"/>
              <a:ext cx="2909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1343160" y="3105000"/>
              <a:ext cx="2884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343160" y="3127320"/>
              <a:ext cx="2860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343160" y="3149640"/>
              <a:ext cx="2828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343160" y="3170160"/>
              <a:ext cx="2787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1343160" y="3192480"/>
              <a:ext cx="2786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1343160" y="3213000"/>
              <a:ext cx="2781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1343160" y="3235320"/>
              <a:ext cx="2763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1343160" y="3257640"/>
              <a:ext cx="2725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1343160" y="3278160"/>
              <a:ext cx="270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1343160" y="3300480"/>
              <a:ext cx="2706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343160" y="3321000"/>
              <a:ext cx="2593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1343160" y="3343320"/>
              <a:ext cx="2592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1343160" y="3363840"/>
              <a:ext cx="2582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1343160" y="3387600"/>
              <a:ext cx="25621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1343160" y="3408480"/>
              <a:ext cx="25207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1343160" y="3429000"/>
              <a:ext cx="2504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1343160" y="3451320"/>
              <a:ext cx="24843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1343160" y="3471840"/>
              <a:ext cx="246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1343160" y="3494160"/>
              <a:ext cx="2447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1343160" y="3516480"/>
              <a:ext cx="2442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1343160" y="3538440"/>
              <a:ext cx="2438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1343160" y="3559320"/>
              <a:ext cx="24206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1343160" y="3579840"/>
              <a:ext cx="240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1343160" y="3602160"/>
              <a:ext cx="23335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1343160" y="3622680"/>
              <a:ext cx="2327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43160" y="3646440"/>
              <a:ext cx="2319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1343160" y="3666960"/>
              <a:ext cx="2282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1343160" y="3689280"/>
              <a:ext cx="22618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343160" y="3710160"/>
              <a:ext cx="22557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1343160" y="3730680"/>
              <a:ext cx="2228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343160" y="3753000"/>
              <a:ext cx="2226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1343160" y="3774960"/>
              <a:ext cx="2160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43160" y="3797280"/>
              <a:ext cx="2138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43160" y="3817800"/>
              <a:ext cx="2090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1343160" y="3840120"/>
              <a:ext cx="2071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1343160" y="3860640"/>
              <a:ext cx="1985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1343160" y="3882960"/>
              <a:ext cx="1890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1343160" y="3905280"/>
              <a:ext cx="1884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1343160" y="3925800"/>
              <a:ext cx="1869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1343160" y="3948120"/>
              <a:ext cx="1861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1343160" y="3968640"/>
              <a:ext cx="1823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343160" y="3990960"/>
              <a:ext cx="1788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343160" y="4011480"/>
              <a:ext cx="1774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343160" y="4033800"/>
              <a:ext cx="1749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343160" y="4056120"/>
              <a:ext cx="1722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343160" y="4076640"/>
              <a:ext cx="1709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343160" y="4098960"/>
              <a:ext cx="1685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43160" y="4119480"/>
              <a:ext cx="1631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343160" y="4141800"/>
              <a:ext cx="163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343160" y="4164120"/>
              <a:ext cx="16254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343160" y="4184640"/>
              <a:ext cx="1604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343160" y="4206960"/>
              <a:ext cx="1600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43160" y="4227480"/>
              <a:ext cx="1598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43160" y="4249800"/>
              <a:ext cx="1592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343160" y="4270320"/>
              <a:ext cx="1585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43160" y="4292640"/>
              <a:ext cx="1565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1343160" y="4314960"/>
              <a:ext cx="15238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343160" y="4335480"/>
              <a:ext cx="1493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343160" y="4357800"/>
              <a:ext cx="1417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1343160" y="4378320"/>
              <a:ext cx="1344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1343160" y="4400640"/>
              <a:ext cx="13395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1343160" y="4421160"/>
              <a:ext cx="1338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1343160" y="4444920"/>
              <a:ext cx="12729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1343160" y="4465800"/>
              <a:ext cx="12571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343160" y="4486320"/>
              <a:ext cx="1215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343160" y="4508640"/>
              <a:ext cx="12078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1343160" y="4529160"/>
              <a:ext cx="1174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1343160" y="4551480"/>
              <a:ext cx="11538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1343160" y="4573440"/>
              <a:ext cx="1095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1343160" y="4595760"/>
              <a:ext cx="1089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1343160" y="4616280"/>
              <a:ext cx="10681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1343160" y="4637160"/>
              <a:ext cx="1039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1343160" y="4659480"/>
              <a:ext cx="1036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1343160" y="4680000"/>
              <a:ext cx="1020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1343160" y="4703760"/>
              <a:ext cx="988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1343160" y="4724280"/>
              <a:ext cx="984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1343160" y="4746600"/>
              <a:ext cx="9824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1343160" y="4767120"/>
              <a:ext cx="942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1343160" y="4789440"/>
              <a:ext cx="942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343160" y="4809960"/>
              <a:ext cx="9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1343160" y="4832280"/>
              <a:ext cx="931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343160" y="4854600"/>
              <a:ext cx="911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343160" y="4875120"/>
              <a:ext cx="900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343160" y="4897440"/>
              <a:ext cx="895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343160" y="4917960"/>
              <a:ext cx="892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343160" y="4940280"/>
              <a:ext cx="868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1343160" y="4962600"/>
              <a:ext cx="868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343160" y="4983120"/>
              <a:ext cx="849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343160" y="5005440"/>
              <a:ext cx="8254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343160" y="5025960"/>
              <a:ext cx="811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43160" y="5048280"/>
              <a:ext cx="768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43160" y="5068800"/>
              <a:ext cx="650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343160" y="5091120"/>
              <a:ext cx="631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343160" y="5113440"/>
              <a:ext cx="618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343160" y="5133960"/>
              <a:ext cx="582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343160" y="5156280"/>
              <a:ext cx="538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1343160" y="5176800"/>
              <a:ext cx="533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9" name=""/>
          <p:cNvSpPr/>
          <p:nvPr/>
        </p:nvSpPr>
        <p:spPr>
          <a:xfrm>
            <a:off x="1343160" y="5199120"/>
            <a:ext cx="5173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"/>
          <p:cNvSpPr/>
          <p:nvPr/>
        </p:nvSpPr>
        <p:spPr>
          <a:xfrm>
            <a:off x="1343160" y="5221440"/>
            <a:ext cx="49356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"/>
          <p:cNvSpPr/>
          <p:nvPr/>
        </p:nvSpPr>
        <p:spPr>
          <a:xfrm>
            <a:off x="1343160" y="5241960"/>
            <a:ext cx="46656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"/>
          <p:cNvSpPr/>
          <p:nvPr/>
        </p:nvSpPr>
        <p:spPr>
          <a:xfrm>
            <a:off x="1343160" y="5264280"/>
            <a:ext cx="46332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"/>
          <p:cNvSpPr/>
          <p:nvPr/>
        </p:nvSpPr>
        <p:spPr>
          <a:xfrm>
            <a:off x="1343160" y="5284800"/>
            <a:ext cx="4363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"/>
          <p:cNvSpPr/>
          <p:nvPr/>
        </p:nvSpPr>
        <p:spPr>
          <a:xfrm>
            <a:off x="1343160" y="5307120"/>
            <a:ext cx="42516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"/>
          <p:cNvSpPr/>
          <p:nvPr/>
        </p:nvSpPr>
        <p:spPr>
          <a:xfrm>
            <a:off x="1343160" y="5327640"/>
            <a:ext cx="38556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"/>
          <p:cNvSpPr/>
          <p:nvPr/>
        </p:nvSpPr>
        <p:spPr>
          <a:xfrm>
            <a:off x="1343160" y="5351400"/>
            <a:ext cx="36504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"/>
          <p:cNvSpPr/>
          <p:nvPr/>
        </p:nvSpPr>
        <p:spPr>
          <a:xfrm>
            <a:off x="1343160" y="5372280"/>
            <a:ext cx="29520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"/>
          <p:cNvSpPr/>
          <p:nvPr/>
        </p:nvSpPr>
        <p:spPr>
          <a:xfrm>
            <a:off x="1343160" y="5392800"/>
            <a:ext cx="29196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"/>
          <p:cNvSpPr/>
          <p:nvPr/>
        </p:nvSpPr>
        <p:spPr>
          <a:xfrm>
            <a:off x="1343160" y="5415120"/>
            <a:ext cx="2872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"/>
          <p:cNvSpPr/>
          <p:nvPr/>
        </p:nvSpPr>
        <p:spPr>
          <a:xfrm>
            <a:off x="1343160" y="5435640"/>
            <a:ext cx="22536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"/>
          <p:cNvSpPr/>
          <p:nvPr/>
        </p:nvSpPr>
        <p:spPr>
          <a:xfrm>
            <a:off x="1343160" y="5457960"/>
            <a:ext cx="203040" cy="219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"/>
          <p:cNvSpPr/>
          <p:nvPr/>
        </p:nvSpPr>
        <p:spPr>
          <a:xfrm>
            <a:off x="1343160" y="5479920"/>
            <a:ext cx="19044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"/>
          <p:cNvSpPr/>
          <p:nvPr/>
        </p:nvSpPr>
        <p:spPr>
          <a:xfrm>
            <a:off x="1343160" y="5502240"/>
            <a:ext cx="12528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"/>
          <p:cNvSpPr/>
          <p:nvPr/>
        </p:nvSpPr>
        <p:spPr>
          <a:xfrm>
            <a:off x="1343160" y="5522760"/>
            <a:ext cx="1141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/>
          <p:nvPr/>
        </p:nvSpPr>
        <p:spPr>
          <a:xfrm>
            <a:off x="1343160" y="5545080"/>
            <a:ext cx="9360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1343160" y="5565600"/>
            <a:ext cx="87120" cy="2088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1343160" y="5586480"/>
            <a:ext cx="69840" cy="2376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1343160" y="5610240"/>
            <a:ext cx="5220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"/>
          <p:cNvSpPr/>
          <p:nvPr/>
        </p:nvSpPr>
        <p:spPr>
          <a:xfrm>
            <a:off x="1343160" y="5630760"/>
            <a:ext cx="33120" cy="223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/>
          <p:nvPr/>
        </p:nvSpPr>
        <p:spPr>
          <a:xfrm>
            <a:off x="1343160" y="5653080"/>
            <a:ext cx="23760" cy="20520"/>
          </a:xfrm>
          <a:prstGeom prst="rect">
            <a:avLst/>
          </a:prstGeom>
          <a:solidFill>
            <a:srgbClr val="0000ff"/>
          </a:solidFill>
          <a:ln w="0">
            <a:solidFill>
              <a:srgbClr val="ffff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"/>
          <p:cNvSpPr/>
          <p:nvPr/>
        </p:nvSpPr>
        <p:spPr>
          <a:xfrm>
            <a:off x="1343160" y="5673600"/>
            <a:ext cx="7286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"/>
          <p:cNvSpPr/>
          <p:nvPr/>
        </p:nvSpPr>
        <p:spPr>
          <a:xfrm flipV="1">
            <a:off x="134316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 flipV="1">
            <a:off x="17272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 flipV="1">
            <a:off x="210996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/>
          <p:nvPr/>
        </p:nvSpPr>
        <p:spPr>
          <a:xfrm flipV="1">
            <a:off x="249228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"/>
          <p:cNvSpPr/>
          <p:nvPr/>
        </p:nvSpPr>
        <p:spPr>
          <a:xfrm flipV="1">
            <a:off x="287640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26088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"/>
          <p:cNvSpPr/>
          <p:nvPr/>
        </p:nvSpPr>
        <p:spPr>
          <a:xfrm flipV="1">
            <a:off x="364320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"/>
          <p:cNvSpPr/>
          <p:nvPr/>
        </p:nvSpPr>
        <p:spPr>
          <a:xfrm flipV="1">
            <a:off x="402732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"/>
          <p:cNvSpPr/>
          <p:nvPr/>
        </p:nvSpPr>
        <p:spPr>
          <a:xfrm flipV="1">
            <a:off x="441180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"/>
          <p:cNvSpPr/>
          <p:nvPr/>
        </p:nvSpPr>
        <p:spPr>
          <a:xfrm flipV="1">
            <a:off x="479592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"/>
          <p:cNvSpPr/>
          <p:nvPr/>
        </p:nvSpPr>
        <p:spPr>
          <a:xfrm flipV="1">
            <a:off x="517860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"/>
          <p:cNvSpPr/>
          <p:nvPr/>
        </p:nvSpPr>
        <p:spPr>
          <a:xfrm flipV="1">
            <a:off x="556092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 flipV="1">
            <a:off x="594504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"/>
          <p:cNvSpPr/>
          <p:nvPr/>
        </p:nvSpPr>
        <p:spPr>
          <a:xfrm flipV="1">
            <a:off x="632952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"/>
          <p:cNvSpPr/>
          <p:nvPr/>
        </p:nvSpPr>
        <p:spPr>
          <a:xfrm flipV="1">
            <a:off x="671184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"/>
          <p:cNvSpPr/>
          <p:nvPr/>
        </p:nvSpPr>
        <p:spPr>
          <a:xfrm flipV="1">
            <a:off x="709596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"/>
          <p:cNvSpPr/>
          <p:nvPr/>
        </p:nvSpPr>
        <p:spPr>
          <a:xfrm flipV="1">
            <a:off x="748044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 flipV="1">
            <a:off x="7864560" y="5673240"/>
            <a:ext cx="144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 flipV="1">
            <a:off x="824544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 flipV="1">
            <a:off x="8629560" y="5673240"/>
            <a:ext cx="1800" cy="478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1343160" y="1336680"/>
            <a:ext cx="1440" cy="4336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696240" y="569880"/>
            <a:ext cx="787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Static view of 200 countries in 2008: Index for cellular phones per 100 inhabita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"/>
          <p:cNvSpPr/>
          <p:nvPr/>
        </p:nvSpPr>
        <p:spPr>
          <a:xfrm>
            <a:off x="3862080" y="812880"/>
            <a:ext cx="194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(Index Sweden=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"/>
          <p:cNvSpPr/>
          <p:nvPr/>
        </p:nvSpPr>
        <p:spPr>
          <a:xfrm>
            <a:off x="1301040" y="58071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"/>
          <p:cNvSpPr/>
          <p:nvPr/>
        </p:nvSpPr>
        <p:spPr>
          <a:xfrm>
            <a:off x="16416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"/>
          <p:cNvSpPr/>
          <p:nvPr/>
        </p:nvSpPr>
        <p:spPr>
          <a:xfrm>
            <a:off x="202428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"/>
          <p:cNvSpPr/>
          <p:nvPr/>
        </p:nvSpPr>
        <p:spPr>
          <a:xfrm>
            <a:off x="24084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"/>
          <p:cNvSpPr/>
          <p:nvPr/>
        </p:nvSpPr>
        <p:spPr>
          <a:xfrm>
            <a:off x="279108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31752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55788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"/>
          <p:cNvSpPr/>
          <p:nvPr/>
        </p:nvSpPr>
        <p:spPr>
          <a:xfrm>
            <a:off x="394200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"/>
          <p:cNvSpPr/>
          <p:nvPr/>
        </p:nvSpPr>
        <p:spPr>
          <a:xfrm>
            <a:off x="432612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"/>
          <p:cNvSpPr/>
          <p:nvPr/>
        </p:nvSpPr>
        <p:spPr>
          <a:xfrm>
            <a:off x="4710240" y="58071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"/>
          <p:cNvSpPr/>
          <p:nvPr/>
        </p:nvSpPr>
        <p:spPr>
          <a:xfrm>
            <a:off x="505080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"/>
          <p:cNvSpPr/>
          <p:nvPr/>
        </p:nvSpPr>
        <p:spPr>
          <a:xfrm>
            <a:off x="54349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"/>
          <p:cNvSpPr/>
          <p:nvPr/>
        </p:nvSpPr>
        <p:spPr>
          <a:xfrm>
            <a:off x="581940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"/>
          <p:cNvSpPr/>
          <p:nvPr/>
        </p:nvSpPr>
        <p:spPr>
          <a:xfrm>
            <a:off x="62017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"/>
          <p:cNvSpPr/>
          <p:nvPr/>
        </p:nvSpPr>
        <p:spPr>
          <a:xfrm>
            <a:off x="658440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"/>
          <p:cNvSpPr/>
          <p:nvPr/>
        </p:nvSpPr>
        <p:spPr>
          <a:xfrm>
            <a:off x="69685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"/>
          <p:cNvSpPr/>
          <p:nvPr/>
        </p:nvSpPr>
        <p:spPr>
          <a:xfrm>
            <a:off x="735264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"/>
          <p:cNvSpPr/>
          <p:nvPr/>
        </p:nvSpPr>
        <p:spPr>
          <a:xfrm>
            <a:off x="773712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"/>
          <p:cNvSpPr/>
          <p:nvPr/>
        </p:nvSpPr>
        <p:spPr>
          <a:xfrm>
            <a:off x="811944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"/>
          <p:cNvSpPr/>
          <p:nvPr/>
        </p:nvSpPr>
        <p:spPr>
          <a:xfrm>
            <a:off x="8503560" y="580716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"/>
          <p:cNvSpPr/>
          <p:nvPr/>
        </p:nvSpPr>
        <p:spPr>
          <a:xfrm>
            <a:off x="384840" y="1292400"/>
            <a:ext cx="896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nited Arab Emirat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"/>
          <p:cNvSpPr/>
          <p:nvPr/>
        </p:nvSpPr>
        <p:spPr>
          <a:xfrm>
            <a:off x="484200" y="1379520"/>
            <a:ext cx="796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ntigua &amp; Barbu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"/>
          <p:cNvSpPr/>
          <p:nvPr/>
        </p:nvSpPr>
        <p:spPr>
          <a:xfrm>
            <a:off x="880920" y="1465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ominic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"/>
          <p:cNvSpPr/>
          <p:nvPr/>
        </p:nvSpPr>
        <p:spPr>
          <a:xfrm>
            <a:off x="907560" y="1550880"/>
            <a:ext cx="371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aldive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974160" y="16383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897840" y="1724040"/>
            <a:ext cx="38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rman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977400" y="1809720"/>
            <a:ext cx="29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ree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923040" y="1897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Hungar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898920" y="1982880"/>
            <a:ext cx="37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"/>
          <p:cNvSpPr/>
          <p:nvPr/>
        </p:nvSpPr>
        <p:spPr>
          <a:xfrm>
            <a:off x="975240" y="2068560"/>
            <a:ext cx="303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/>
          <p:nvPr/>
        </p:nvSpPr>
        <p:spPr>
          <a:xfrm>
            <a:off x="983520" y="2155680"/>
            <a:ext cx="293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"/>
          <p:cNvSpPr/>
          <p:nvPr/>
        </p:nvSpPr>
        <p:spPr>
          <a:xfrm>
            <a:off x="506160" y="2241720"/>
            <a:ext cx="775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961200" y="2328840"/>
            <a:ext cx="31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orw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"/>
          <p:cNvSpPr/>
          <p:nvPr/>
        </p:nvSpPr>
        <p:spPr>
          <a:xfrm>
            <a:off x="828000" y="2414520"/>
            <a:ext cx="45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uatemal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"/>
          <p:cNvSpPr/>
          <p:nvPr/>
        </p:nvSpPr>
        <p:spPr>
          <a:xfrm>
            <a:off x="923040" y="2500200"/>
            <a:ext cx="357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/>
          <p:nvPr/>
        </p:nvSpPr>
        <p:spPr>
          <a:xfrm>
            <a:off x="402840" y="2587680"/>
            <a:ext cx="880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itish Virgi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"/>
          <p:cNvSpPr/>
          <p:nvPr/>
        </p:nvSpPr>
        <p:spPr>
          <a:xfrm>
            <a:off x="475200" y="2673360"/>
            <a:ext cx="808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"/>
          <p:cNvSpPr/>
          <p:nvPr/>
        </p:nvSpPr>
        <p:spPr>
          <a:xfrm>
            <a:off x="1006920" y="2759040"/>
            <a:ext cx="270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"/>
          <p:cNvSpPr/>
          <p:nvPr/>
        </p:nvSpPr>
        <p:spPr>
          <a:xfrm>
            <a:off x="475920" y="2846520"/>
            <a:ext cx="803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unei Darussalam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"/>
          <p:cNvSpPr/>
          <p:nvPr/>
        </p:nvSpPr>
        <p:spPr>
          <a:xfrm>
            <a:off x="988200" y="293364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"/>
          <p:cNvSpPr/>
          <p:nvPr/>
        </p:nvSpPr>
        <p:spPr>
          <a:xfrm>
            <a:off x="876240" y="3017880"/>
            <a:ext cx="401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lo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"/>
          <p:cNvSpPr/>
          <p:nvPr/>
        </p:nvSpPr>
        <p:spPr>
          <a:xfrm>
            <a:off x="1061280" y="3105000"/>
            <a:ext cx="215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"/>
          <p:cNvSpPr/>
          <p:nvPr/>
        </p:nvSpPr>
        <p:spPr>
          <a:xfrm>
            <a:off x="924480" y="3192480"/>
            <a:ext cx="352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cuado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"/>
          <p:cNvSpPr/>
          <p:nvPr/>
        </p:nvSpPr>
        <p:spPr>
          <a:xfrm>
            <a:off x="873720" y="3278160"/>
            <a:ext cx="40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urinam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"/>
          <p:cNvSpPr/>
          <p:nvPr/>
        </p:nvSpPr>
        <p:spPr>
          <a:xfrm>
            <a:off x="1035720" y="3363840"/>
            <a:ext cx="241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"/>
          <p:cNvSpPr/>
          <p:nvPr/>
        </p:nvSpPr>
        <p:spPr>
          <a:xfrm>
            <a:off x="944640" y="34513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"/>
          <p:cNvSpPr/>
          <p:nvPr/>
        </p:nvSpPr>
        <p:spPr>
          <a:xfrm>
            <a:off x="833760" y="3537000"/>
            <a:ext cx="445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"/>
          <p:cNvSpPr/>
          <p:nvPr/>
        </p:nvSpPr>
        <p:spPr>
          <a:xfrm>
            <a:off x="1150920" y="3622680"/>
            <a:ext cx="12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985680" y="3708360"/>
            <a:ext cx="29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amo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"/>
          <p:cNvSpPr/>
          <p:nvPr/>
        </p:nvSpPr>
        <p:spPr>
          <a:xfrm>
            <a:off x="959400" y="3795840"/>
            <a:ext cx="317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"/>
          <p:cNvSpPr/>
          <p:nvPr/>
        </p:nvSpPr>
        <p:spPr>
          <a:xfrm>
            <a:off x="1114920" y="3882960"/>
            <a:ext cx="162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Iraq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880920" y="3967200"/>
            <a:ext cx="39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ri Lank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528840" y="4054320"/>
            <a:ext cx="7520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Equatorial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"/>
          <p:cNvSpPr/>
          <p:nvPr/>
        </p:nvSpPr>
        <p:spPr>
          <a:xfrm>
            <a:off x="999360" y="4141800"/>
            <a:ext cx="27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"/>
          <p:cNvSpPr/>
          <p:nvPr/>
        </p:nvSpPr>
        <p:spPr>
          <a:xfrm>
            <a:off x="934560" y="4226040"/>
            <a:ext cx="34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Nami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"/>
          <p:cNvSpPr/>
          <p:nvPr/>
        </p:nvSpPr>
        <p:spPr>
          <a:xfrm>
            <a:off x="939240" y="431316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eneg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"/>
          <p:cNvSpPr/>
          <p:nvPr/>
        </p:nvSpPr>
        <p:spPr>
          <a:xfrm>
            <a:off x="1032480" y="440064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"/>
          <p:cNvSpPr/>
          <p:nvPr/>
        </p:nvSpPr>
        <p:spPr>
          <a:xfrm>
            <a:off x="974160" y="4486320"/>
            <a:ext cx="302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hut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1062000" y="4572000"/>
            <a:ext cx="217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yr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"/>
          <p:cNvSpPr/>
          <p:nvPr/>
        </p:nvSpPr>
        <p:spPr>
          <a:xfrm>
            <a:off x="819000" y="4659480"/>
            <a:ext cx="459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icrones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"/>
          <p:cNvSpPr/>
          <p:nvPr/>
        </p:nvSpPr>
        <p:spPr>
          <a:xfrm>
            <a:off x="836640" y="47451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"/>
          <p:cNvSpPr/>
          <p:nvPr/>
        </p:nvSpPr>
        <p:spPr>
          <a:xfrm>
            <a:off x="969480" y="4830840"/>
            <a:ext cx="3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"/>
          <p:cNvSpPr/>
          <p:nvPr/>
        </p:nvSpPr>
        <p:spPr>
          <a:xfrm>
            <a:off x="954720" y="4917960"/>
            <a:ext cx="322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"/>
          <p:cNvSpPr/>
          <p:nvPr/>
        </p:nvSpPr>
        <p:spPr>
          <a:xfrm>
            <a:off x="1062720" y="5003640"/>
            <a:ext cx="214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"/>
          <p:cNvSpPr/>
          <p:nvPr/>
        </p:nvSpPr>
        <p:spPr>
          <a:xfrm>
            <a:off x="744840" y="5091120"/>
            <a:ext cx="534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ierra Leon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"/>
          <p:cNvSpPr/>
          <p:nvPr/>
        </p:nvSpPr>
        <p:spPr>
          <a:xfrm>
            <a:off x="931320" y="5176800"/>
            <a:ext cx="346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848160" y="5262480"/>
            <a:ext cx="430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Zimbabw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488160" y="5349960"/>
            <a:ext cx="791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Papua New Guinea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"/>
          <p:cNvSpPr/>
          <p:nvPr/>
        </p:nvSpPr>
        <p:spPr>
          <a:xfrm>
            <a:off x="939240" y="5435640"/>
            <a:ext cx="337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"/>
          <p:cNvSpPr/>
          <p:nvPr/>
        </p:nvSpPr>
        <p:spPr>
          <a:xfrm>
            <a:off x="576720" y="5521320"/>
            <a:ext cx="703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92080" y="5608800"/>
            <a:ext cx="38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"/>
          <p:cNvSpPr/>
          <p:nvPr/>
        </p:nvSpPr>
        <p:spPr>
          <a:xfrm>
            <a:off x="4058640" y="612144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"/>
          <p:cNvSpPr/>
          <p:nvPr/>
        </p:nvSpPr>
        <p:spPr>
          <a:xfrm>
            <a:off x="3836880" y="3440160"/>
            <a:ext cx="2027520" cy="76320"/>
          </a:xfrm>
          <a:custGeom>
            <a:avLst/>
            <a:gdLst/>
            <a:ahLst/>
            <a:rect l="l" t="t" r="r" b="b"/>
            <a:pathLst>
              <a:path w="2555" h="96">
                <a:moveTo>
                  <a:pt x="2547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5"/>
                </a:lnTo>
                <a:lnTo>
                  <a:pt x="73" y="43"/>
                </a:lnTo>
                <a:lnTo>
                  <a:pt x="77" y="41"/>
                </a:lnTo>
                <a:lnTo>
                  <a:pt x="79" y="39"/>
                </a:lnTo>
                <a:lnTo>
                  <a:pt x="2547" y="39"/>
                </a:lnTo>
                <a:lnTo>
                  <a:pt x="2549" y="41"/>
                </a:lnTo>
                <a:lnTo>
                  <a:pt x="2553" y="43"/>
                </a:lnTo>
                <a:lnTo>
                  <a:pt x="2553" y="45"/>
                </a:lnTo>
                <a:lnTo>
                  <a:pt x="2555" y="48"/>
                </a:lnTo>
                <a:lnTo>
                  <a:pt x="2553" y="50"/>
                </a:lnTo>
                <a:lnTo>
                  <a:pt x="2553" y="54"/>
                </a:lnTo>
                <a:lnTo>
                  <a:pt x="2549" y="54"/>
                </a:lnTo>
                <a:lnTo>
                  <a:pt x="2547" y="56"/>
                </a:lnTo>
                <a:lnTo>
                  <a:pt x="2547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5859360" y="3365640"/>
            <a:ext cx="54612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"/>
          <p:cNvSpPr/>
          <p:nvPr/>
        </p:nvSpPr>
        <p:spPr>
          <a:xfrm>
            <a:off x="5859360" y="3365640"/>
            <a:ext cx="546120" cy="171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"/>
          <p:cNvSpPr/>
          <p:nvPr/>
        </p:nvSpPr>
        <p:spPr>
          <a:xfrm>
            <a:off x="5909760" y="337500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"/>
          <p:cNvSpPr/>
          <p:nvPr/>
        </p:nvSpPr>
        <p:spPr>
          <a:xfrm>
            <a:off x="3798720" y="3470400"/>
            <a:ext cx="76320" cy="1865160"/>
          </a:xfrm>
          <a:custGeom>
            <a:avLst/>
            <a:gdLst/>
            <a:ahLst/>
            <a:rect l="l" t="t" r="r" b="b"/>
            <a:pathLst>
              <a:path w="96" h="2349">
                <a:moveTo>
                  <a:pt x="55" y="9"/>
                </a:moveTo>
                <a:lnTo>
                  <a:pt x="55" y="2268"/>
                </a:lnTo>
                <a:lnTo>
                  <a:pt x="54" y="2272"/>
                </a:lnTo>
                <a:lnTo>
                  <a:pt x="54" y="2274"/>
                </a:lnTo>
                <a:lnTo>
                  <a:pt x="50" y="2276"/>
                </a:lnTo>
                <a:lnTo>
                  <a:pt x="48" y="2276"/>
                </a:lnTo>
                <a:lnTo>
                  <a:pt x="44" y="2276"/>
                </a:lnTo>
                <a:lnTo>
                  <a:pt x="42" y="2274"/>
                </a:lnTo>
                <a:lnTo>
                  <a:pt x="40" y="2272"/>
                </a:lnTo>
                <a:lnTo>
                  <a:pt x="38" y="2268"/>
                </a:lnTo>
                <a:lnTo>
                  <a:pt x="38" y="9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5" y="9"/>
                </a:lnTo>
                <a:lnTo>
                  <a:pt x="55" y="9"/>
                </a:lnTo>
                <a:close/>
                <a:moveTo>
                  <a:pt x="96" y="2253"/>
                </a:moveTo>
                <a:lnTo>
                  <a:pt x="48" y="2349"/>
                </a:lnTo>
                <a:lnTo>
                  <a:pt x="0" y="2253"/>
                </a:lnTo>
                <a:lnTo>
                  <a:pt x="96" y="225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3775320" y="5407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"/>
          <p:cNvSpPr/>
          <p:nvPr/>
        </p:nvSpPr>
        <p:spPr>
          <a:xfrm>
            <a:off x="3689280" y="5340240"/>
            <a:ext cx="328680" cy="31284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4" name=""/>
          <p:cNvGrpSpPr/>
          <p:nvPr/>
        </p:nvGrpSpPr>
        <p:grpSpPr>
          <a:xfrm>
            <a:off x="1514520" y="1166760"/>
            <a:ext cx="7094520" cy="4506840"/>
            <a:chOff x="1514520" y="1166760"/>
            <a:chExt cx="7094520" cy="4506840"/>
          </a:xfrm>
        </p:grpSpPr>
        <p:sp>
          <p:nvSpPr>
            <p:cNvPr id="1595" name=""/>
            <p:cNvSpPr/>
            <p:nvPr/>
          </p:nvSpPr>
          <p:spPr>
            <a:xfrm>
              <a:off x="1514520" y="1166760"/>
              <a:ext cx="7093080" cy="4506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2248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52720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3516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54168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04820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55436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506268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556740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07536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658008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8804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594560" y="1166760"/>
              <a:ext cx="180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810108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860760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514520" y="1166760"/>
              <a:ext cx="7093080" cy="45068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1514520" y="1166760"/>
              <a:ext cx="549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514520" y="1190520"/>
              <a:ext cx="5396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514520" y="1212840"/>
              <a:ext cx="53798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514520" y="1238400"/>
              <a:ext cx="50655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514520" y="1260360"/>
              <a:ext cx="506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514520" y="1282680"/>
              <a:ext cx="5019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514520" y="1306440"/>
              <a:ext cx="4951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514520" y="1330200"/>
              <a:ext cx="487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514520" y="1352520"/>
              <a:ext cx="4840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514520" y="1376280"/>
              <a:ext cx="4832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1514520" y="1398600"/>
              <a:ext cx="48070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514520" y="1424160"/>
              <a:ext cx="4772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1514520" y="1446120"/>
              <a:ext cx="4728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514520" y="1468440"/>
              <a:ext cx="4697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1514520" y="1492200"/>
              <a:ext cx="4633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514520" y="1515960"/>
              <a:ext cx="457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514520" y="1539720"/>
              <a:ext cx="4491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514520" y="1562040"/>
              <a:ext cx="4456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514520" y="1584360"/>
              <a:ext cx="44370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1514520" y="1609560"/>
              <a:ext cx="4403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514520" y="1631880"/>
              <a:ext cx="4398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514520" y="1654200"/>
              <a:ext cx="4232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514520" y="1677960"/>
              <a:ext cx="4181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514520" y="1701720"/>
              <a:ext cx="4174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514520" y="1725480"/>
              <a:ext cx="414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514520" y="1747800"/>
              <a:ext cx="4057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1514520" y="1770120"/>
              <a:ext cx="40482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1514520" y="1795320"/>
              <a:ext cx="3995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1514520" y="1817640"/>
              <a:ext cx="3979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1514520" y="1841400"/>
              <a:ext cx="3848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514520" y="1863720"/>
              <a:ext cx="3776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514520" y="1887480"/>
              <a:ext cx="3755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514520" y="1911240"/>
              <a:ext cx="3733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14520" y="1933560"/>
              <a:ext cx="3618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514520" y="1955880"/>
              <a:ext cx="36068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514520" y="1981080"/>
              <a:ext cx="3511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514520" y="2003400"/>
              <a:ext cx="3494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514520" y="2027160"/>
              <a:ext cx="340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514520" y="2049480"/>
              <a:ext cx="3305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514520" y="2073240"/>
              <a:ext cx="3263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1514520" y="2097000"/>
              <a:ext cx="3254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514520" y="2119320"/>
              <a:ext cx="32288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514520" y="2143080"/>
              <a:ext cx="313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14520" y="2166840"/>
              <a:ext cx="3125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14520" y="2189160"/>
              <a:ext cx="3106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514520" y="2212920"/>
              <a:ext cx="3105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14520" y="2235240"/>
              <a:ext cx="3092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514520" y="2259000"/>
              <a:ext cx="2949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514520" y="2282760"/>
              <a:ext cx="2936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514520" y="2305080"/>
              <a:ext cx="286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1514520" y="2328840"/>
              <a:ext cx="27939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1514520" y="2352600"/>
              <a:ext cx="2728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514520" y="2374920"/>
              <a:ext cx="2674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514520" y="2398680"/>
              <a:ext cx="2651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514520" y="2421000"/>
              <a:ext cx="25448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514520" y="2446200"/>
              <a:ext cx="2506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514520" y="2468520"/>
              <a:ext cx="2427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514520" y="2490840"/>
              <a:ext cx="2419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1514520" y="2514600"/>
              <a:ext cx="2419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514520" y="2538360"/>
              <a:ext cx="2400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514520" y="2560680"/>
              <a:ext cx="2259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514520" y="2584440"/>
              <a:ext cx="2228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514520" y="2606760"/>
              <a:ext cx="220500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1514520" y="2631960"/>
              <a:ext cx="2165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1514520" y="2654280"/>
              <a:ext cx="2154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514520" y="2676600"/>
              <a:ext cx="2108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514520" y="2700360"/>
              <a:ext cx="207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1514520" y="2724120"/>
              <a:ext cx="207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514520" y="2747880"/>
              <a:ext cx="2066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1514520" y="2770200"/>
              <a:ext cx="2055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1514520" y="2792520"/>
              <a:ext cx="20080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514520" y="2817720"/>
              <a:ext cx="1995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1514520" y="2840040"/>
              <a:ext cx="1971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1514520" y="2862360"/>
              <a:ext cx="1888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1514520" y="2886120"/>
              <a:ext cx="1838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1514520" y="2909880"/>
              <a:ext cx="1835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1514520" y="2933640"/>
              <a:ext cx="1817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1514520" y="2955960"/>
              <a:ext cx="1787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514520" y="2978280"/>
              <a:ext cx="175104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514520" y="3003480"/>
              <a:ext cx="1738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514520" y="3025800"/>
              <a:ext cx="1638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514520" y="3049560"/>
              <a:ext cx="1620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514520" y="3071880"/>
              <a:ext cx="1611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514520" y="3095640"/>
              <a:ext cx="1581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514520" y="3119400"/>
              <a:ext cx="1573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1514520" y="3141720"/>
              <a:ext cx="155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1514520" y="3164040"/>
              <a:ext cx="1525680" cy="2520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1514520" y="3189240"/>
              <a:ext cx="1525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1514520" y="3211560"/>
              <a:ext cx="1496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1514520" y="3235320"/>
              <a:ext cx="1466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1514520" y="3257640"/>
              <a:ext cx="1457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1514520" y="3281400"/>
              <a:ext cx="1431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1514520" y="3305160"/>
              <a:ext cx="1417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1514520" y="3327480"/>
              <a:ext cx="1417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1514520" y="3351240"/>
              <a:ext cx="1363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1514520" y="3375000"/>
              <a:ext cx="13446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1514520" y="3397320"/>
              <a:ext cx="1319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514520" y="3421080"/>
              <a:ext cx="1312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514520" y="3443400"/>
              <a:ext cx="1274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514520" y="3467160"/>
              <a:ext cx="1214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514520" y="3490920"/>
              <a:ext cx="1071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514520" y="3513240"/>
              <a:ext cx="1068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514520" y="3537000"/>
              <a:ext cx="1019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14520" y="3559320"/>
              <a:ext cx="984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514520" y="3583080"/>
              <a:ext cx="981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514520" y="3606840"/>
              <a:ext cx="960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514520" y="3629160"/>
              <a:ext cx="893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514520" y="3652920"/>
              <a:ext cx="866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514520" y="3676680"/>
              <a:ext cx="822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1514520" y="3699000"/>
              <a:ext cx="793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1514520" y="3722760"/>
              <a:ext cx="784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14520" y="3745080"/>
              <a:ext cx="779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1514520" y="3768840"/>
              <a:ext cx="72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1514520" y="3792600"/>
              <a:ext cx="709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1514520" y="3814920"/>
              <a:ext cx="693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1514520" y="3838680"/>
              <a:ext cx="690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1514520" y="3862440"/>
              <a:ext cx="682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1514520" y="3884760"/>
              <a:ext cx="668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1514520" y="3908520"/>
              <a:ext cx="665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514520" y="3930480"/>
              <a:ext cx="65880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514520" y="3956040"/>
              <a:ext cx="655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514520" y="3978360"/>
              <a:ext cx="644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514520" y="4000680"/>
              <a:ext cx="617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514520" y="4024440"/>
              <a:ext cx="585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14520" y="4048200"/>
              <a:ext cx="573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14520" y="4071960"/>
              <a:ext cx="5652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14520" y="4094280"/>
              <a:ext cx="561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514520" y="4116240"/>
              <a:ext cx="5522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1514520" y="4141800"/>
              <a:ext cx="550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1514520" y="4164120"/>
              <a:ext cx="549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1514520" y="4186080"/>
              <a:ext cx="5364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1514520" y="4210200"/>
              <a:ext cx="530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1514520" y="4233960"/>
              <a:ext cx="525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1514520" y="4257720"/>
              <a:ext cx="515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514520" y="4280040"/>
              <a:ext cx="503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1514520" y="4302000"/>
              <a:ext cx="47628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514520" y="4327560"/>
              <a:ext cx="46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1514520" y="4349880"/>
              <a:ext cx="458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1514520" y="4373640"/>
              <a:ext cx="442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514520" y="4395960"/>
              <a:ext cx="438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1514520" y="4419720"/>
              <a:ext cx="395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514520" y="4443480"/>
              <a:ext cx="379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514520" y="4465800"/>
              <a:ext cx="369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514520" y="4487760"/>
              <a:ext cx="3650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14520" y="4513320"/>
              <a:ext cx="358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14520" y="4535640"/>
              <a:ext cx="353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14520" y="4559400"/>
              <a:ext cx="3445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14520" y="4581360"/>
              <a:ext cx="3380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14520" y="4605480"/>
              <a:ext cx="301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14520" y="4629240"/>
              <a:ext cx="299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14520" y="4651200"/>
              <a:ext cx="2728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1514520" y="4675320"/>
              <a:ext cx="271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1514520" y="4699080"/>
              <a:ext cx="264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514520" y="4721400"/>
              <a:ext cx="263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514520" y="4745160"/>
              <a:ext cx="2365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514520" y="4767120"/>
              <a:ext cx="2268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14520" y="4791240"/>
              <a:ext cx="217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514520" y="4815000"/>
              <a:ext cx="204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514520" y="4836960"/>
              <a:ext cx="1969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514520" y="4861080"/>
              <a:ext cx="193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1514520" y="4884840"/>
              <a:ext cx="1936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514520" y="4906800"/>
              <a:ext cx="1857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514520" y="4930920"/>
              <a:ext cx="179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514520" y="4952880"/>
              <a:ext cx="14904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514520" y="4978440"/>
              <a:ext cx="136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514520" y="5000760"/>
              <a:ext cx="135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514520" y="5022720"/>
              <a:ext cx="1173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514520" y="5046840"/>
              <a:ext cx="115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514520" y="5070600"/>
              <a:ext cx="1141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514520" y="5092560"/>
              <a:ext cx="1141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514520" y="5116680"/>
              <a:ext cx="104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1514520" y="5138640"/>
              <a:ext cx="1033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14520" y="5164200"/>
              <a:ext cx="10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1514520" y="5186520"/>
              <a:ext cx="92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514520" y="5208480"/>
              <a:ext cx="92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514520" y="5232240"/>
              <a:ext cx="903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514520" y="5256360"/>
              <a:ext cx="903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514520" y="5280120"/>
              <a:ext cx="856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514520" y="5302080"/>
              <a:ext cx="77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514520" y="5324400"/>
              <a:ext cx="763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514520" y="5349960"/>
              <a:ext cx="71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514520" y="5372280"/>
              <a:ext cx="63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514520" y="5394240"/>
              <a:ext cx="60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514520" y="5418000"/>
              <a:ext cx="601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5" name=""/>
          <p:cNvGrpSpPr/>
          <p:nvPr/>
        </p:nvGrpSpPr>
        <p:grpSpPr>
          <a:xfrm>
            <a:off x="1477800" y="1166760"/>
            <a:ext cx="7131240" cy="4555800"/>
            <a:chOff x="1477800" y="1166760"/>
            <a:chExt cx="7131240" cy="4555800"/>
          </a:xfrm>
        </p:grpSpPr>
        <p:sp>
          <p:nvSpPr>
            <p:cNvPr id="1796" name=""/>
            <p:cNvSpPr/>
            <p:nvPr/>
          </p:nvSpPr>
          <p:spPr>
            <a:xfrm>
              <a:off x="1514520" y="5442120"/>
              <a:ext cx="601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514520" y="5465880"/>
              <a:ext cx="522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14520" y="5487840"/>
              <a:ext cx="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14520" y="5510160"/>
              <a:ext cx="34920" cy="255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14520" y="5535720"/>
              <a:ext cx="316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514520" y="5557680"/>
              <a:ext cx="2844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14520" y="5581800"/>
              <a:ext cx="28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14520" y="5603760"/>
              <a:ext cx="27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14520" y="5627520"/>
              <a:ext cx="2052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14520" y="5651640"/>
              <a:ext cx="158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514520" y="5673600"/>
              <a:ext cx="70930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 flipV="1">
              <a:off x="151452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 flipV="1">
              <a:off x="202248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 flipV="1">
              <a:off x="252720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 flipV="1">
              <a:off x="303516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354168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404820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455436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06268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556740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607536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 flipV="1">
              <a:off x="658008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 flipV="1">
              <a:off x="708804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 flipV="1">
              <a:off x="7594560" y="567324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 flipV="1">
              <a:off x="810108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 flipV="1">
              <a:off x="8607600" y="567324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514520" y="1166760"/>
              <a:ext cx="1440" cy="4506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477800" y="1166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477800" y="11905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477800" y="1212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477800" y="1238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1477800" y="1260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1477800" y="1282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77800" y="1306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1477800" y="1330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1477800" y="13525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477800" y="13762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477800" y="1398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1477800" y="1424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1477800" y="14461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1477800" y="1468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477800" y="1492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77800" y="15159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477800" y="1539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477800" y="15620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477800" y="1584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477800" y="16095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477800" y="16318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477800" y="1654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477800" y="1677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77800" y="1701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477800" y="1725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477800" y="17478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477800" y="1770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477800" y="17953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77800" y="18176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77800" y="18414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77800" y="1863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477800" y="1887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77800" y="1911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477800" y="1933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477800" y="1955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477800" y="1981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477800" y="2003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477800" y="20271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477800" y="2049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477800" y="2073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477800" y="20970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477800" y="2119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477800" y="2143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477800" y="21668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477800" y="2189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477800" y="22129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477800" y="2235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477800" y="2259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477800" y="2282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477800" y="230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7800" y="2328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477800" y="23526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477800" y="2374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77800" y="23986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77800" y="2421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477800" y="2446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477800" y="24685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477800" y="2490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477800" y="2514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477800" y="2538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477800" y="2560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477800" y="2584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477800" y="2606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477800" y="26319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477800" y="2654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477800" y="2676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477800" y="2700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477800" y="2724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477800" y="27478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477800" y="2770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477800" y="27925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477800" y="2817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477800" y="2840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477800" y="2862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477800" y="2886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477800" y="2909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477800" y="29336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477800" y="2955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477800" y="2978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477800" y="3003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477800" y="30258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477800" y="3049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477800" y="3071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477800" y="3095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477800" y="31194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477800" y="3141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477800" y="3164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477800" y="3189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477800" y="3211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477800" y="3235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477800" y="3257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477800" y="3281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477800" y="3305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477800" y="3327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477800" y="3351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477800" y="3375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477800" y="3397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477800" y="3421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477800" y="3443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477800" y="3467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477800" y="3490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477800" y="3513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477800" y="3537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477800" y="3559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477800" y="3583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477800" y="3606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477800" y="3629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477800" y="3652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477800" y="367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477800" y="3699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77800" y="3722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477800" y="37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477800" y="3768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477800" y="3792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477800" y="3814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77800" y="3838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477800" y="3862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477800" y="3884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477800" y="39085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477800" y="3930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477800" y="3956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77800" y="3978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477800" y="4000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477800" y="4024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477800" y="4048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477800" y="4071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477800" y="4094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477800" y="41162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77800" y="41418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477800" y="4164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477800" y="41860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477800" y="4210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477800" y="4233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477800" y="4257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477800" y="42800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477800" y="43020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477800" y="43275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477800" y="43498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477800" y="4373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477800" y="43959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477800" y="44197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77800" y="4443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477800" y="44658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477800" y="44877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77800" y="451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77800" y="45356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477800" y="4559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477800" y="45813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77800" y="46054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77800" y="4629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77800" y="46512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477800" y="4675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477800" y="4699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477800" y="47214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477800" y="47451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477800" y="47671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477800" y="47912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477800" y="48150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77800" y="48369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477800" y="4861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477800" y="4884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1477800" y="490680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1477800" y="49309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1477800" y="49528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477800" y="49784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1477800" y="50007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477800" y="502272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477800" y="504684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1477800" y="50706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1477800" y="509256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1477800" y="511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1477800" y="51386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477800" y="516420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96" name=""/>
          <p:cNvSpPr/>
          <p:nvPr/>
        </p:nvSpPr>
        <p:spPr>
          <a:xfrm>
            <a:off x="1477800" y="51865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"/>
          <p:cNvSpPr/>
          <p:nvPr/>
        </p:nvSpPr>
        <p:spPr>
          <a:xfrm>
            <a:off x="1477800" y="52084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"/>
          <p:cNvSpPr/>
          <p:nvPr/>
        </p:nvSpPr>
        <p:spPr>
          <a:xfrm>
            <a:off x="1477800" y="52322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"/>
          <p:cNvSpPr/>
          <p:nvPr/>
        </p:nvSpPr>
        <p:spPr>
          <a:xfrm>
            <a:off x="1477800" y="52563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"/>
          <p:cNvSpPr/>
          <p:nvPr/>
        </p:nvSpPr>
        <p:spPr>
          <a:xfrm>
            <a:off x="1477800" y="52801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"/>
          <p:cNvSpPr/>
          <p:nvPr/>
        </p:nvSpPr>
        <p:spPr>
          <a:xfrm>
            <a:off x="1477800" y="53020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/>
          <p:nvPr/>
        </p:nvSpPr>
        <p:spPr>
          <a:xfrm>
            <a:off x="1477800" y="53244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/>
          <p:nvPr/>
        </p:nvSpPr>
        <p:spPr>
          <a:xfrm>
            <a:off x="1477800" y="534996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"/>
          <p:cNvSpPr/>
          <p:nvPr/>
        </p:nvSpPr>
        <p:spPr>
          <a:xfrm>
            <a:off x="1477800" y="53722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"/>
          <p:cNvSpPr/>
          <p:nvPr/>
        </p:nvSpPr>
        <p:spPr>
          <a:xfrm>
            <a:off x="1477800" y="53942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"/>
          <p:cNvSpPr/>
          <p:nvPr/>
        </p:nvSpPr>
        <p:spPr>
          <a:xfrm>
            <a:off x="1477800" y="54180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"/>
          <p:cNvSpPr/>
          <p:nvPr/>
        </p:nvSpPr>
        <p:spPr>
          <a:xfrm>
            <a:off x="1477800" y="54421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"/>
          <p:cNvSpPr/>
          <p:nvPr/>
        </p:nvSpPr>
        <p:spPr>
          <a:xfrm>
            <a:off x="1477800" y="546588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"/>
          <p:cNvSpPr/>
          <p:nvPr/>
        </p:nvSpPr>
        <p:spPr>
          <a:xfrm>
            <a:off x="1477800" y="548784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"/>
          <p:cNvSpPr/>
          <p:nvPr/>
        </p:nvSpPr>
        <p:spPr>
          <a:xfrm>
            <a:off x="1477800" y="55101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"/>
          <p:cNvSpPr/>
          <p:nvPr/>
        </p:nvSpPr>
        <p:spPr>
          <a:xfrm>
            <a:off x="1477800" y="553572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"/>
          <p:cNvSpPr/>
          <p:nvPr/>
        </p:nvSpPr>
        <p:spPr>
          <a:xfrm>
            <a:off x="1477800" y="555768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"/>
          <p:cNvSpPr/>
          <p:nvPr/>
        </p:nvSpPr>
        <p:spPr>
          <a:xfrm>
            <a:off x="1477800" y="558180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"/>
          <p:cNvSpPr/>
          <p:nvPr/>
        </p:nvSpPr>
        <p:spPr>
          <a:xfrm>
            <a:off x="1477800" y="560376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"/>
          <p:cNvSpPr/>
          <p:nvPr/>
        </p:nvSpPr>
        <p:spPr>
          <a:xfrm>
            <a:off x="1477800" y="562752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"/>
          <p:cNvSpPr/>
          <p:nvPr/>
        </p:nvSpPr>
        <p:spPr>
          <a:xfrm>
            <a:off x="1477800" y="5651640"/>
            <a:ext cx="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"/>
          <p:cNvSpPr/>
          <p:nvPr/>
        </p:nvSpPr>
        <p:spPr>
          <a:xfrm>
            <a:off x="1477800" y="5673600"/>
            <a:ext cx="36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"/>
          <p:cNvSpPr/>
          <p:nvPr/>
        </p:nvSpPr>
        <p:spPr>
          <a:xfrm>
            <a:off x="490680" y="611280"/>
            <a:ext cx="82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lative disparities for Internet users per 100 inhabitants in 2008 (Index Sweden=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"/>
          <p:cNvSpPr/>
          <p:nvPr/>
        </p:nvSpPr>
        <p:spPr>
          <a:xfrm>
            <a:off x="1470960" y="58086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"/>
          <p:cNvSpPr/>
          <p:nvPr/>
        </p:nvSpPr>
        <p:spPr>
          <a:xfrm>
            <a:off x="193536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"/>
          <p:cNvSpPr/>
          <p:nvPr/>
        </p:nvSpPr>
        <p:spPr>
          <a:xfrm>
            <a:off x="244188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"/>
          <p:cNvSpPr/>
          <p:nvPr/>
        </p:nvSpPr>
        <p:spPr>
          <a:xfrm>
            <a:off x="294804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"/>
          <p:cNvSpPr/>
          <p:nvPr/>
        </p:nvSpPr>
        <p:spPr>
          <a:xfrm>
            <a:off x="345456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"/>
          <p:cNvSpPr/>
          <p:nvPr/>
        </p:nvSpPr>
        <p:spPr>
          <a:xfrm>
            <a:off x="396252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"/>
          <p:cNvSpPr/>
          <p:nvPr/>
        </p:nvSpPr>
        <p:spPr>
          <a:xfrm>
            <a:off x="446724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"/>
          <p:cNvSpPr/>
          <p:nvPr/>
        </p:nvSpPr>
        <p:spPr>
          <a:xfrm>
            <a:off x="497520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"/>
          <p:cNvSpPr/>
          <p:nvPr/>
        </p:nvSpPr>
        <p:spPr>
          <a:xfrm>
            <a:off x="548028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/>
          <p:nvPr/>
        </p:nvSpPr>
        <p:spPr>
          <a:xfrm>
            <a:off x="5988240" y="5808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"/>
          <p:cNvSpPr/>
          <p:nvPr/>
        </p:nvSpPr>
        <p:spPr>
          <a:xfrm>
            <a:off x="645120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"/>
          <p:cNvSpPr/>
          <p:nvPr/>
        </p:nvSpPr>
        <p:spPr>
          <a:xfrm>
            <a:off x="695736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"/>
          <p:cNvSpPr/>
          <p:nvPr/>
        </p:nvSpPr>
        <p:spPr>
          <a:xfrm>
            <a:off x="746388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"/>
          <p:cNvSpPr/>
          <p:nvPr/>
        </p:nvSpPr>
        <p:spPr>
          <a:xfrm>
            <a:off x="797184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"/>
          <p:cNvSpPr/>
          <p:nvPr/>
        </p:nvSpPr>
        <p:spPr>
          <a:xfrm>
            <a:off x="8476560" y="580860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"/>
          <p:cNvSpPr/>
          <p:nvPr/>
        </p:nvSpPr>
        <p:spPr>
          <a:xfrm>
            <a:off x="760320" y="110808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"/>
          <p:cNvSpPr/>
          <p:nvPr/>
        </p:nvSpPr>
        <p:spPr>
          <a:xfrm>
            <a:off x="1014480" y="1224000"/>
            <a:ext cx="40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in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"/>
          <p:cNvSpPr/>
          <p:nvPr/>
        </p:nvSpPr>
        <p:spPr>
          <a:xfrm>
            <a:off x="682200" y="1339920"/>
            <a:ext cx="741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roe Island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"/>
          <p:cNvSpPr/>
          <p:nvPr/>
        </p:nvSpPr>
        <p:spPr>
          <a:xfrm>
            <a:off x="933840" y="145584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"/>
          <p:cNvSpPr/>
          <p:nvPr/>
        </p:nvSpPr>
        <p:spPr>
          <a:xfrm>
            <a:off x="1090800" y="157320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"/>
          <p:cNvSpPr/>
          <p:nvPr/>
        </p:nvSpPr>
        <p:spPr>
          <a:xfrm>
            <a:off x="1048320" y="168912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re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"/>
          <p:cNvSpPr/>
          <p:nvPr/>
        </p:nvSpPr>
        <p:spPr>
          <a:xfrm>
            <a:off x="1031040" y="180504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ustr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"/>
          <p:cNvSpPr/>
          <p:nvPr/>
        </p:nvSpPr>
        <p:spPr>
          <a:xfrm>
            <a:off x="1092600" y="19191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"/>
          <p:cNvSpPr/>
          <p:nvPr/>
        </p:nvSpPr>
        <p:spPr>
          <a:xfrm>
            <a:off x="1048320" y="2036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ran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"/>
          <p:cNvSpPr/>
          <p:nvPr/>
        </p:nvSpPr>
        <p:spPr>
          <a:xfrm>
            <a:off x="1061280" y="215280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une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"/>
          <p:cNvSpPr/>
          <p:nvPr/>
        </p:nvSpPr>
        <p:spPr>
          <a:xfrm>
            <a:off x="1041840" y="226836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l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"/>
          <p:cNvSpPr/>
          <p:nvPr/>
        </p:nvSpPr>
        <p:spPr>
          <a:xfrm>
            <a:off x="906480" y="238428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"/>
          <p:cNvSpPr/>
          <p:nvPr/>
        </p:nvSpPr>
        <p:spPr>
          <a:xfrm>
            <a:off x="1112040" y="250020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"/>
          <p:cNvSpPr/>
          <p:nvPr/>
        </p:nvSpPr>
        <p:spPr>
          <a:xfrm>
            <a:off x="1053000" y="261792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r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"/>
          <p:cNvSpPr/>
          <p:nvPr/>
        </p:nvSpPr>
        <p:spPr>
          <a:xfrm>
            <a:off x="1047240" y="2733840"/>
            <a:ext cx="37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"/>
          <p:cNvSpPr/>
          <p:nvPr/>
        </p:nvSpPr>
        <p:spPr>
          <a:xfrm>
            <a:off x="1124280" y="2849400"/>
            <a:ext cx="300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"/>
          <p:cNvSpPr/>
          <p:nvPr/>
        </p:nvSpPr>
        <p:spPr>
          <a:xfrm>
            <a:off x="555120" y="2965320"/>
            <a:ext cx="867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ominican Re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"/>
          <p:cNvSpPr/>
          <p:nvPr/>
        </p:nvSpPr>
        <p:spPr>
          <a:xfrm>
            <a:off x="1041840" y="308304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Jord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"/>
          <p:cNvSpPr/>
          <p:nvPr/>
        </p:nvSpPr>
        <p:spPr>
          <a:xfrm>
            <a:off x="982800" y="319896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nam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"/>
          <p:cNvSpPr/>
          <p:nvPr/>
        </p:nvSpPr>
        <p:spPr>
          <a:xfrm>
            <a:off x="1048320" y="3314880"/>
            <a:ext cx="37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uss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"/>
          <p:cNvSpPr/>
          <p:nvPr/>
        </p:nvSpPr>
        <p:spPr>
          <a:xfrm>
            <a:off x="1099440" y="3429000"/>
            <a:ext cx="325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Om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"/>
          <p:cNvSpPr/>
          <p:nvPr/>
        </p:nvSpPr>
        <p:spPr>
          <a:xfrm>
            <a:off x="1010160" y="3546360"/>
            <a:ext cx="415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"/>
          <p:cNvSpPr/>
          <p:nvPr/>
        </p:nvSpPr>
        <p:spPr>
          <a:xfrm>
            <a:off x="783720" y="366228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azakh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/>
          <p:nvPr/>
        </p:nvSpPr>
        <p:spPr>
          <a:xfrm>
            <a:off x="1090800" y="377820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1175760" y="3894120"/>
            <a:ext cx="249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ai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"/>
          <p:cNvSpPr/>
          <p:nvPr/>
        </p:nvSpPr>
        <p:spPr>
          <a:xfrm>
            <a:off x="817200" y="4011480"/>
            <a:ext cx="60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"/>
          <p:cNvSpPr/>
          <p:nvPr/>
        </p:nvSpPr>
        <p:spPr>
          <a:xfrm>
            <a:off x="745200" y="41274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"/>
          <p:cNvSpPr/>
          <p:nvPr/>
        </p:nvSpPr>
        <p:spPr>
          <a:xfrm>
            <a:off x="972000" y="42433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Vanuat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1061280" y="43592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Gab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"/>
          <p:cNvSpPr/>
          <p:nvPr/>
        </p:nvSpPr>
        <p:spPr>
          <a:xfrm>
            <a:off x="1020960" y="44766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"/>
          <p:cNvSpPr/>
          <p:nvPr/>
        </p:nvSpPr>
        <p:spPr>
          <a:xfrm>
            <a:off x="1061280" y="459252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ong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"/>
          <p:cNvSpPr/>
          <p:nvPr/>
        </p:nvSpPr>
        <p:spPr>
          <a:xfrm>
            <a:off x="976680" y="470844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esoth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"/>
          <p:cNvSpPr/>
          <p:nvPr/>
        </p:nvSpPr>
        <p:spPr>
          <a:xfrm>
            <a:off x="1061280" y="482436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ritre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"/>
          <p:cNvSpPr/>
          <p:nvPr/>
        </p:nvSpPr>
        <p:spPr>
          <a:xfrm>
            <a:off x="1029600" y="4940280"/>
            <a:ext cx="39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Kiriba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"/>
          <p:cNvSpPr/>
          <p:nvPr/>
        </p:nvSpPr>
        <p:spPr>
          <a:xfrm>
            <a:off x="758880" y="505620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dagasc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"/>
          <p:cNvSpPr/>
          <p:nvPr/>
        </p:nvSpPr>
        <p:spPr>
          <a:xfrm>
            <a:off x="1112040" y="5172120"/>
            <a:ext cx="31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"/>
          <p:cNvSpPr/>
          <p:nvPr/>
        </p:nvSpPr>
        <p:spPr>
          <a:xfrm>
            <a:off x="982800" y="528804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ma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"/>
          <p:cNvSpPr/>
          <p:nvPr/>
        </p:nvSpPr>
        <p:spPr>
          <a:xfrm>
            <a:off x="985320" y="5403960"/>
            <a:ext cx="43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Burund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"/>
          <p:cNvSpPr/>
          <p:nvPr/>
        </p:nvSpPr>
        <p:spPr>
          <a:xfrm>
            <a:off x="972000" y="55213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"/>
          <p:cNvSpPr/>
          <p:nvPr/>
        </p:nvSpPr>
        <p:spPr>
          <a:xfrm>
            <a:off x="4325400" y="606888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"/>
          <p:cNvSpPr/>
          <p:nvPr/>
        </p:nvSpPr>
        <p:spPr>
          <a:xfrm>
            <a:off x="5538600" y="342108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"/>
          <p:cNvSpPr/>
          <p:nvPr/>
        </p:nvSpPr>
        <p:spPr>
          <a:xfrm>
            <a:off x="2841480" y="3365640"/>
            <a:ext cx="758880" cy="75960"/>
          </a:xfrm>
          <a:custGeom>
            <a:avLst/>
            <a:gdLst/>
            <a:ahLst/>
            <a:rect l="l" t="t" r="r" b="b"/>
            <a:pathLst>
              <a:path w="956" h="96">
                <a:moveTo>
                  <a:pt x="949" y="56"/>
                </a:moveTo>
                <a:lnTo>
                  <a:pt x="79" y="56"/>
                </a:lnTo>
                <a:lnTo>
                  <a:pt x="77" y="54"/>
                </a:lnTo>
                <a:lnTo>
                  <a:pt x="73" y="54"/>
                </a:lnTo>
                <a:lnTo>
                  <a:pt x="71" y="50"/>
                </a:lnTo>
                <a:lnTo>
                  <a:pt x="71" y="48"/>
                </a:lnTo>
                <a:lnTo>
                  <a:pt x="71" y="44"/>
                </a:lnTo>
                <a:lnTo>
                  <a:pt x="73" y="43"/>
                </a:lnTo>
                <a:lnTo>
                  <a:pt x="77" y="41"/>
                </a:lnTo>
                <a:lnTo>
                  <a:pt x="79" y="39"/>
                </a:lnTo>
                <a:lnTo>
                  <a:pt x="949" y="39"/>
                </a:lnTo>
                <a:lnTo>
                  <a:pt x="951" y="41"/>
                </a:lnTo>
                <a:lnTo>
                  <a:pt x="954" y="43"/>
                </a:lnTo>
                <a:lnTo>
                  <a:pt x="954" y="44"/>
                </a:lnTo>
                <a:lnTo>
                  <a:pt x="956" y="48"/>
                </a:lnTo>
                <a:lnTo>
                  <a:pt x="954" y="50"/>
                </a:lnTo>
                <a:lnTo>
                  <a:pt x="954" y="54"/>
                </a:lnTo>
                <a:lnTo>
                  <a:pt x="951" y="54"/>
                </a:lnTo>
                <a:lnTo>
                  <a:pt x="949" y="56"/>
                </a:lnTo>
                <a:lnTo>
                  <a:pt x="949" y="56"/>
                </a:lnTo>
                <a:close/>
                <a:moveTo>
                  <a:pt x="96" y="96"/>
                </a:moveTo>
                <a:lnTo>
                  <a:pt x="0" y="48"/>
                </a:lnTo>
                <a:lnTo>
                  <a:pt x="96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"/>
          <p:cNvSpPr/>
          <p:nvPr/>
        </p:nvSpPr>
        <p:spPr>
          <a:xfrm>
            <a:off x="2820960" y="3395520"/>
            <a:ext cx="58680" cy="1895760"/>
          </a:xfrm>
          <a:custGeom>
            <a:avLst/>
            <a:gdLst/>
            <a:ahLst/>
            <a:rect l="l" t="t" r="r" b="b"/>
            <a:pathLst>
              <a:path w="96" h="2625">
                <a:moveTo>
                  <a:pt x="56" y="9"/>
                </a:moveTo>
                <a:lnTo>
                  <a:pt x="56" y="2545"/>
                </a:lnTo>
                <a:lnTo>
                  <a:pt x="54" y="2549"/>
                </a:lnTo>
                <a:lnTo>
                  <a:pt x="54" y="2551"/>
                </a:lnTo>
                <a:lnTo>
                  <a:pt x="50" y="2552"/>
                </a:lnTo>
                <a:lnTo>
                  <a:pt x="48" y="2552"/>
                </a:lnTo>
                <a:lnTo>
                  <a:pt x="45" y="2552"/>
                </a:lnTo>
                <a:lnTo>
                  <a:pt x="43" y="2551"/>
                </a:lnTo>
                <a:lnTo>
                  <a:pt x="41" y="2549"/>
                </a:lnTo>
                <a:lnTo>
                  <a:pt x="39" y="2545"/>
                </a:lnTo>
                <a:lnTo>
                  <a:pt x="39" y="9"/>
                </a:lnTo>
                <a:lnTo>
                  <a:pt x="41" y="5"/>
                </a:lnTo>
                <a:lnTo>
                  <a:pt x="43" y="4"/>
                </a:lnTo>
                <a:lnTo>
                  <a:pt x="45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5"/>
                </a:lnTo>
                <a:lnTo>
                  <a:pt x="56" y="9"/>
                </a:lnTo>
                <a:lnTo>
                  <a:pt x="56" y="9"/>
                </a:lnTo>
                <a:close/>
                <a:moveTo>
                  <a:pt x="96" y="2529"/>
                </a:moveTo>
                <a:lnTo>
                  <a:pt x="48" y="2625"/>
                </a:lnTo>
                <a:lnTo>
                  <a:pt x="0" y="2529"/>
                </a:lnTo>
                <a:lnTo>
                  <a:pt x="96" y="252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"/>
          <p:cNvSpPr/>
          <p:nvPr/>
        </p:nvSpPr>
        <p:spPr>
          <a:xfrm>
            <a:off x="3389400" y="3290760"/>
            <a:ext cx="533160" cy="18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"/>
          <p:cNvSpPr/>
          <p:nvPr/>
        </p:nvSpPr>
        <p:spPr>
          <a:xfrm>
            <a:off x="3389400" y="3290760"/>
            <a:ext cx="533160" cy="184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"/>
          <p:cNvSpPr/>
          <p:nvPr/>
        </p:nvSpPr>
        <p:spPr>
          <a:xfrm>
            <a:off x="3433320" y="330660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"/>
          <p:cNvSpPr/>
          <p:nvPr/>
        </p:nvSpPr>
        <p:spPr>
          <a:xfrm>
            <a:off x="2741760" y="53863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"/>
          <p:cNvSpPr/>
          <p:nvPr/>
        </p:nvSpPr>
        <p:spPr>
          <a:xfrm>
            <a:off x="2664000" y="5315040"/>
            <a:ext cx="328320" cy="31248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2" name=""/>
          <p:cNvGrpSpPr/>
          <p:nvPr/>
        </p:nvGrpSpPr>
        <p:grpSpPr>
          <a:xfrm>
            <a:off x="1512720" y="1441440"/>
            <a:ext cx="7096320" cy="4233600"/>
            <a:chOff x="1512720" y="1441440"/>
            <a:chExt cx="7096320" cy="4233600"/>
          </a:xfrm>
        </p:grpSpPr>
        <p:sp>
          <p:nvSpPr>
            <p:cNvPr id="2083" name=""/>
            <p:cNvSpPr/>
            <p:nvPr/>
          </p:nvSpPr>
          <p:spPr>
            <a:xfrm>
              <a:off x="1512720" y="1441440"/>
              <a:ext cx="7094880" cy="41846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90800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30040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69568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09096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48300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87828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427212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66560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506088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545472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84820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24204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63732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3116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42464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781992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8211960" y="1441440"/>
              <a:ext cx="180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8607600" y="1441440"/>
              <a:ext cx="1440" cy="4184640"/>
            </a:xfrm>
            <a:prstGeom prst="line">
              <a:avLst/>
            </a:prstGeom>
            <a:ln w="0">
              <a:solidFill>
                <a:srgbClr val="000000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1512720" y="1441440"/>
              <a:ext cx="7094880" cy="418464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1512720" y="1441440"/>
              <a:ext cx="5807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1512720" y="1465200"/>
              <a:ext cx="5127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1512720" y="1487520"/>
              <a:ext cx="490716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1512720" y="1508040"/>
              <a:ext cx="48880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1512720" y="1531800"/>
              <a:ext cx="4668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1512720" y="1554120"/>
              <a:ext cx="4348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1512720" y="1577880"/>
              <a:ext cx="40975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1512720" y="1598760"/>
              <a:ext cx="40514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1512720" y="1620720"/>
              <a:ext cx="3986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1512720" y="1644480"/>
              <a:ext cx="3978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12720" y="1666800"/>
              <a:ext cx="3942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1512720" y="1689120"/>
              <a:ext cx="39308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1512720" y="1711440"/>
              <a:ext cx="3560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512720" y="1733400"/>
              <a:ext cx="3549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512720" y="1757520"/>
              <a:ext cx="3489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1512720" y="1779480"/>
              <a:ext cx="3486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512720" y="1801800"/>
              <a:ext cx="3346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1512720" y="1824120"/>
              <a:ext cx="3326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512720" y="1846440"/>
              <a:ext cx="3272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512720" y="1870200"/>
              <a:ext cx="3110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1512720" y="1890720"/>
              <a:ext cx="3044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1512720" y="1914480"/>
              <a:ext cx="2990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1512720" y="1936800"/>
              <a:ext cx="2940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1512720" y="1959120"/>
              <a:ext cx="29019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1512720" y="1981080"/>
              <a:ext cx="2829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1512720" y="2003400"/>
              <a:ext cx="27417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512720" y="2027160"/>
              <a:ext cx="27147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512720" y="2049480"/>
              <a:ext cx="2702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512720" y="2071800"/>
              <a:ext cx="26784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1512720" y="2093760"/>
              <a:ext cx="263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1512720" y="2116080"/>
              <a:ext cx="2630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1512720" y="2139840"/>
              <a:ext cx="2538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1512720" y="2162160"/>
              <a:ext cx="253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1512720" y="2182680"/>
              <a:ext cx="245268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1512720" y="2206800"/>
              <a:ext cx="2386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1512720" y="2228760"/>
              <a:ext cx="2368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1512720" y="2252520"/>
              <a:ext cx="22323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1512720" y="2273400"/>
              <a:ext cx="2232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1512720" y="2295360"/>
              <a:ext cx="22161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1512720" y="2319480"/>
              <a:ext cx="19954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1512720" y="2341440"/>
              <a:ext cx="1892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1512720" y="2365200"/>
              <a:ext cx="18637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1512720" y="2386080"/>
              <a:ext cx="1862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1512720" y="2409840"/>
              <a:ext cx="1847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512720" y="2432160"/>
              <a:ext cx="1476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1512720" y="2454120"/>
              <a:ext cx="1430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1512720" y="2476440"/>
              <a:ext cx="127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1512720" y="2498760"/>
              <a:ext cx="1260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512720" y="2522520"/>
              <a:ext cx="1238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1512720" y="2544840"/>
              <a:ext cx="11923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1512720" y="2565360"/>
              <a:ext cx="1190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1512720" y="2589120"/>
              <a:ext cx="1149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1512720" y="2611440"/>
              <a:ext cx="1143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512720" y="2635200"/>
              <a:ext cx="1141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512720" y="2657520"/>
              <a:ext cx="11052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512720" y="2678040"/>
              <a:ext cx="10828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512720" y="2701800"/>
              <a:ext cx="1076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512720" y="2724120"/>
              <a:ext cx="10731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1512720" y="2747880"/>
              <a:ext cx="104328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512720" y="2768760"/>
              <a:ext cx="10130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1512720" y="2790720"/>
              <a:ext cx="959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512720" y="2814480"/>
              <a:ext cx="9543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12720" y="2836800"/>
              <a:ext cx="949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512720" y="2859120"/>
              <a:ext cx="924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1512720" y="2881440"/>
              <a:ext cx="8510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1512720" y="2903400"/>
              <a:ext cx="8445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12720" y="2927520"/>
              <a:ext cx="8398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1512720" y="2949480"/>
              <a:ext cx="716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12720" y="2971800"/>
              <a:ext cx="669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512720" y="2994120"/>
              <a:ext cx="648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1512720" y="3016080"/>
              <a:ext cx="64296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12720" y="3040200"/>
              <a:ext cx="62892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1512720" y="3060720"/>
              <a:ext cx="6224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12720" y="3084480"/>
              <a:ext cx="6001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1512720" y="3106800"/>
              <a:ext cx="578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12720" y="3129120"/>
              <a:ext cx="5493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12720" y="3151080"/>
              <a:ext cx="544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12720" y="3173400"/>
              <a:ext cx="5176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512720" y="3197160"/>
              <a:ext cx="503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512720" y="3219480"/>
              <a:ext cx="4874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2720" y="3241800"/>
              <a:ext cx="462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2720" y="3263760"/>
              <a:ext cx="452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12720" y="3286080"/>
              <a:ext cx="446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12720" y="3309840"/>
              <a:ext cx="446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512720" y="3332160"/>
              <a:ext cx="43200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512720" y="3352680"/>
              <a:ext cx="3985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512720" y="3376440"/>
              <a:ext cx="3715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512720" y="3398760"/>
              <a:ext cx="351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512720" y="3422520"/>
              <a:ext cx="34776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512720" y="3443400"/>
              <a:ext cx="324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512720" y="3467160"/>
              <a:ext cx="311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512720" y="3489480"/>
              <a:ext cx="2937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512720" y="3511440"/>
              <a:ext cx="284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512720" y="3535200"/>
              <a:ext cx="25740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512720" y="3556080"/>
              <a:ext cx="2286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12720" y="3579840"/>
              <a:ext cx="227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2720" y="3602160"/>
              <a:ext cx="227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2720" y="3624120"/>
              <a:ext cx="201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12720" y="3646440"/>
              <a:ext cx="2019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512720" y="3668760"/>
              <a:ext cx="196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12720" y="3692520"/>
              <a:ext cx="1936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512720" y="3714840"/>
              <a:ext cx="1936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512720" y="3735360"/>
              <a:ext cx="1908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512720" y="3759120"/>
              <a:ext cx="189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512720" y="3781440"/>
              <a:ext cx="179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512720" y="3805200"/>
              <a:ext cx="1778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512720" y="3825720"/>
              <a:ext cx="176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512720" y="3848040"/>
              <a:ext cx="169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512720" y="3871800"/>
              <a:ext cx="157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1512720" y="3894120"/>
              <a:ext cx="142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1512720" y="3917880"/>
              <a:ext cx="1238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1512720" y="3938760"/>
              <a:ext cx="108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1512720" y="3960720"/>
              <a:ext cx="1080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512720" y="3984480"/>
              <a:ext cx="1065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1512720" y="4006800"/>
              <a:ext cx="101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1512720" y="4029120"/>
              <a:ext cx="1000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1512720" y="4051440"/>
              <a:ext cx="986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512720" y="4073400"/>
              <a:ext cx="95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512720" y="4097160"/>
              <a:ext cx="7632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1512720" y="4118040"/>
              <a:ext cx="71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512720" y="4141800"/>
              <a:ext cx="6516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1512720" y="4164120"/>
              <a:ext cx="65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1512720" y="4186080"/>
              <a:ext cx="55800" cy="241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1512720" y="4210200"/>
              <a:ext cx="460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1512720" y="4230720"/>
              <a:ext cx="414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1512720" y="4254480"/>
              <a:ext cx="41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1512720" y="4276800"/>
              <a:ext cx="41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1512720" y="4299120"/>
              <a:ext cx="3672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512720" y="4321080"/>
              <a:ext cx="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12720" y="4343400"/>
              <a:ext cx="349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512720" y="4367160"/>
              <a:ext cx="349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512720" y="4389480"/>
              <a:ext cx="288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1512720" y="4411800"/>
              <a:ext cx="2700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1512720" y="4433760"/>
              <a:ext cx="270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1512720" y="4456080"/>
              <a:ext cx="2556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1512720" y="4479840"/>
              <a:ext cx="223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512720" y="4502160"/>
              <a:ext cx="208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512720" y="4524480"/>
              <a:ext cx="190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512720" y="4546440"/>
              <a:ext cx="176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1512720" y="4568760"/>
              <a:ext cx="176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1512720" y="4592520"/>
              <a:ext cx="17640" cy="2088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512720" y="4613400"/>
              <a:ext cx="1620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1512720" y="4637160"/>
              <a:ext cx="1440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512720" y="4659480"/>
              <a:ext cx="1116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1512720" y="4681440"/>
              <a:ext cx="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1512720" y="4703760"/>
              <a:ext cx="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1512720" y="4726080"/>
              <a:ext cx="972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1512720" y="4749840"/>
              <a:ext cx="972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1512720" y="4772160"/>
              <a:ext cx="828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1512720" y="4794120"/>
              <a:ext cx="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1512720" y="4816440"/>
              <a:ext cx="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1512720" y="4838760"/>
              <a:ext cx="82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512720" y="4862520"/>
              <a:ext cx="82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512720" y="4884840"/>
              <a:ext cx="828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512720" y="4905360"/>
              <a:ext cx="648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1512720" y="4929120"/>
              <a:ext cx="648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1512720" y="4951440"/>
              <a:ext cx="5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512720" y="4975200"/>
              <a:ext cx="50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1512720" y="4995720"/>
              <a:ext cx="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1512720" y="5018040"/>
              <a:ext cx="50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1512720" y="5041800"/>
              <a:ext cx="50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1512720" y="5064120"/>
              <a:ext cx="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1512720" y="5087880"/>
              <a:ext cx="3240" cy="205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512720" y="510840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1512720" y="5130720"/>
              <a:ext cx="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1512720" y="515448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512720" y="517680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1512720" y="5199120"/>
              <a:ext cx="3240" cy="2232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1512720" y="5221440"/>
              <a:ext cx="3240" cy="219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1512720" y="5243400"/>
              <a:ext cx="3240" cy="23760"/>
            </a:xfrm>
            <a:prstGeom prst="rect">
              <a:avLst/>
            </a:prstGeom>
            <a:solidFill>
              <a:srgbClr val="0000ff"/>
            </a:solidFill>
            <a:ln w="0">
              <a:solidFill>
                <a:srgbClr val="ffff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1512720" y="5626080"/>
              <a:ext cx="70948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V="1">
              <a:off x="1512720" y="56257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 flipV="1">
              <a:off x="1908000" y="56257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230040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 flipV="1">
              <a:off x="269568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V="1">
              <a:off x="309096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 flipV="1">
              <a:off x="348300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V="1">
              <a:off x="387828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4272120" y="562572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V="1">
              <a:off x="4665600" y="562572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3" name=""/>
          <p:cNvSpPr/>
          <p:nvPr/>
        </p:nvSpPr>
        <p:spPr>
          <a:xfrm flipV="1">
            <a:off x="506088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"/>
          <p:cNvSpPr/>
          <p:nvPr/>
        </p:nvSpPr>
        <p:spPr>
          <a:xfrm flipV="1">
            <a:off x="545472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"/>
          <p:cNvSpPr/>
          <p:nvPr/>
        </p:nvSpPr>
        <p:spPr>
          <a:xfrm flipV="1">
            <a:off x="584820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"/>
          <p:cNvSpPr/>
          <p:nvPr/>
        </p:nvSpPr>
        <p:spPr>
          <a:xfrm flipV="1">
            <a:off x="624204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"/>
          <p:cNvSpPr/>
          <p:nvPr/>
        </p:nvSpPr>
        <p:spPr>
          <a:xfrm flipV="1">
            <a:off x="663732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"/>
          <p:cNvSpPr/>
          <p:nvPr/>
        </p:nvSpPr>
        <p:spPr>
          <a:xfrm flipV="1">
            <a:off x="703116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"/>
          <p:cNvSpPr/>
          <p:nvPr/>
        </p:nvSpPr>
        <p:spPr>
          <a:xfrm flipV="1">
            <a:off x="742464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"/>
          <p:cNvSpPr/>
          <p:nvPr/>
        </p:nvSpPr>
        <p:spPr>
          <a:xfrm flipV="1">
            <a:off x="781992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"/>
          <p:cNvSpPr/>
          <p:nvPr/>
        </p:nvSpPr>
        <p:spPr>
          <a:xfrm flipV="1">
            <a:off x="8211960" y="562572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"/>
          <p:cNvSpPr/>
          <p:nvPr/>
        </p:nvSpPr>
        <p:spPr>
          <a:xfrm flipV="1">
            <a:off x="8607600" y="562572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"/>
          <p:cNvSpPr/>
          <p:nvPr/>
        </p:nvSpPr>
        <p:spPr>
          <a:xfrm>
            <a:off x="1512720" y="1441440"/>
            <a:ext cx="1800" cy="4184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"/>
          <p:cNvSpPr/>
          <p:nvPr/>
        </p:nvSpPr>
        <p:spPr>
          <a:xfrm>
            <a:off x="1232280" y="635040"/>
            <a:ext cx="682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Relative disparities in Internet subscribers (Total fixed broadband) p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"/>
          <p:cNvSpPr/>
          <p:nvPr/>
        </p:nvSpPr>
        <p:spPr>
          <a:xfrm>
            <a:off x="1652040" y="911160"/>
            <a:ext cx="590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100 inhabitants for 186 countries in 2008 (Index Sweden=1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"/>
          <p:cNvSpPr/>
          <p:nvPr/>
        </p:nvSpPr>
        <p:spPr>
          <a:xfrm>
            <a:off x="1469160" y="57625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"/>
          <p:cNvSpPr/>
          <p:nvPr/>
        </p:nvSpPr>
        <p:spPr>
          <a:xfrm>
            <a:off x="182088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"/>
          <p:cNvSpPr/>
          <p:nvPr/>
        </p:nvSpPr>
        <p:spPr>
          <a:xfrm>
            <a:off x="221472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"/>
          <p:cNvSpPr/>
          <p:nvPr/>
        </p:nvSpPr>
        <p:spPr>
          <a:xfrm>
            <a:off x="260856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"/>
          <p:cNvSpPr/>
          <p:nvPr/>
        </p:nvSpPr>
        <p:spPr>
          <a:xfrm>
            <a:off x="300384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"/>
          <p:cNvSpPr/>
          <p:nvPr/>
        </p:nvSpPr>
        <p:spPr>
          <a:xfrm>
            <a:off x="339588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"/>
          <p:cNvSpPr/>
          <p:nvPr/>
        </p:nvSpPr>
        <p:spPr>
          <a:xfrm>
            <a:off x="379116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"/>
          <p:cNvSpPr/>
          <p:nvPr/>
        </p:nvSpPr>
        <p:spPr>
          <a:xfrm>
            <a:off x="418644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"/>
          <p:cNvSpPr/>
          <p:nvPr/>
        </p:nvSpPr>
        <p:spPr>
          <a:xfrm>
            <a:off x="457848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"/>
          <p:cNvSpPr/>
          <p:nvPr/>
        </p:nvSpPr>
        <p:spPr>
          <a:xfrm>
            <a:off x="4973760" y="5762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/>
          <p:nvPr/>
        </p:nvSpPr>
        <p:spPr>
          <a:xfrm>
            <a:off x="532548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7" name=""/>
          <p:cNvSpPr/>
          <p:nvPr/>
        </p:nvSpPr>
        <p:spPr>
          <a:xfrm>
            <a:off x="571752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/>
          <p:nvPr/>
        </p:nvSpPr>
        <p:spPr>
          <a:xfrm>
            <a:off x="611280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650664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"/>
          <p:cNvSpPr/>
          <p:nvPr/>
        </p:nvSpPr>
        <p:spPr>
          <a:xfrm>
            <a:off x="690048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"/>
          <p:cNvSpPr/>
          <p:nvPr/>
        </p:nvSpPr>
        <p:spPr>
          <a:xfrm>
            <a:off x="729576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"/>
          <p:cNvSpPr/>
          <p:nvPr/>
        </p:nvSpPr>
        <p:spPr>
          <a:xfrm>
            <a:off x="768924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"/>
          <p:cNvSpPr/>
          <p:nvPr/>
        </p:nvSpPr>
        <p:spPr>
          <a:xfrm>
            <a:off x="808308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"/>
          <p:cNvSpPr/>
          <p:nvPr/>
        </p:nvSpPr>
        <p:spPr>
          <a:xfrm>
            <a:off x="8476560" y="57625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"/>
          <p:cNvSpPr/>
          <p:nvPr/>
        </p:nvSpPr>
        <p:spPr>
          <a:xfrm>
            <a:off x="991440" y="1389240"/>
            <a:ext cx="442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rmu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"/>
          <p:cNvSpPr/>
          <p:nvPr/>
        </p:nvSpPr>
        <p:spPr>
          <a:xfrm>
            <a:off x="998640" y="1477800"/>
            <a:ext cx="43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nma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"/>
          <p:cNvSpPr/>
          <p:nvPr/>
        </p:nvSpPr>
        <p:spPr>
          <a:xfrm>
            <a:off x="828360" y="1569960"/>
            <a:ext cx="60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orea (Rep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"/>
          <p:cNvSpPr/>
          <p:nvPr/>
        </p:nvSpPr>
        <p:spPr>
          <a:xfrm>
            <a:off x="1066680" y="1658880"/>
            <a:ext cx="367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"/>
          <p:cNvSpPr/>
          <p:nvPr/>
        </p:nvSpPr>
        <p:spPr>
          <a:xfrm>
            <a:off x="1028880" y="174960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giu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0" name=""/>
          <p:cNvSpPr/>
          <p:nvPr/>
        </p:nvSpPr>
        <p:spPr>
          <a:xfrm>
            <a:off x="1042200" y="1839960"/>
            <a:ext cx="39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dor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"/>
          <p:cNvSpPr/>
          <p:nvPr/>
        </p:nvSpPr>
        <p:spPr>
          <a:xfrm>
            <a:off x="1167120" y="192888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sra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"/>
          <p:cNvSpPr/>
          <p:nvPr/>
        </p:nvSpPr>
        <p:spPr>
          <a:xfrm>
            <a:off x="490320" y="2019240"/>
            <a:ext cx="942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lkland (Malvina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"/>
          <p:cNvSpPr/>
          <p:nvPr/>
        </p:nvSpPr>
        <p:spPr>
          <a:xfrm>
            <a:off x="933840" y="2108160"/>
            <a:ext cx="500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"/>
          <p:cNvSpPr/>
          <p:nvPr/>
        </p:nvSpPr>
        <p:spPr>
          <a:xfrm>
            <a:off x="1012680" y="219852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love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"/>
          <p:cNvSpPr/>
          <p:nvPr/>
        </p:nvSpPr>
        <p:spPr>
          <a:xfrm>
            <a:off x="672120" y="2289240"/>
            <a:ext cx="761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zech Republi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"/>
          <p:cNvSpPr/>
          <p:nvPr/>
        </p:nvSpPr>
        <p:spPr>
          <a:xfrm>
            <a:off x="1087200" y="2378160"/>
            <a:ext cx="35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ypru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"/>
          <p:cNvSpPr/>
          <p:nvPr/>
        </p:nvSpPr>
        <p:spPr>
          <a:xfrm>
            <a:off x="1053720" y="2468520"/>
            <a:ext cx="380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ahra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1083960" y="2558880"/>
            <a:ext cx="35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roat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"/>
          <p:cNvSpPr/>
          <p:nvPr/>
        </p:nvSpPr>
        <p:spPr>
          <a:xfrm>
            <a:off x="707760" y="2647800"/>
            <a:ext cx="726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w Caledo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"/>
          <p:cNvSpPr/>
          <p:nvPr/>
        </p:nvSpPr>
        <p:spPr>
          <a:xfrm>
            <a:off x="1020960" y="2739960"/>
            <a:ext cx="41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Grena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"/>
          <p:cNvSpPr/>
          <p:nvPr/>
        </p:nvSpPr>
        <p:spPr>
          <a:xfrm>
            <a:off x="963000" y="2828880"/>
            <a:ext cx="47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"/>
          <p:cNvSpPr/>
          <p:nvPr/>
        </p:nvSpPr>
        <p:spPr>
          <a:xfrm>
            <a:off x="879480" y="2919240"/>
            <a:ext cx="552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 Mari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1008720" y="3009960"/>
            <a:ext cx="42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eban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"/>
          <p:cNvSpPr/>
          <p:nvPr/>
        </p:nvSpPr>
        <p:spPr>
          <a:xfrm>
            <a:off x="912240" y="3098880"/>
            <a:ext cx="52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ychell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"/>
          <p:cNvSpPr/>
          <p:nvPr/>
        </p:nvSpPr>
        <p:spPr>
          <a:xfrm>
            <a:off x="1105920" y="3189240"/>
            <a:ext cx="329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uval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"/>
          <p:cNvSpPr/>
          <p:nvPr/>
        </p:nvSpPr>
        <p:spPr>
          <a:xfrm>
            <a:off x="1122120" y="3278160"/>
            <a:ext cx="31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er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530640" y="3368520"/>
            <a:ext cx="90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rinidad &amp; Toba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"/>
          <p:cNvSpPr/>
          <p:nvPr/>
        </p:nvSpPr>
        <p:spPr>
          <a:xfrm>
            <a:off x="1137960" y="3459240"/>
            <a:ext cx="296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liz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1060560" y="35481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996120" y="3638520"/>
            <a:ext cx="438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"/>
          <p:cNvSpPr/>
          <p:nvPr/>
        </p:nvSpPr>
        <p:spPr>
          <a:xfrm>
            <a:off x="1284840" y="3728880"/>
            <a:ext cx="150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j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"/>
          <p:cNvSpPr/>
          <p:nvPr/>
        </p:nvSpPr>
        <p:spPr>
          <a:xfrm>
            <a:off x="1098360" y="3817800"/>
            <a:ext cx="334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Kuwa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979920" y="3908520"/>
            <a:ext cx="45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ragu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"/>
          <p:cNvSpPr/>
          <p:nvPr/>
        </p:nvSpPr>
        <p:spPr>
          <a:xfrm>
            <a:off x="1127520" y="3998880"/>
            <a:ext cx="307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ng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"/>
          <p:cNvSpPr/>
          <p:nvPr/>
        </p:nvSpPr>
        <p:spPr>
          <a:xfrm>
            <a:off x="1161720" y="4089240"/>
            <a:ext cx="273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ala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"/>
          <p:cNvSpPr/>
          <p:nvPr/>
        </p:nvSpPr>
        <p:spPr>
          <a:xfrm>
            <a:off x="1069560" y="4179960"/>
            <a:ext cx="369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lb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"/>
          <p:cNvSpPr/>
          <p:nvPr/>
        </p:nvSpPr>
        <p:spPr>
          <a:xfrm>
            <a:off x="989280" y="4268880"/>
            <a:ext cx="444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ran (I.R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"/>
          <p:cNvSpPr/>
          <p:nvPr/>
        </p:nvSpPr>
        <p:spPr>
          <a:xfrm>
            <a:off x="612000" y="4359240"/>
            <a:ext cx="82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lomon Isla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"/>
          <p:cNvSpPr/>
          <p:nvPr/>
        </p:nvSpPr>
        <p:spPr>
          <a:xfrm>
            <a:off x="1171080" y="444816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iby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"/>
          <p:cNvSpPr/>
          <p:nvPr/>
        </p:nvSpPr>
        <p:spPr>
          <a:xfrm>
            <a:off x="921600" y="4538520"/>
            <a:ext cx="51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uritan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"/>
          <p:cNvSpPr/>
          <p:nvPr/>
        </p:nvSpPr>
        <p:spPr>
          <a:xfrm>
            <a:off x="920880" y="4629240"/>
            <a:ext cx="512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Lao P.D.R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091160" y="471816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go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"/>
          <p:cNvSpPr/>
          <p:nvPr/>
        </p:nvSpPr>
        <p:spPr>
          <a:xfrm>
            <a:off x="966960" y="4808520"/>
            <a:ext cx="4716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"/>
          <p:cNvSpPr/>
          <p:nvPr/>
        </p:nvSpPr>
        <p:spPr>
          <a:xfrm>
            <a:off x="1087200" y="489888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"/>
          <p:cNvSpPr/>
          <p:nvPr/>
        </p:nvSpPr>
        <p:spPr>
          <a:xfrm>
            <a:off x="1075680" y="4987800"/>
            <a:ext cx="358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Zamb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1150200" y="5078520"/>
            <a:ext cx="28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n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"/>
          <p:cNvSpPr/>
          <p:nvPr/>
        </p:nvSpPr>
        <p:spPr>
          <a:xfrm>
            <a:off x="1184400" y="5168880"/>
            <a:ext cx="250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Tog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"/>
          <p:cNvSpPr/>
          <p:nvPr/>
        </p:nvSpPr>
        <p:spPr>
          <a:xfrm>
            <a:off x="1095120" y="5259240"/>
            <a:ext cx="335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law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"/>
          <p:cNvSpPr/>
          <p:nvPr/>
        </p:nvSpPr>
        <p:spPr>
          <a:xfrm>
            <a:off x="1060200" y="5349960"/>
            <a:ext cx="374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gand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"/>
          <p:cNvSpPr/>
          <p:nvPr/>
        </p:nvSpPr>
        <p:spPr>
          <a:xfrm>
            <a:off x="929520" y="5438880"/>
            <a:ext cx="505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amero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"/>
          <p:cNvSpPr/>
          <p:nvPr/>
        </p:nvSpPr>
        <p:spPr>
          <a:xfrm>
            <a:off x="1028880" y="5529240"/>
            <a:ext cx="404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"/>
          <p:cNvSpPr/>
          <p:nvPr/>
        </p:nvSpPr>
        <p:spPr>
          <a:xfrm>
            <a:off x="4325400" y="602136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"/>
          <p:cNvSpPr/>
          <p:nvPr/>
        </p:nvSpPr>
        <p:spPr>
          <a:xfrm>
            <a:off x="1805040" y="3473280"/>
            <a:ext cx="636480" cy="76320"/>
          </a:xfrm>
          <a:custGeom>
            <a:avLst/>
            <a:gdLst/>
            <a:ahLst/>
            <a:rect l="l" t="t" r="r" b="b"/>
            <a:pathLst>
              <a:path w="803" h="96">
                <a:moveTo>
                  <a:pt x="79" y="40"/>
                </a:moveTo>
                <a:lnTo>
                  <a:pt x="795" y="36"/>
                </a:lnTo>
                <a:lnTo>
                  <a:pt x="797" y="38"/>
                </a:lnTo>
                <a:lnTo>
                  <a:pt x="801" y="40"/>
                </a:lnTo>
                <a:lnTo>
                  <a:pt x="801" y="42"/>
                </a:lnTo>
                <a:lnTo>
                  <a:pt x="803" y="46"/>
                </a:lnTo>
                <a:lnTo>
                  <a:pt x="801" y="48"/>
                </a:lnTo>
                <a:lnTo>
                  <a:pt x="801" y="51"/>
                </a:lnTo>
                <a:lnTo>
                  <a:pt x="797" y="51"/>
                </a:lnTo>
                <a:lnTo>
                  <a:pt x="795" y="53"/>
                </a:lnTo>
                <a:lnTo>
                  <a:pt x="79" y="57"/>
                </a:lnTo>
                <a:lnTo>
                  <a:pt x="77" y="55"/>
                </a:lnTo>
                <a:lnTo>
                  <a:pt x="73" y="53"/>
                </a:lnTo>
                <a:lnTo>
                  <a:pt x="71" y="51"/>
                </a:lnTo>
                <a:lnTo>
                  <a:pt x="71" y="48"/>
                </a:lnTo>
                <a:lnTo>
                  <a:pt x="71" y="46"/>
                </a:lnTo>
                <a:lnTo>
                  <a:pt x="73" y="42"/>
                </a:lnTo>
                <a:lnTo>
                  <a:pt x="77" y="42"/>
                </a:lnTo>
                <a:lnTo>
                  <a:pt x="79" y="40"/>
                </a:lnTo>
                <a:lnTo>
                  <a:pt x="79" y="40"/>
                </a:lnTo>
                <a:close/>
                <a:moveTo>
                  <a:pt x="96" y="96"/>
                </a:moveTo>
                <a:lnTo>
                  <a:pt x="0" y="50"/>
                </a:lnTo>
                <a:lnTo>
                  <a:pt x="94" y="0"/>
                </a:lnTo>
                <a:lnTo>
                  <a:pt x="96" y="96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>
            <a:off x="2443320" y="3425760"/>
            <a:ext cx="566640" cy="1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"/>
          <p:cNvSpPr/>
          <p:nvPr/>
        </p:nvSpPr>
        <p:spPr>
          <a:xfrm>
            <a:off x="2443320" y="3425760"/>
            <a:ext cx="566640" cy="1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"/>
          <p:cNvSpPr/>
          <p:nvPr/>
        </p:nvSpPr>
        <p:spPr>
          <a:xfrm>
            <a:off x="2502720" y="3433680"/>
            <a:ext cx="44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edi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"/>
          <p:cNvSpPr/>
          <p:nvPr/>
        </p:nvSpPr>
        <p:spPr>
          <a:xfrm flipV="1">
            <a:off x="5450040" y="1438200"/>
            <a:ext cx="1440" cy="4267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"/>
          <p:cNvSpPr/>
          <p:nvPr/>
        </p:nvSpPr>
        <p:spPr>
          <a:xfrm>
            <a:off x="1774800" y="3503520"/>
            <a:ext cx="68400" cy="1774800"/>
          </a:xfrm>
          <a:custGeom>
            <a:avLst/>
            <a:gdLst/>
            <a:ahLst/>
            <a:rect l="l" t="t" r="r" b="b"/>
            <a:pathLst>
              <a:path w="96" h="2455">
                <a:moveTo>
                  <a:pt x="56" y="10"/>
                </a:moveTo>
                <a:lnTo>
                  <a:pt x="56" y="2374"/>
                </a:lnTo>
                <a:lnTo>
                  <a:pt x="54" y="2378"/>
                </a:lnTo>
                <a:lnTo>
                  <a:pt x="54" y="2380"/>
                </a:lnTo>
                <a:lnTo>
                  <a:pt x="50" y="2382"/>
                </a:lnTo>
                <a:lnTo>
                  <a:pt x="48" y="2382"/>
                </a:lnTo>
                <a:lnTo>
                  <a:pt x="44" y="2382"/>
                </a:lnTo>
                <a:lnTo>
                  <a:pt x="42" y="2380"/>
                </a:lnTo>
                <a:lnTo>
                  <a:pt x="40" y="2378"/>
                </a:lnTo>
                <a:lnTo>
                  <a:pt x="39" y="2374"/>
                </a:lnTo>
                <a:lnTo>
                  <a:pt x="39" y="10"/>
                </a:lnTo>
                <a:lnTo>
                  <a:pt x="40" y="6"/>
                </a:lnTo>
                <a:lnTo>
                  <a:pt x="42" y="4"/>
                </a:lnTo>
                <a:lnTo>
                  <a:pt x="44" y="2"/>
                </a:lnTo>
                <a:lnTo>
                  <a:pt x="48" y="0"/>
                </a:lnTo>
                <a:lnTo>
                  <a:pt x="50" y="2"/>
                </a:lnTo>
                <a:lnTo>
                  <a:pt x="54" y="4"/>
                </a:lnTo>
                <a:lnTo>
                  <a:pt x="54" y="6"/>
                </a:lnTo>
                <a:lnTo>
                  <a:pt x="56" y="10"/>
                </a:lnTo>
                <a:lnTo>
                  <a:pt x="56" y="10"/>
                </a:lnTo>
                <a:close/>
                <a:moveTo>
                  <a:pt x="96" y="2359"/>
                </a:moveTo>
                <a:lnTo>
                  <a:pt x="48" y="2455"/>
                </a:lnTo>
                <a:lnTo>
                  <a:pt x="0" y="2359"/>
                </a:lnTo>
                <a:lnTo>
                  <a:pt x="96" y="2359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"/>
          <p:cNvSpPr/>
          <p:nvPr/>
        </p:nvSpPr>
        <p:spPr>
          <a:xfrm>
            <a:off x="1761480" y="535788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"/>
          <p:cNvSpPr/>
          <p:nvPr/>
        </p:nvSpPr>
        <p:spPr>
          <a:xfrm>
            <a:off x="1644480" y="5286240"/>
            <a:ext cx="328680" cy="312840"/>
          </a:xfrm>
          <a:custGeom>
            <a:avLst/>
            <a:gdLst/>
            <a:ahLst/>
            <a:rect l="l" t="t" r="r" b="b"/>
            <a:pathLst>
              <a:path w="1001" h="362">
                <a:moveTo>
                  <a:pt x="501" y="0"/>
                </a:moveTo>
                <a:lnTo>
                  <a:pt x="474" y="0"/>
                </a:lnTo>
                <a:lnTo>
                  <a:pt x="448" y="0"/>
                </a:lnTo>
                <a:lnTo>
                  <a:pt x="424" y="2"/>
                </a:lnTo>
                <a:lnTo>
                  <a:pt x="399" y="3"/>
                </a:lnTo>
                <a:lnTo>
                  <a:pt x="375" y="5"/>
                </a:lnTo>
                <a:lnTo>
                  <a:pt x="350" y="8"/>
                </a:lnTo>
                <a:lnTo>
                  <a:pt x="328" y="10"/>
                </a:lnTo>
                <a:lnTo>
                  <a:pt x="305" y="13"/>
                </a:lnTo>
                <a:lnTo>
                  <a:pt x="282" y="16"/>
                </a:lnTo>
                <a:lnTo>
                  <a:pt x="261" y="21"/>
                </a:lnTo>
                <a:lnTo>
                  <a:pt x="240" y="26"/>
                </a:lnTo>
                <a:lnTo>
                  <a:pt x="220" y="29"/>
                </a:lnTo>
                <a:lnTo>
                  <a:pt x="200" y="36"/>
                </a:lnTo>
                <a:lnTo>
                  <a:pt x="181" y="41"/>
                </a:lnTo>
                <a:lnTo>
                  <a:pt x="163" y="46"/>
                </a:lnTo>
                <a:lnTo>
                  <a:pt x="145" y="52"/>
                </a:lnTo>
                <a:lnTo>
                  <a:pt x="129" y="59"/>
                </a:lnTo>
                <a:lnTo>
                  <a:pt x="114" y="65"/>
                </a:lnTo>
                <a:lnTo>
                  <a:pt x="99" y="72"/>
                </a:lnTo>
                <a:lnTo>
                  <a:pt x="85" y="78"/>
                </a:lnTo>
                <a:lnTo>
                  <a:pt x="72" y="86"/>
                </a:lnTo>
                <a:lnTo>
                  <a:pt x="60" y="95"/>
                </a:lnTo>
                <a:lnTo>
                  <a:pt x="49" y="101"/>
                </a:lnTo>
                <a:lnTo>
                  <a:pt x="39" y="109"/>
                </a:lnTo>
                <a:lnTo>
                  <a:pt x="29" y="117"/>
                </a:lnTo>
                <a:lnTo>
                  <a:pt x="21" y="127"/>
                </a:lnTo>
                <a:lnTo>
                  <a:pt x="14" y="135"/>
                </a:lnTo>
                <a:lnTo>
                  <a:pt x="10" y="144"/>
                </a:lnTo>
                <a:lnTo>
                  <a:pt x="5" y="153"/>
                </a:lnTo>
                <a:lnTo>
                  <a:pt x="1" y="161"/>
                </a:lnTo>
                <a:lnTo>
                  <a:pt x="0" y="171"/>
                </a:lnTo>
                <a:lnTo>
                  <a:pt x="0" y="181"/>
                </a:lnTo>
                <a:lnTo>
                  <a:pt x="0" y="189"/>
                </a:lnTo>
                <a:lnTo>
                  <a:pt x="1" y="199"/>
                </a:lnTo>
                <a:lnTo>
                  <a:pt x="5" y="207"/>
                </a:lnTo>
                <a:lnTo>
                  <a:pt x="10" y="217"/>
                </a:lnTo>
                <a:lnTo>
                  <a:pt x="14" y="225"/>
                </a:lnTo>
                <a:lnTo>
                  <a:pt x="21" y="235"/>
                </a:lnTo>
                <a:lnTo>
                  <a:pt x="29" y="243"/>
                </a:lnTo>
                <a:lnTo>
                  <a:pt x="39" y="251"/>
                </a:lnTo>
                <a:lnTo>
                  <a:pt x="49" y="259"/>
                </a:lnTo>
                <a:lnTo>
                  <a:pt x="60" y="267"/>
                </a:lnTo>
                <a:lnTo>
                  <a:pt x="72" y="274"/>
                </a:lnTo>
                <a:lnTo>
                  <a:pt x="85" y="282"/>
                </a:lnTo>
                <a:lnTo>
                  <a:pt x="99" y="289"/>
                </a:lnTo>
                <a:lnTo>
                  <a:pt x="114" y="295"/>
                </a:lnTo>
                <a:lnTo>
                  <a:pt x="129" y="302"/>
                </a:lnTo>
                <a:lnTo>
                  <a:pt x="145" y="308"/>
                </a:lnTo>
                <a:lnTo>
                  <a:pt x="163" y="315"/>
                </a:lnTo>
                <a:lnTo>
                  <a:pt x="181" y="320"/>
                </a:lnTo>
                <a:lnTo>
                  <a:pt x="200" y="326"/>
                </a:lnTo>
                <a:lnTo>
                  <a:pt x="220" y="331"/>
                </a:lnTo>
                <a:lnTo>
                  <a:pt x="240" y="334"/>
                </a:lnTo>
                <a:lnTo>
                  <a:pt x="261" y="339"/>
                </a:lnTo>
                <a:lnTo>
                  <a:pt x="282" y="344"/>
                </a:lnTo>
                <a:lnTo>
                  <a:pt x="305" y="347"/>
                </a:lnTo>
                <a:lnTo>
                  <a:pt x="328" y="351"/>
                </a:lnTo>
                <a:lnTo>
                  <a:pt x="350" y="354"/>
                </a:lnTo>
                <a:lnTo>
                  <a:pt x="375" y="356"/>
                </a:lnTo>
                <a:lnTo>
                  <a:pt x="399" y="357"/>
                </a:lnTo>
                <a:lnTo>
                  <a:pt x="424" y="359"/>
                </a:lnTo>
                <a:lnTo>
                  <a:pt x="448" y="360"/>
                </a:lnTo>
                <a:lnTo>
                  <a:pt x="474" y="360"/>
                </a:lnTo>
                <a:lnTo>
                  <a:pt x="501" y="362"/>
                </a:lnTo>
                <a:lnTo>
                  <a:pt x="525" y="360"/>
                </a:lnTo>
                <a:lnTo>
                  <a:pt x="551" y="360"/>
                </a:lnTo>
                <a:lnTo>
                  <a:pt x="576" y="359"/>
                </a:lnTo>
                <a:lnTo>
                  <a:pt x="600" y="357"/>
                </a:lnTo>
                <a:lnTo>
                  <a:pt x="625" y="356"/>
                </a:lnTo>
                <a:lnTo>
                  <a:pt x="649" y="354"/>
                </a:lnTo>
                <a:lnTo>
                  <a:pt x="672" y="351"/>
                </a:lnTo>
                <a:lnTo>
                  <a:pt x="695" y="347"/>
                </a:lnTo>
                <a:lnTo>
                  <a:pt x="717" y="344"/>
                </a:lnTo>
                <a:lnTo>
                  <a:pt x="739" y="339"/>
                </a:lnTo>
                <a:lnTo>
                  <a:pt x="760" y="334"/>
                </a:lnTo>
                <a:lnTo>
                  <a:pt x="779" y="331"/>
                </a:lnTo>
                <a:lnTo>
                  <a:pt x="799" y="326"/>
                </a:lnTo>
                <a:lnTo>
                  <a:pt x="819" y="320"/>
                </a:lnTo>
                <a:lnTo>
                  <a:pt x="837" y="315"/>
                </a:lnTo>
                <a:lnTo>
                  <a:pt x="855" y="308"/>
                </a:lnTo>
                <a:lnTo>
                  <a:pt x="871" y="302"/>
                </a:lnTo>
                <a:lnTo>
                  <a:pt x="885" y="295"/>
                </a:lnTo>
                <a:lnTo>
                  <a:pt x="902" y="289"/>
                </a:lnTo>
                <a:lnTo>
                  <a:pt x="915" y="282"/>
                </a:lnTo>
                <a:lnTo>
                  <a:pt x="928" y="274"/>
                </a:lnTo>
                <a:lnTo>
                  <a:pt x="941" y="267"/>
                </a:lnTo>
                <a:lnTo>
                  <a:pt x="951" y="259"/>
                </a:lnTo>
                <a:lnTo>
                  <a:pt x="961" y="251"/>
                </a:lnTo>
                <a:lnTo>
                  <a:pt x="970" y="243"/>
                </a:lnTo>
                <a:lnTo>
                  <a:pt x="978" y="235"/>
                </a:lnTo>
                <a:lnTo>
                  <a:pt x="985" y="225"/>
                </a:lnTo>
                <a:lnTo>
                  <a:pt x="990" y="217"/>
                </a:lnTo>
                <a:lnTo>
                  <a:pt x="995" y="207"/>
                </a:lnTo>
                <a:lnTo>
                  <a:pt x="998" y="199"/>
                </a:lnTo>
                <a:lnTo>
                  <a:pt x="1000" y="189"/>
                </a:lnTo>
                <a:lnTo>
                  <a:pt x="1001" y="181"/>
                </a:lnTo>
                <a:lnTo>
                  <a:pt x="1000" y="171"/>
                </a:lnTo>
                <a:lnTo>
                  <a:pt x="998" y="161"/>
                </a:lnTo>
                <a:lnTo>
                  <a:pt x="995" y="153"/>
                </a:lnTo>
                <a:lnTo>
                  <a:pt x="990" y="144"/>
                </a:lnTo>
                <a:lnTo>
                  <a:pt x="985" y="135"/>
                </a:lnTo>
                <a:lnTo>
                  <a:pt x="978" y="127"/>
                </a:lnTo>
                <a:lnTo>
                  <a:pt x="970" y="117"/>
                </a:lnTo>
                <a:lnTo>
                  <a:pt x="961" y="109"/>
                </a:lnTo>
                <a:lnTo>
                  <a:pt x="951" y="101"/>
                </a:lnTo>
                <a:lnTo>
                  <a:pt x="941" y="95"/>
                </a:lnTo>
                <a:lnTo>
                  <a:pt x="928" y="86"/>
                </a:lnTo>
                <a:lnTo>
                  <a:pt x="915" y="78"/>
                </a:lnTo>
                <a:lnTo>
                  <a:pt x="902" y="72"/>
                </a:lnTo>
                <a:lnTo>
                  <a:pt x="885" y="65"/>
                </a:lnTo>
                <a:lnTo>
                  <a:pt x="871" y="59"/>
                </a:lnTo>
                <a:lnTo>
                  <a:pt x="855" y="52"/>
                </a:lnTo>
                <a:lnTo>
                  <a:pt x="837" y="46"/>
                </a:lnTo>
                <a:lnTo>
                  <a:pt x="819" y="41"/>
                </a:lnTo>
                <a:lnTo>
                  <a:pt x="799" y="36"/>
                </a:lnTo>
                <a:lnTo>
                  <a:pt x="779" y="29"/>
                </a:lnTo>
                <a:lnTo>
                  <a:pt x="760" y="26"/>
                </a:lnTo>
                <a:lnTo>
                  <a:pt x="739" y="21"/>
                </a:lnTo>
                <a:lnTo>
                  <a:pt x="717" y="16"/>
                </a:lnTo>
                <a:lnTo>
                  <a:pt x="695" y="13"/>
                </a:lnTo>
                <a:lnTo>
                  <a:pt x="672" y="10"/>
                </a:lnTo>
                <a:lnTo>
                  <a:pt x="649" y="8"/>
                </a:lnTo>
                <a:lnTo>
                  <a:pt x="625" y="5"/>
                </a:lnTo>
                <a:lnTo>
                  <a:pt x="600" y="3"/>
                </a:lnTo>
                <a:lnTo>
                  <a:pt x="576" y="2"/>
                </a:lnTo>
                <a:lnTo>
                  <a:pt x="551" y="0"/>
                </a:lnTo>
                <a:lnTo>
                  <a:pt x="525" y="0"/>
                </a:lnTo>
                <a:lnTo>
                  <a:pt x="501" y="0"/>
                </a:lnTo>
              </a:path>
            </a:pathLst>
          </a:custGeom>
          <a:noFill/>
          <a:ln w="176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1" name=""/>
          <p:cNvSpPr/>
          <p:nvPr/>
        </p:nvSpPr>
        <p:spPr>
          <a:xfrm>
            <a:off x="477000" y="361800"/>
            <a:ext cx="8213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World disparities in two dimensions: life expectancy shows 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"/>
          <p:cNvSpPr/>
          <p:nvPr/>
        </p:nvSpPr>
        <p:spPr>
          <a:xfrm>
            <a:off x="1000800" y="668160"/>
            <a:ext cx="6877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very different situation than the three ICT indic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3" name=""/>
          <p:cNvGrpSpPr/>
          <p:nvPr/>
        </p:nvGrpSpPr>
        <p:grpSpPr>
          <a:xfrm>
            <a:off x="385200" y="1220760"/>
            <a:ext cx="8325720" cy="4905360"/>
            <a:chOff x="385200" y="1220760"/>
            <a:chExt cx="8325720" cy="4905360"/>
          </a:xfrm>
        </p:grpSpPr>
        <p:sp>
          <p:nvSpPr>
            <p:cNvPr id="2374" name=""/>
            <p:cNvSpPr/>
            <p:nvPr/>
          </p:nvSpPr>
          <p:spPr>
            <a:xfrm>
              <a:off x="2959200" y="3155760"/>
              <a:ext cx="23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ife expectanc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751360" y="4041720"/>
              <a:ext cx="2328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 ICT indica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6" name=""/>
            <p:cNvGrpSpPr/>
            <p:nvPr/>
          </p:nvGrpSpPr>
          <p:grpSpPr>
            <a:xfrm>
              <a:off x="515880" y="1312560"/>
              <a:ext cx="7581960" cy="3919320"/>
              <a:chOff x="515880" y="1312560"/>
              <a:chExt cx="7581960" cy="3919320"/>
            </a:xfrm>
          </p:grpSpPr>
          <p:sp>
            <p:nvSpPr>
              <p:cNvPr id="2377" name=""/>
              <p:cNvSpPr/>
              <p:nvPr/>
            </p:nvSpPr>
            <p:spPr>
              <a:xfrm>
                <a:off x="515880" y="1312560"/>
                <a:ext cx="7580520" cy="387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>
                <a:off x="515880" y="4754160"/>
                <a:ext cx="758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>
                <a:off x="515880" y="43225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>
                <a:off x="515880" y="38923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515880" y="3463560"/>
                <a:ext cx="7580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>
                <a:off x="515880" y="30319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>
                <a:off x="515880" y="260316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>
                <a:off x="515880" y="217296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>
                <a:off x="515880" y="17413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>
                <a:off x="515880" y="131256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>
                <a:off x="515880" y="1312560"/>
                <a:ext cx="7580520" cy="3870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"/>
              <p:cNvSpPr/>
              <p:nvPr/>
            </p:nvSpPr>
            <p:spPr>
              <a:xfrm>
                <a:off x="7623000" y="1312560"/>
                <a:ext cx="49320" cy="3870360"/>
              </a:xfrm>
              <a:custGeom>
                <a:avLst/>
                <a:gdLst/>
                <a:ahLst/>
                <a:rect l="l" t="t" r="r" b="b"/>
                <a:pathLst>
                  <a:path w="32" h="2541">
                    <a:moveTo>
                      <a:pt x="0" y="0"/>
                    </a:moveTo>
                    <a:lnTo>
                      <a:pt x="0" y="2541"/>
                    </a:lnTo>
                    <a:lnTo>
                      <a:pt x="32" y="2541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7623000" y="475416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7623000" y="43225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7623000" y="38923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623000" y="3463560"/>
                <a:ext cx="49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7623000" y="30319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7623000" y="26031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7623000" y="21729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7623000" y="174132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7623000" y="1312560"/>
                <a:ext cx="49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5880" y="5182920"/>
                <a:ext cx="7580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809640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 flipV="1">
                <a:off x="762300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714852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 flipV="1">
                <a:off x="667548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620064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 flipV="1">
                <a:off x="572760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 flipV="1">
                <a:off x="525312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 flipV="1">
                <a:off x="478008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 flipV="1">
                <a:off x="430704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 flipV="1">
                <a:off x="383220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 flipV="1">
                <a:off x="335916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 flipV="1">
                <a:off x="288432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 flipV="1">
                <a:off x="241128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 flipV="1">
                <a:off x="193680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 flipV="1">
                <a:off x="1463760" y="5182560"/>
                <a:ext cx="144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 flipV="1">
                <a:off x="98892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 flipV="1">
                <a:off x="515880" y="5182560"/>
                <a:ext cx="1800" cy="49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736040" y="28681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"/>
              <p:cNvSpPr/>
              <p:nvPr/>
            </p:nvSpPr>
            <p:spPr>
              <a:xfrm>
                <a:off x="7716960" y="281916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"/>
              <p:cNvSpPr/>
              <p:nvPr/>
            </p:nvSpPr>
            <p:spPr>
              <a:xfrm>
                <a:off x="7713720" y="28620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"/>
              <p:cNvSpPr/>
              <p:nvPr/>
            </p:nvSpPr>
            <p:spPr>
              <a:xfrm>
                <a:off x="7591320" y="299988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"/>
              <p:cNvSpPr/>
              <p:nvPr/>
            </p:nvSpPr>
            <p:spPr>
              <a:xfrm>
                <a:off x="7378560" y="300168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"/>
              <p:cNvSpPr/>
              <p:nvPr/>
            </p:nvSpPr>
            <p:spPr>
              <a:xfrm>
                <a:off x="7372440" y="301896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7362720" y="30510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7350120" y="30826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7346880" y="3095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7345440" y="30999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7342200" y="311112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7337520" y="312552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7334280" y="31428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7329600" y="3157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7321680" y="3184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7313760" y="320796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7305840" y="324612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>
                <a:off x="7304040" y="326052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7304040" y="326844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7302600" y="328248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7300800" y="328428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7296120" y="335556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7294680" y="33764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7294680" y="33793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7292880" y="33922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7289640" y="342864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7289640" y="34333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7286760" y="34556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7286760" y="34621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7281720" y="351756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7278840" y="35478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>
                <a:off x="7277040" y="35557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7275600" y="35668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7272360" y="36158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>
                <a:off x="7270920" y="362088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>
                <a:off x="7267680" y="366192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>
                <a:off x="7267680" y="366840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7262640" y="37065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>
                <a:off x="7261200" y="3747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256520" y="37652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>
                <a:off x="7256520" y="37699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7253280" y="3779640"/>
                <a:ext cx="633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>
                <a:off x="7240680" y="382068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7238880" y="38239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7237440" y="38336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>
                <a:off x="7237440" y="383184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>
                <a:off x="7236000" y="38383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>
                <a:off x="7218360" y="38984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7216920" y="39049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7205760" y="393336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7192800" y="396360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7182000" y="39938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7172280" y="40161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7169040" y="40255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7156440" y="407160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7151760" y="408744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7147080" y="412092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7145280" y="412416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7145280" y="412416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7143840" y="41320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7129440" y="41922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7128000" y="420480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7124760" y="421596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7120080" y="423180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7120080" y="4236840"/>
                <a:ext cx="6480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7115040" y="425736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7113600" y="42699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7112160" y="426996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7112160" y="427320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7112160" y="427788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7108920" y="42987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107120" y="430344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7105680" y="4314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7099200" y="43495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7094520" y="43732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7094520" y="43714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7093080" y="4379760"/>
                <a:ext cx="633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7091280" y="43923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7088040" y="44082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7086600" y="44128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7078680" y="44557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7077240" y="4462200"/>
                <a:ext cx="6480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7077240" y="446688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7075440" y="447948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7074000" y="448452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7072200" y="44906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7072200" y="450360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7072200" y="4503600"/>
                <a:ext cx="6372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7070760" y="4516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7067520" y="453024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7067520" y="45320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7066080" y="45432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7066080" y="45493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7066080" y="45493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7062840" y="45716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7061040" y="45795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61040" y="459072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059600" y="459540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058160" y="46098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054920" y="463680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047000" y="46969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047000" y="469692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045200" y="47192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042320" y="473364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042320" y="473508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042320" y="474300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037280" y="477180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035840" y="478440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034040" y="480204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034040" y="481464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7034040" y="48178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7034040" y="48207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7031160" y="484308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7029360" y="485100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7029360" y="48574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7029360" y="48589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7029360" y="48621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7027920" y="486864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7027920" y="48700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7027920" y="4871880"/>
                <a:ext cx="633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27920" y="487332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7026120" y="487656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7024680" y="48891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7023240" y="49035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7021440" y="490824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7021440" y="490968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7020000" y="491148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7018200" y="491616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7018200" y="491760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7016760" y="4917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7015320" y="49240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7013520" y="49255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7013520" y="49287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7010280" y="493200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7008840" y="49384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7002360" y="494964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7000920" y="49543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6999120" y="49557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6996240" y="4963680"/>
                <a:ext cx="6480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6996240" y="496548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6988320" y="49845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6986520" y="498924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6983280" y="499392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6983280" y="49971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6981840" y="499860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6980400" y="500184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6978600" y="50050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6978600" y="500832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6964200" y="50223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964200" y="50223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953400" y="50353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951600" y="503532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948360" y="503856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948360" y="50400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935760" y="50511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932520" y="505584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927840" y="5059080"/>
                <a:ext cx="651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921360" y="50637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919920" y="50670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918480" y="50684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918480" y="506844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7" name=""/>
            <p:cNvGrpSpPr/>
            <p:nvPr/>
          </p:nvGrpSpPr>
          <p:grpSpPr>
            <a:xfrm>
              <a:off x="6737400" y="1393560"/>
              <a:ext cx="1087560" cy="3816360"/>
              <a:chOff x="6737400" y="1393560"/>
              <a:chExt cx="1087560" cy="3816360"/>
            </a:xfrm>
          </p:grpSpPr>
          <p:sp>
            <p:nvSpPr>
              <p:cNvPr id="2578" name=""/>
              <p:cNvSpPr/>
              <p:nvPr/>
            </p:nvSpPr>
            <p:spPr>
              <a:xfrm>
                <a:off x="6915240" y="50716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6910560" y="507492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6897600" y="508752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6891480" y="5094000"/>
                <a:ext cx="6480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6889680" y="509544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6883560" y="5100480"/>
                <a:ext cx="6480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6881760" y="51019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6881760" y="51019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6881760" y="51019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6865920" y="5106600"/>
                <a:ext cx="633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6862680" y="5106600"/>
                <a:ext cx="6372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6845400" y="510840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6824520" y="511128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6823080" y="51130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6819840" y="51130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6819840" y="511308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6810480" y="511452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6794640" y="511776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6789600" y="511920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781680" y="5121000"/>
                <a:ext cx="6372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6770520" y="5125680"/>
                <a:ext cx="651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6767640" y="5125680"/>
                <a:ext cx="6336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767640" y="51274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6767640" y="5127480"/>
                <a:ext cx="63360" cy="633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757920" y="5130360"/>
                <a:ext cx="63720" cy="6372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6737400" y="5138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6737400" y="5138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737400" y="513828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6737400" y="513540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737400" y="5135400"/>
                <a:ext cx="65160" cy="6480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6737400" y="514476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6737400" y="514152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737400" y="5136840"/>
                <a:ext cx="65160" cy="65160"/>
              </a:xfrm>
              <a:prstGeom prst="ellipse">
                <a:avLst/>
              </a:prstGeom>
              <a:solidFill>
                <a:srgbClr val="000080"/>
              </a:solidFill>
              <a:ln w="126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7759800" y="2336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7743960" y="24271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7742160" y="24746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7724880" y="16808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7721640" y="249984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7713720" y="13935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7711920" y="285732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7710480" y="21794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7710480" y="29412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7702560" y="27460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7697880" y="17618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>
                <a:off x="7693200" y="18982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7669080" y="26366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7666200" y="26618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7662960" y="245412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7659720" y="26287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7653240" y="22856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7645320" y="29286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>
                <a:off x="7639200" y="28144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7637400" y="29700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7634160" y="28015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7631280" y="2577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626240" y="27619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7624800" y="27381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>
                <a:off x="7623000" y="2830320"/>
                <a:ext cx="6372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7620120" y="2577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7618320" y="27842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7607160" y="297936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7607160" y="29192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7602480" y="29509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7601040" y="29523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>
                <a:off x="7599240" y="2989080"/>
                <a:ext cx="6372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7597800" y="29444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7591320" y="29998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>
                <a:off x="7589880" y="300312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7583400" y="302220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7581960" y="30268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7575480" y="30510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>
                <a:off x="7574040" y="30538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>
                <a:off x="7569360" y="3068280"/>
                <a:ext cx="6480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7567560" y="307008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7564320" y="30888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7559640" y="31017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>
                <a:off x="7556400" y="31096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7553160" y="31176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7548480" y="31334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7547040" y="313812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7547040" y="313992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7542360" y="31525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7539120" y="31604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7537320" y="31651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>
                <a:off x="7527960" y="31827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7527960" y="31827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7521480" y="31986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>
                <a:off x="7500960" y="32414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7491240" y="32605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>
                <a:off x="7488360" y="326520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464600" y="33094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>
                <a:off x="7461360" y="331452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7459560" y="3317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450200" y="33336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>
                <a:off x="7448400" y="33397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445520" y="3342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>
                <a:off x="7437600" y="33508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7432560" y="335736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432560" y="335736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>
                <a:off x="7431120" y="33588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421400" y="336996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>
                <a:off x="7405560" y="33904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>
                <a:off x="7350120" y="33969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343640" y="34160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>
                <a:off x="7343640" y="34207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342200" y="3425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>
                <a:off x="7338960" y="343332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>
                <a:off x="7337520" y="3444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337520" y="344628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>
                <a:off x="7331040" y="34682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326360" y="34779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>
                <a:off x="7326360" y="348120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>
                <a:off x="7323120" y="34938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21680" y="34952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>
                <a:off x="7315200" y="35190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10520" y="353340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>
                <a:off x="7307280" y="35478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>
                <a:off x="7300800" y="35650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294680" y="35874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>
                <a:off x="7294680" y="35874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292880" y="35906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>
                <a:off x="7289640" y="36018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>
                <a:off x="7283520" y="36241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280280" y="3633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>
                <a:off x="7280280" y="3633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261200" y="36968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>
                <a:off x="7261200" y="36968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7257960" y="37033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254720" y="37144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7248600" y="373680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245360" y="37461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7242120" y="375876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7238880" y="37699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236000" y="377784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7234200" y="378108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234200" y="378252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7230960" y="37936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7227720" y="38001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216920" y="38430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7216920" y="38462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215120" y="385092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7210440" y="38700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7207200" y="38826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207200" y="38858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7203960" y="39016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203960" y="39016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7196040" y="39398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7194600" y="39510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188120" y="397944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7186680" y="398916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178760" y="403812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7169040" y="40906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167600" y="40939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165800" y="41018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7164360" y="410652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159680" y="41288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7155000" y="4149360"/>
                <a:ext cx="6480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7153200" y="415584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149960" y="41698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7147080" y="418608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7147080" y="41922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7142040" y="42048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7135920" y="423504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7135920" y="4236840"/>
                <a:ext cx="633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7135920" y="42382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7132680" y="42508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7130880" y="42541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7130880" y="425592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7130880" y="42588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7129440" y="42620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7128000" y="42732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7121520" y="429696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7116840" y="431280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7107120" y="43556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7097760" y="439704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7095960" y="440028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7095960" y="43984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7086600" y="44366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7085160" y="44463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7078680" y="44701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7077240" y="447336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7072200" y="4492440"/>
                <a:ext cx="651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7072200" y="4503600"/>
                <a:ext cx="6372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7059600" y="453672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058160" y="45399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7054920" y="455256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7048440" y="45684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7048440" y="456840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7043760" y="457812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7039080" y="459720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7037280" y="46000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7037280" y="4600080"/>
                <a:ext cx="651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7031160" y="46224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7031160" y="46224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7029360" y="462708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7027920" y="462888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7024680" y="46414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7021440" y="46447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7020000" y="46479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7020000" y="464940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8" name=""/>
            <p:cNvGrpSpPr/>
            <p:nvPr/>
          </p:nvGrpSpPr>
          <p:grpSpPr>
            <a:xfrm>
              <a:off x="6467400" y="1982520"/>
              <a:ext cx="1273320" cy="3230640"/>
              <a:chOff x="6467400" y="1982520"/>
              <a:chExt cx="1273320" cy="3230640"/>
            </a:xfrm>
          </p:grpSpPr>
          <p:sp>
            <p:nvSpPr>
              <p:cNvPr id="2779" name=""/>
              <p:cNvSpPr/>
              <p:nvPr/>
            </p:nvSpPr>
            <p:spPr>
              <a:xfrm>
                <a:off x="7012080" y="466524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7012080" y="466380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7007400" y="467496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7000920" y="468756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6996240" y="4695480"/>
                <a:ext cx="6480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6986520" y="47192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6958080" y="478764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6954840" y="47955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6951600" y="480348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6943680" y="48240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6934320" y="48495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6932520" y="48528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6929280" y="4860720"/>
                <a:ext cx="651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6924600" y="487332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6919920" y="4889160"/>
                <a:ext cx="6336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6919920" y="489060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6913440" y="49068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6912000" y="491148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6902280" y="493524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897600" y="49464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881760" y="4984560"/>
                <a:ext cx="65160" cy="6480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881760" y="498600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881760" y="498924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807240" y="502416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775560" y="5036760"/>
                <a:ext cx="6480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761160" y="50446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684840" y="5081400"/>
                <a:ext cx="63720" cy="633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669000" y="508752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7040" y="5097240"/>
                <a:ext cx="633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634080" y="5101920"/>
                <a:ext cx="6372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602400" y="5111280"/>
                <a:ext cx="6336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568920" y="512244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518160" y="5133600"/>
                <a:ext cx="63720" cy="6372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467400" y="5136840"/>
                <a:ext cx="65160" cy="65160"/>
              </a:xfrm>
              <a:prstGeom prst="ellipse">
                <a:avLst/>
              </a:prstGeom>
              <a:solidFill>
                <a:srgbClr val="ff00ff"/>
              </a:solidFill>
              <a:ln w="1260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677000" y="19825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675560" y="24746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648560" y="26031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648560" y="27795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631280" y="235224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612200" y="2484000"/>
                <a:ext cx="6480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605720" y="2941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602480" y="297612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02480" y="291600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7594560" y="298116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7591320" y="299988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7591320" y="300636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>
                <a:off x="7575480" y="32079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>
                <a:off x="7575480" y="32144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>
                <a:off x="7572240" y="32461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>
                <a:off x="7572240" y="32493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>
                <a:off x="7566120" y="33253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>
                <a:off x="7566120" y="333648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>
                <a:off x="7564320" y="33652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>
                <a:off x="7558200" y="34542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>
                <a:off x="7556400" y="34891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>
                <a:off x="7553160" y="35190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>
                <a:off x="7551720" y="3547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7550280" y="356832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7547040" y="360792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>
                <a:off x="7470720" y="365580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>
                <a:off x="7469280" y="36763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7469280" y="366984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>
                <a:off x="7467480" y="36907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>
                <a:off x="7467480" y="371448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>
                <a:off x="7467480" y="371592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7464600" y="3768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>
                <a:off x="7464600" y="37666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>
                <a:off x="7461360" y="3812760"/>
                <a:ext cx="6480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>
                <a:off x="7459560" y="384948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7458120" y="3858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7454880" y="39333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>
                <a:off x="7454880" y="39333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7453440" y="3941280"/>
                <a:ext cx="6480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7442280" y="40636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7418520" y="4117680"/>
                <a:ext cx="6480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7413480" y="413496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>
                <a:off x="7413480" y="413496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>
                <a:off x="7410600" y="41428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>
                <a:off x="7338960" y="434484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>
                <a:off x="7334280" y="43714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7311960" y="4457520"/>
                <a:ext cx="6372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>
                <a:off x="7310520" y="44636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7307280" y="44766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>
                <a:off x="7300800" y="450036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7300800" y="450180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>
                <a:off x="7297560" y="45241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7296120" y="4528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7296120" y="4528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>
                <a:off x="7291440" y="45478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7288200" y="45622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>
                <a:off x="7286760" y="45637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7286760" y="456696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>
                <a:off x="7283520" y="458136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7278840" y="46000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>
                <a:off x="7270920" y="462888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>
                <a:off x="7270920" y="463212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>
                <a:off x="7270920" y="4633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>
                <a:off x="7267680" y="46479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>
                <a:off x="7259760" y="4686120"/>
                <a:ext cx="633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7257960" y="46908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7257960" y="469224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7245360" y="475884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7240680" y="478584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7238880" y="47970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7238880" y="480024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7237440" y="480816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7236000" y="48114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7234200" y="48240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>
                <a:off x="7230960" y="48351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7229520" y="48510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>
                <a:off x="7227720" y="4854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>
                <a:off x="7226280" y="487008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7224840" y="4876560"/>
                <a:ext cx="6480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>
                <a:off x="7223040" y="488448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>
                <a:off x="7221600" y="49003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7219800" y="490500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>
                <a:off x="7219800" y="490824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7219800" y="490824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>
                <a:off x="7218360" y="4914720"/>
                <a:ext cx="633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>
                <a:off x="7215120" y="493380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>
                <a:off x="7213680" y="494784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>
                <a:off x="7209000" y="49608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>
                <a:off x="7209000" y="49622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>
                <a:off x="7203960" y="497484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7201080" y="498276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>
                <a:off x="7197840" y="4990680"/>
                <a:ext cx="633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>
                <a:off x="7194600" y="49971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>
                <a:off x="7189920" y="5011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7184880" y="50256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>
                <a:off x="7184880" y="50274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>
                <a:off x="7184880" y="5027400"/>
                <a:ext cx="6372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>
                <a:off x="7180200" y="504144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7180200" y="504144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>
                <a:off x="7178760" y="50432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>
                <a:off x="7178760" y="5046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>
                <a:off x="7178760" y="5046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7176960" y="50479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>
                <a:off x="7176960" y="50479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>
                <a:off x="7175520" y="505440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7175520" y="50558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7174080" y="50558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>
                <a:off x="7174080" y="50590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7170840" y="5065560"/>
                <a:ext cx="633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7167600" y="507348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>
                <a:off x="7162920" y="508428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>
                <a:off x="7155000" y="5092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7155000" y="509256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>
                <a:off x="7155000" y="5094000"/>
                <a:ext cx="6480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>
                <a:off x="7149960" y="5097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7149960" y="5097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>
                <a:off x="7149960" y="50972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>
                <a:off x="7148520" y="50986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7140600" y="510984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>
                <a:off x="7137360" y="5111280"/>
                <a:ext cx="6372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>
                <a:off x="7134120" y="511632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>
                <a:off x="7132680" y="51163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7128000" y="5122440"/>
                <a:ext cx="633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7122960" y="5127480"/>
                <a:ext cx="6372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7121520" y="51289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7121520" y="51289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>
                <a:off x="7121520" y="5128920"/>
                <a:ext cx="633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7118280" y="51321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>
                <a:off x="7118280" y="513216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7118280" y="51336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7118280" y="51336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7116840" y="513540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7116840" y="5136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7116840" y="5136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>
                <a:off x="7116840" y="513684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>
                <a:off x="7116840" y="51382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>
                <a:off x="7116840" y="514008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7116840" y="514152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>
                <a:off x="7116840" y="5143320"/>
                <a:ext cx="65160" cy="6480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>
                <a:off x="7116840" y="51447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>
                <a:off x="7116840" y="5144760"/>
                <a:ext cx="65160" cy="651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>
                <a:off x="7116840" y="514620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7116840" y="514800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9" name=""/>
            <p:cNvGrpSpPr/>
            <p:nvPr/>
          </p:nvGrpSpPr>
          <p:grpSpPr>
            <a:xfrm>
              <a:off x="1698480" y="2954160"/>
              <a:ext cx="6318360" cy="2260440"/>
              <a:chOff x="1698480" y="2954160"/>
              <a:chExt cx="6318360" cy="2260440"/>
            </a:xfrm>
          </p:grpSpPr>
          <p:sp>
            <p:nvSpPr>
              <p:cNvPr id="2980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7116840" y="5149440"/>
                <a:ext cx="65160" cy="6372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7116840" y="5151240"/>
                <a:ext cx="65160" cy="63360"/>
              </a:xfrm>
              <a:prstGeom prst="ellipse">
                <a:avLst/>
              </a:prstGeom>
              <a:solidFill>
                <a:srgbClr val="339966"/>
              </a:solidFill>
              <a:ln w="12600">
                <a:solidFill>
                  <a:srgbClr val="33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7940520" y="29556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>
                <a:off x="7867800" y="29541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>
                <a:off x="7705800" y="2976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7682040" y="29811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678800" y="297612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>
                <a:off x="7585200" y="29937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7581960" y="29937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>
                <a:off x="7566120" y="29952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7521480" y="2999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>
                <a:off x="7513560" y="3001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7494480" y="30049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7483320" y="3006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>
                <a:off x="7483320" y="30081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>
                <a:off x="7469280" y="30096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>
                <a:off x="7413480" y="3016080"/>
                <a:ext cx="7488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7310520" y="30222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>
                <a:off x="7308720" y="3024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>
                <a:off x="7277040" y="3025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>
                <a:off x="7262640" y="3025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>
                <a:off x="7237440" y="3026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>
                <a:off x="7229520" y="3028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7223040" y="3028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7218360" y="3028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7205760" y="3030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>
                <a:off x="7169040" y="30351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7167600" y="30351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>
                <a:off x="7145280" y="3038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7135920" y="303984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>
                <a:off x="7132680" y="3039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7078680" y="30445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>
                <a:off x="7058160" y="30477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7054920" y="30477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7050240" y="305100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>
                <a:off x="7045200" y="3051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>
                <a:off x="7039080" y="30538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>
                <a:off x="7023240" y="305892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018200" y="3060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>
                <a:off x="6980400" y="30618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6932520" y="30700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6816600" y="3078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6815160" y="3079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6796080" y="3087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6794640" y="30873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6781680" y="3092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>
                <a:off x="6499080" y="31096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>
                <a:off x="6496200" y="310968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>
                <a:off x="6489720" y="3111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>
                <a:off x="6465960" y="31158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>
                <a:off x="6462720" y="3115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6451560" y="31176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>
                <a:off x="6440400" y="3119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>
                <a:off x="6411960" y="31255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>
                <a:off x="6389640" y="3128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>
                <a:off x="6367320" y="3132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>
                <a:off x="6365880" y="31320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>
                <a:off x="6356520" y="3133440"/>
                <a:ext cx="75960" cy="74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>
                <a:off x="6315120" y="313344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6292800" y="31334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>
                <a:off x="6243480" y="3138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6226200" y="3142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>
                <a:off x="6222960" y="31446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>
                <a:off x="6134040" y="3147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>
                <a:off x="6059520" y="3150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5911920" y="31604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5888160" y="31683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>
                <a:off x="5888160" y="31683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>
                <a:off x="5886360" y="31683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5883120" y="3169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5881680" y="3169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5877000" y="31698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>
                <a:off x="5842080" y="317160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>
                <a:off x="5711760" y="3173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>
                <a:off x="5703840" y="31748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5697360" y="31762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5646600" y="3180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>
                <a:off x="5640480" y="31809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5578560" y="31874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"/>
              <p:cNvSpPr/>
              <p:nvPr/>
            </p:nvSpPr>
            <p:spPr>
              <a:xfrm>
                <a:off x="5559480" y="3188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"/>
              <p:cNvSpPr/>
              <p:nvPr/>
            </p:nvSpPr>
            <p:spPr>
              <a:xfrm>
                <a:off x="5481720" y="319212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"/>
              <p:cNvSpPr/>
              <p:nvPr/>
            </p:nvSpPr>
            <p:spPr>
              <a:xfrm>
                <a:off x="5345280" y="320184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"/>
              <p:cNvSpPr/>
              <p:nvPr/>
            </p:nvSpPr>
            <p:spPr>
              <a:xfrm>
                <a:off x="5345280" y="32032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"/>
              <p:cNvSpPr/>
              <p:nvPr/>
            </p:nvSpPr>
            <p:spPr>
              <a:xfrm>
                <a:off x="5345280" y="32032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"/>
              <p:cNvSpPr/>
              <p:nvPr/>
            </p:nvSpPr>
            <p:spPr>
              <a:xfrm>
                <a:off x="5340240" y="3204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"/>
              <p:cNvSpPr/>
              <p:nvPr/>
            </p:nvSpPr>
            <p:spPr>
              <a:xfrm>
                <a:off x="5338800" y="3204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"/>
              <p:cNvSpPr/>
              <p:nvPr/>
            </p:nvSpPr>
            <p:spPr>
              <a:xfrm>
                <a:off x="5332320" y="32065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"/>
              <p:cNvSpPr/>
              <p:nvPr/>
            </p:nvSpPr>
            <p:spPr>
              <a:xfrm>
                <a:off x="5330880" y="3207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"/>
              <p:cNvSpPr/>
              <p:nvPr/>
            </p:nvSpPr>
            <p:spPr>
              <a:xfrm>
                <a:off x="5316480" y="32112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"/>
              <p:cNvSpPr/>
              <p:nvPr/>
            </p:nvSpPr>
            <p:spPr>
              <a:xfrm>
                <a:off x="5313240" y="3212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"/>
              <p:cNvSpPr/>
              <p:nvPr/>
            </p:nvSpPr>
            <p:spPr>
              <a:xfrm>
                <a:off x="5313240" y="3212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"/>
              <p:cNvSpPr/>
              <p:nvPr/>
            </p:nvSpPr>
            <p:spPr>
              <a:xfrm>
                <a:off x="5191200" y="321444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"/>
              <p:cNvSpPr/>
              <p:nvPr/>
            </p:nvSpPr>
            <p:spPr>
              <a:xfrm>
                <a:off x="5176800" y="3215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"/>
              <p:cNvSpPr/>
              <p:nvPr/>
            </p:nvSpPr>
            <p:spPr>
              <a:xfrm>
                <a:off x="5175360" y="32158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"/>
              <p:cNvSpPr/>
              <p:nvPr/>
            </p:nvSpPr>
            <p:spPr>
              <a:xfrm>
                <a:off x="5162400" y="32191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"/>
              <p:cNvSpPr/>
              <p:nvPr/>
            </p:nvSpPr>
            <p:spPr>
              <a:xfrm>
                <a:off x="5156280" y="32205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"/>
              <p:cNvSpPr/>
              <p:nvPr/>
            </p:nvSpPr>
            <p:spPr>
              <a:xfrm>
                <a:off x="5130720" y="3227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5127480" y="32284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5095800" y="32302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5064120" y="32335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"/>
              <p:cNvSpPr/>
              <p:nvPr/>
            </p:nvSpPr>
            <p:spPr>
              <a:xfrm>
                <a:off x="5064120" y="3234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"/>
              <p:cNvSpPr/>
              <p:nvPr/>
            </p:nvSpPr>
            <p:spPr>
              <a:xfrm>
                <a:off x="5057640" y="3236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"/>
              <p:cNvSpPr/>
              <p:nvPr/>
            </p:nvSpPr>
            <p:spPr>
              <a:xfrm>
                <a:off x="5056200" y="3236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>
                <a:off x="5051520" y="32382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5045040" y="3239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>
                <a:off x="5033880" y="3242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5030640" y="3242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>
                <a:off x="5019840" y="3246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5000760" y="3246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>
                <a:off x="4984920" y="32493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4957920" y="32540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4952880" y="32540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"/>
              <p:cNvSpPr/>
              <p:nvPr/>
            </p:nvSpPr>
            <p:spPr>
              <a:xfrm>
                <a:off x="4879800" y="3263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"/>
              <p:cNvSpPr/>
              <p:nvPr/>
            </p:nvSpPr>
            <p:spPr>
              <a:xfrm>
                <a:off x="4879800" y="32637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"/>
              <p:cNvSpPr/>
              <p:nvPr/>
            </p:nvSpPr>
            <p:spPr>
              <a:xfrm>
                <a:off x="4867200" y="3274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"/>
              <p:cNvSpPr/>
              <p:nvPr/>
            </p:nvSpPr>
            <p:spPr>
              <a:xfrm>
                <a:off x="4863960" y="3276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"/>
              <p:cNvSpPr/>
              <p:nvPr/>
            </p:nvSpPr>
            <p:spPr>
              <a:xfrm>
                <a:off x="4863960" y="3276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"/>
              <p:cNvSpPr/>
              <p:nvPr/>
            </p:nvSpPr>
            <p:spPr>
              <a:xfrm>
                <a:off x="4857840" y="32810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"/>
              <p:cNvSpPr/>
              <p:nvPr/>
            </p:nvSpPr>
            <p:spPr>
              <a:xfrm>
                <a:off x="4849920" y="32842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"/>
              <p:cNvSpPr/>
              <p:nvPr/>
            </p:nvSpPr>
            <p:spPr>
              <a:xfrm>
                <a:off x="4762440" y="3311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"/>
              <p:cNvSpPr/>
              <p:nvPr/>
            </p:nvSpPr>
            <p:spPr>
              <a:xfrm>
                <a:off x="4762440" y="3311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"/>
              <p:cNvSpPr/>
              <p:nvPr/>
            </p:nvSpPr>
            <p:spPr>
              <a:xfrm>
                <a:off x="4761000" y="331452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"/>
              <p:cNvSpPr/>
              <p:nvPr/>
            </p:nvSpPr>
            <p:spPr>
              <a:xfrm>
                <a:off x="4757760" y="3315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"/>
              <p:cNvSpPr/>
              <p:nvPr/>
            </p:nvSpPr>
            <p:spPr>
              <a:xfrm>
                <a:off x="4749840" y="3320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"/>
              <p:cNvSpPr/>
              <p:nvPr/>
            </p:nvSpPr>
            <p:spPr>
              <a:xfrm>
                <a:off x="4746600" y="3322440"/>
                <a:ext cx="76320" cy="745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"/>
              <p:cNvSpPr/>
              <p:nvPr/>
            </p:nvSpPr>
            <p:spPr>
              <a:xfrm>
                <a:off x="4564080" y="33476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"/>
              <p:cNvSpPr/>
              <p:nvPr/>
            </p:nvSpPr>
            <p:spPr>
              <a:xfrm>
                <a:off x="4559400" y="33541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"/>
              <p:cNvSpPr/>
              <p:nvPr/>
            </p:nvSpPr>
            <p:spPr>
              <a:xfrm>
                <a:off x="4559400" y="33523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"/>
              <p:cNvSpPr/>
              <p:nvPr/>
            </p:nvSpPr>
            <p:spPr>
              <a:xfrm>
                <a:off x="4556160" y="3357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"/>
              <p:cNvSpPr/>
              <p:nvPr/>
            </p:nvSpPr>
            <p:spPr>
              <a:xfrm>
                <a:off x="4546440" y="33606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"/>
              <p:cNvSpPr/>
              <p:nvPr/>
            </p:nvSpPr>
            <p:spPr>
              <a:xfrm>
                <a:off x="4519440" y="3365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"/>
              <p:cNvSpPr/>
              <p:nvPr/>
            </p:nvSpPr>
            <p:spPr>
              <a:xfrm>
                <a:off x="4514760" y="3365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"/>
              <p:cNvSpPr/>
              <p:nvPr/>
            </p:nvSpPr>
            <p:spPr>
              <a:xfrm>
                <a:off x="4495680" y="3369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"/>
              <p:cNvSpPr/>
              <p:nvPr/>
            </p:nvSpPr>
            <p:spPr>
              <a:xfrm>
                <a:off x="4430880" y="33904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"/>
              <p:cNvSpPr/>
              <p:nvPr/>
            </p:nvSpPr>
            <p:spPr>
              <a:xfrm>
                <a:off x="4427640" y="33904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"/>
              <p:cNvSpPr/>
              <p:nvPr/>
            </p:nvSpPr>
            <p:spPr>
              <a:xfrm>
                <a:off x="4413240" y="33969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"/>
              <p:cNvSpPr/>
              <p:nvPr/>
            </p:nvSpPr>
            <p:spPr>
              <a:xfrm>
                <a:off x="4410000" y="33984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"/>
              <p:cNvSpPr/>
              <p:nvPr/>
            </p:nvSpPr>
            <p:spPr>
              <a:xfrm>
                <a:off x="4408560" y="33984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"/>
              <p:cNvSpPr/>
              <p:nvPr/>
            </p:nvSpPr>
            <p:spPr>
              <a:xfrm>
                <a:off x="4406760" y="34002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"/>
              <p:cNvSpPr/>
              <p:nvPr/>
            </p:nvSpPr>
            <p:spPr>
              <a:xfrm>
                <a:off x="4397400" y="34048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"/>
              <p:cNvSpPr/>
              <p:nvPr/>
            </p:nvSpPr>
            <p:spPr>
              <a:xfrm>
                <a:off x="4389480" y="3409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"/>
              <p:cNvSpPr/>
              <p:nvPr/>
            </p:nvSpPr>
            <p:spPr>
              <a:xfrm>
                <a:off x="4365720" y="34221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"/>
              <p:cNvSpPr/>
              <p:nvPr/>
            </p:nvSpPr>
            <p:spPr>
              <a:xfrm>
                <a:off x="4151160" y="34304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"/>
              <p:cNvSpPr/>
              <p:nvPr/>
            </p:nvSpPr>
            <p:spPr>
              <a:xfrm>
                <a:off x="4137120" y="343512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"/>
              <p:cNvSpPr/>
              <p:nvPr/>
            </p:nvSpPr>
            <p:spPr>
              <a:xfrm>
                <a:off x="4132440" y="343836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"/>
              <p:cNvSpPr/>
              <p:nvPr/>
            </p:nvSpPr>
            <p:spPr>
              <a:xfrm>
                <a:off x="4119480" y="34462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"/>
              <p:cNvSpPr/>
              <p:nvPr/>
            </p:nvSpPr>
            <p:spPr>
              <a:xfrm>
                <a:off x="4111560" y="34524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4095720" y="3463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4092480" y="3465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4079880" y="34747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"/>
              <p:cNvSpPr/>
              <p:nvPr/>
            </p:nvSpPr>
            <p:spPr>
              <a:xfrm>
                <a:off x="3922560" y="34923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"/>
              <p:cNvSpPr/>
              <p:nvPr/>
            </p:nvSpPr>
            <p:spPr>
              <a:xfrm>
                <a:off x="3602160" y="352224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"/>
              <p:cNvSpPr/>
              <p:nvPr/>
            </p:nvSpPr>
            <p:spPr>
              <a:xfrm>
                <a:off x="3600360" y="35240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>
                <a:off x="3584520" y="35478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3576600" y="35539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>
                <a:off x="3573360" y="35589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3571920" y="35622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>
                <a:off x="3571920" y="35622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3390840" y="358596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>
                <a:off x="3381480" y="3589200"/>
                <a:ext cx="7596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3359160" y="35985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3322800" y="3622320"/>
                <a:ext cx="745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"/>
              <p:cNvSpPr/>
              <p:nvPr/>
            </p:nvSpPr>
            <p:spPr>
              <a:xfrm>
                <a:off x="2998800" y="363024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"/>
              <p:cNvSpPr/>
              <p:nvPr/>
            </p:nvSpPr>
            <p:spPr>
              <a:xfrm>
                <a:off x="2995560" y="36334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"/>
              <p:cNvSpPr/>
              <p:nvPr/>
            </p:nvSpPr>
            <p:spPr>
              <a:xfrm>
                <a:off x="2995560" y="36334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"/>
              <p:cNvSpPr/>
              <p:nvPr/>
            </p:nvSpPr>
            <p:spPr>
              <a:xfrm>
                <a:off x="2878200" y="365400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"/>
              <p:cNvSpPr/>
              <p:nvPr/>
            </p:nvSpPr>
            <p:spPr>
              <a:xfrm>
                <a:off x="2863800" y="36716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"/>
              <p:cNvSpPr/>
              <p:nvPr/>
            </p:nvSpPr>
            <p:spPr>
              <a:xfrm>
                <a:off x="2851200" y="368568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"/>
              <p:cNvSpPr/>
              <p:nvPr/>
            </p:nvSpPr>
            <p:spPr>
              <a:xfrm>
                <a:off x="2697120" y="36954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"/>
              <p:cNvSpPr/>
              <p:nvPr/>
            </p:nvSpPr>
            <p:spPr>
              <a:xfrm>
                <a:off x="2687760" y="370332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"/>
              <p:cNvSpPr/>
              <p:nvPr/>
            </p:nvSpPr>
            <p:spPr>
              <a:xfrm>
                <a:off x="2657520" y="37350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"/>
              <p:cNvSpPr/>
              <p:nvPr/>
            </p:nvSpPr>
            <p:spPr>
              <a:xfrm>
                <a:off x="2655720" y="37368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"/>
              <p:cNvSpPr/>
              <p:nvPr/>
            </p:nvSpPr>
            <p:spPr>
              <a:xfrm>
                <a:off x="2627280" y="374616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"/>
              <p:cNvSpPr/>
              <p:nvPr/>
            </p:nvSpPr>
            <p:spPr>
              <a:xfrm>
                <a:off x="2611440" y="375264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"/>
              <p:cNvSpPr/>
              <p:nvPr/>
            </p:nvSpPr>
            <p:spPr>
              <a:xfrm>
                <a:off x="2584440" y="377172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"/>
              <p:cNvSpPr/>
              <p:nvPr/>
            </p:nvSpPr>
            <p:spPr>
              <a:xfrm>
                <a:off x="2583000" y="377316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"/>
              <p:cNvSpPr/>
              <p:nvPr/>
            </p:nvSpPr>
            <p:spPr>
              <a:xfrm>
                <a:off x="2238480" y="3793680"/>
                <a:ext cx="7596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"/>
              <p:cNvSpPr/>
              <p:nvPr/>
            </p:nvSpPr>
            <p:spPr>
              <a:xfrm>
                <a:off x="2232000" y="379548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"/>
              <p:cNvSpPr/>
              <p:nvPr/>
            </p:nvSpPr>
            <p:spPr>
              <a:xfrm>
                <a:off x="1941480" y="380160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"/>
              <p:cNvSpPr/>
              <p:nvPr/>
            </p:nvSpPr>
            <p:spPr>
              <a:xfrm>
                <a:off x="1917720" y="3823920"/>
                <a:ext cx="76320" cy="7632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"/>
              <p:cNvSpPr/>
              <p:nvPr/>
            </p:nvSpPr>
            <p:spPr>
              <a:xfrm>
                <a:off x="1909800" y="38304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"/>
              <p:cNvSpPr/>
              <p:nvPr/>
            </p:nvSpPr>
            <p:spPr>
              <a:xfrm>
                <a:off x="1698480" y="3857400"/>
                <a:ext cx="76320" cy="7596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0" name=""/>
            <p:cNvSpPr/>
            <p:nvPr/>
          </p:nvSpPr>
          <p:spPr>
            <a:xfrm>
              <a:off x="1698480" y="385920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1690560" y="386208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1569960" y="389700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547640" y="390816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542960" y="390996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1533600" y="391464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504800" y="392724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1454040" y="395424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173240" y="397800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170000" y="398772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1162080" y="4006800"/>
              <a:ext cx="76320" cy="7596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1160640" y="400968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1160640" y="401148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1157400" y="401616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1154160" y="4024080"/>
              <a:ext cx="7632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603360" y="408924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8215920" y="5092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8215560" y="4662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8215560" y="42303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8215560" y="38019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8215560" y="337176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8214840" y="29415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8214840" y="2511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8214840" y="20811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8214840" y="16509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8214840" y="12207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7985520" y="5319720"/>
              <a:ext cx="221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7579440" y="531972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706284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658836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611532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564048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516744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69296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421956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374508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3272040" y="5319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75364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8060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180612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133308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85824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385200" y="53197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2139480" y="5578200"/>
              <a:ext cx="4325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-time-distance (years): + time lag, - time lead from Swed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 rot="16200000">
              <a:off x="7886880" y="3157560"/>
              <a:ext cx="146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ex (Sweden=100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1049400" y="5903640"/>
              <a:ext cx="6548400" cy="222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1112760" y="5991120"/>
              <a:ext cx="63720" cy="6336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1224360" y="5932440"/>
              <a:ext cx="936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net us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2251080" y="5991120"/>
              <a:ext cx="63360" cy="6336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2358360" y="5932440"/>
              <a:ext cx="174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bile phone subscr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4194000" y="5991120"/>
              <a:ext cx="65160" cy="63360"/>
            </a:xfrm>
            <a:prstGeom prst="ellipse">
              <a:avLst/>
            </a:prstGeom>
            <a:solidFill>
              <a:srgbClr val="339966"/>
            </a:solidFill>
            <a:ln w="1260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4300920" y="5932440"/>
              <a:ext cx="19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ixed broadband subscrib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361200" y="5984640"/>
              <a:ext cx="75960" cy="76320"/>
            </a:xfrm>
            <a:prstGeom prst="ellipse">
              <a:avLst/>
            </a:prstGeom>
            <a:solidFill>
              <a:srgbClr val="ff9900"/>
            </a:solidFill>
            <a:ln w="1260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77480" y="5932440"/>
              <a:ext cx="1064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 expectanc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4" name=""/>
          <p:cNvSpPr/>
          <p:nvPr/>
        </p:nvSpPr>
        <p:spPr>
          <a:xfrm>
            <a:off x="821880" y="6380280"/>
            <a:ext cx="701136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Degree of disparity may be very different in static terms and in tim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/>
          <p:nvPr/>
        </p:nvSpPr>
        <p:spPr>
          <a:xfrm>
            <a:off x="496800" y="1454040"/>
            <a:ext cx="7599600" cy="37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"/>
          <p:cNvSpPr/>
          <p:nvPr/>
        </p:nvSpPr>
        <p:spPr>
          <a:xfrm>
            <a:off x="496800" y="459756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"/>
          <p:cNvSpPr/>
          <p:nvPr/>
        </p:nvSpPr>
        <p:spPr>
          <a:xfrm>
            <a:off x="496800" y="3968640"/>
            <a:ext cx="759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"/>
          <p:cNvSpPr/>
          <p:nvPr/>
        </p:nvSpPr>
        <p:spPr>
          <a:xfrm>
            <a:off x="496800" y="334008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"/>
          <p:cNvSpPr/>
          <p:nvPr/>
        </p:nvSpPr>
        <p:spPr>
          <a:xfrm>
            <a:off x="496800" y="271152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"/>
          <p:cNvSpPr/>
          <p:nvPr/>
        </p:nvSpPr>
        <p:spPr>
          <a:xfrm>
            <a:off x="496800" y="208296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"/>
          <p:cNvSpPr/>
          <p:nvPr/>
        </p:nvSpPr>
        <p:spPr>
          <a:xfrm>
            <a:off x="496800" y="1454040"/>
            <a:ext cx="7599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2" name=""/>
          <p:cNvSpPr/>
          <p:nvPr/>
        </p:nvSpPr>
        <p:spPr>
          <a:xfrm>
            <a:off x="496800" y="1454040"/>
            <a:ext cx="7599600" cy="37720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"/>
          <p:cNvSpPr/>
          <p:nvPr/>
        </p:nvSpPr>
        <p:spPr>
          <a:xfrm>
            <a:off x="7010280" y="1454040"/>
            <a:ext cx="49320" cy="3772080"/>
          </a:xfrm>
          <a:custGeom>
            <a:avLst/>
            <a:gdLst/>
            <a:ahLst/>
            <a:rect l="l" t="t" r="r" b="b"/>
            <a:pathLst>
              <a:path w="32" h="2476">
                <a:moveTo>
                  <a:pt x="0" y="0"/>
                </a:moveTo>
                <a:lnTo>
                  <a:pt x="0" y="2476"/>
                </a:lnTo>
                <a:lnTo>
                  <a:pt x="32" y="24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"/>
          <p:cNvSpPr/>
          <p:nvPr/>
        </p:nvSpPr>
        <p:spPr>
          <a:xfrm>
            <a:off x="7010280" y="45975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"/>
          <p:cNvSpPr/>
          <p:nvPr/>
        </p:nvSpPr>
        <p:spPr>
          <a:xfrm>
            <a:off x="7010280" y="39686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7010280" y="334008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"/>
          <p:cNvSpPr/>
          <p:nvPr/>
        </p:nvSpPr>
        <p:spPr>
          <a:xfrm>
            <a:off x="7010280" y="271152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"/>
          <p:cNvSpPr/>
          <p:nvPr/>
        </p:nvSpPr>
        <p:spPr>
          <a:xfrm>
            <a:off x="7010280" y="2082960"/>
            <a:ext cx="49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"/>
          <p:cNvSpPr/>
          <p:nvPr/>
        </p:nvSpPr>
        <p:spPr>
          <a:xfrm>
            <a:off x="7010280" y="1454040"/>
            <a:ext cx="49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"/>
          <p:cNvSpPr/>
          <p:nvPr/>
        </p:nvSpPr>
        <p:spPr>
          <a:xfrm>
            <a:off x="496800" y="5226120"/>
            <a:ext cx="7599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"/>
          <p:cNvSpPr/>
          <p:nvPr/>
        </p:nvSpPr>
        <p:spPr>
          <a:xfrm flipV="1">
            <a:off x="809640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"/>
          <p:cNvSpPr/>
          <p:nvPr/>
        </p:nvSpPr>
        <p:spPr>
          <a:xfrm flipV="1">
            <a:off x="701028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"/>
          <p:cNvSpPr/>
          <p:nvPr/>
        </p:nvSpPr>
        <p:spPr>
          <a:xfrm flipV="1">
            <a:off x="592596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 flipV="1">
            <a:off x="483876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 flipV="1">
            <a:off x="375444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 flipV="1">
            <a:off x="2668680" y="5225760"/>
            <a:ext cx="144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"/>
          <p:cNvSpPr/>
          <p:nvPr/>
        </p:nvSpPr>
        <p:spPr>
          <a:xfrm flipV="1">
            <a:off x="158256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 flipV="1">
            <a:off x="496800" y="5225760"/>
            <a:ext cx="1800" cy="49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"/>
          <p:cNvSpPr/>
          <p:nvPr/>
        </p:nvSpPr>
        <p:spPr>
          <a:xfrm>
            <a:off x="6966000" y="203832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"/>
          <p:cNvSpPr/>
          <p:nvPr/>
        </p:nvSpPr>
        <p:spPr>
          <a:xfrm>
            <a:off x="6819840" y="20462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"/>
          <p:cNvSpPr/>
          <p:nvPr/>
        </p:nvSpPr>
        <p:spPr>
          <a:xfrm>
            <a:off x="6805440" y="2048040"/>
            <a:ext cx="87480" cy="88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"/>
          <p:cNvSpPr/>
          <p:nvPr/>
        </p:nvSpPr>
        <p:spPr>
          <a:xfrm>
            <a:off x="6730920" y="2057400"/>
            <a:ext cx="889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"/>
          <p:cNvSpPr/>
          <p:nvPr/>
        </p:nvSpPr>
        <p:spPr>
          <a:xfrm>
            <a:off x="6340320" y="208116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"/>
          <p:cNvSpPr/>
          <p:nvPr/>
        </p:nvSpPr>
        <p:spPr>
          <a:xfrm>
            <a:off x="6334200" y="208116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"/>
          <p:cNvSpPr/>
          <p:nvPr/>
        </p:nvSpPr>
        <p:spPr>
          <a:xfrm>
            <a:off x="6261120" y="208440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"/>
          <p:cNvSpPr/>
          <p:nvPr/>
        </p:nvSpPr>
        <p:spPr>
          <a:xfrm>
            <a:off x="6168960" y="20876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"/>
          <p:cNvSpPr/>
          <p:nvPr/>
        </p:nvSpPr>
        <p:spPr>
          <a:xfrm>
            <a:off x="6153120" y="208908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"/>
          <p:cNvSpPr/>
          <p:nvPr/>
        </p:nvSpPr>
        <p:spPr>
          <a:xfrm>
            <a:off x="6137280" y="208908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"/>
          <p:cNvSpPr/>
          <p:nvPr/>
        </p:nvSpPr>
        <p:spPr>
          <a:xfrm>
            <a:off x="6124680" y="209088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"/>
          <p:cNvSpPr/>
          <p:nvPr/>
        </p:nvSpPr>
        <p:spPr>
          <a:xfrm>
            <a:off x="6012000" y="209880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1" name=""/>
          <p:cNvSpPr/>
          <p:nvPr/>
        </p:nvSpPr>
        <p:spPr>
          <a:xfrm>
            <a:off x="5958000" y="210348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"/>
          <p:cNvSpPr/>
          <p:nvPr/>
        </p:nvSpPr>
        <p:spPr>
          <a:xfrm>
            <a:off x="5931000" y="2104920"/>
            <a:ext cx="871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"/>
          <p:cNvSpPr/>
          <p:nvPr/>
        </p:nvSpPr>
        <p:spPr>
          <a:xfrm>
            <a:off x="5807160" y="2109960"/>
            <a:ext cx="88920" cy="8856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"/>
          <p:cNvSpPr/>
          <p:nvPr/>
        </p:nvSpPr>
        <p:spPr>
          <a:xfrm>
            <a:off x="5678640" y="213372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"/>
          <p:cNvSpPr/>
          <p:nvPr/>
        </p:nvSpPr>
        <p:spPr>
          <a:xfrm>
            <a:off x="5583240" y="2138400"/>
            <a:ext cx="8748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"/>
          <p:cNvSpPr/>
          <p:nvPr/>
        </p:nvSpPr>
        <p:spPr>
          <a:xfrm>
            <a:off x="5207040" y="2160720"/>
            <a:ext cx="871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"/>
          <p:cNvSpPr/>
          <p:nvPr/>
        </p:nvSpPr>
        <p:spPr>
          <a:xfrm>
            <a:off x="4402080" y="221472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"/>
          <p:cNvSpPr/>
          <p:nvPr/>
        </p:nvSpPr>
        <p:spPr>
          <a:xfrm>
            <a:off x="3852720" y="2257560"/>
            <a:ext cx="889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"/>
          <p:cNvSpPr/>
          <p:nvPr/>
        </p:nvSpPr>
        <p:spPr>
          <a:xfrm>
            <a:off x="3065400" y="2293920"/>
            <a:ext cx="889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"/>
          <p:cNvSpPr/>
          <p:nvPr/>
        </p:nvSpPr>
        <p:spPr>
          <a:xfrm>
            <a:off x="1836720" y="234000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"/>
          <p:cNvSpPr/>
          <p:nvPr/>
        </p:nvSpPr>
        <p:spPr>
          <a:xfrm>
            <a:off x="1833480" y="2341440"/>
            <a:ext cx="8748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"/>
          <p:cNvSpPr/>
          <p:nvPr/>
        </p:nvSpPr>
        <p:spPr>
          <a:xfrm>
            <a:off x="1762200" y="2359080"/>
            <a:ext cx="8712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"/>
          <p:cNvSpPr/>
          <p:nvPr/>
        </p:nvSpPr>
        <p:spPr>
          <a:xfrm>
            <a:off x="1482840" y="2360520"/>
            <a:ext cx="88920" cy="8748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"/>
          <p:cNvSpPr/>
          <p:nvPr/>
        </p:nvSpPr>
        <p:spPr>
          <a:xfrm>
            <a:off x="1146240" y="23954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"/>
          <p:cNvSpPr/>
          <p:nvPr/>
        </p:nvSpPr>
        <p:spPr>
          <a:xfrm>
            <a:off x="1047600" y="2408400"/>
            <a:ext cx="87480" cy="871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"/>
          <p:cNvSpPr/>
          <p:nvPr/>
        </p:nvSpPr>
        <p:spPr>
          <a:xfrm>
            <a:off x="7101000" y="1459080"/>
            <a:ext cx="87120" cy="87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"/>
          <p:cNvSpPr/>
          <p:nvPr/>
        </p:nvSpPr>
        <p:spPr>
          <a:xfrm>
            <a:off x="7099200" y="1714680"/>
            <a:ext cx="87480" cy="885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"/>
          <p:cNvSpPr/>
          <p:nvPr/>
        </p:nvSpPr>
        <p:spPr>
          <a:xfrm>
            <a:off x="6975360" y="200808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"/>
          <p:cNvSpPr/>
          <p:nvPr/>
        </p:nvSpPr>
        <p:spPr>
          <a:xfrm>
            <a:off x="6966000" y="20383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0" name=""/>
          <p:cNvSpPr/>
          <p:nvPr/>
        </p:nvSpPr>
        <p:spPr>
          <a:xfrm>
            <a:off x="6924600" y="2398680"/>
            <a:ext cx="88920" cy="87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"/>
          <p:cNvSpPr/>
          <p:nvPr/>
        </p:nvSpPr>
        <p:spPr>
          <a:xfrm>
            <a:off x="6913440" y="2513160"/>
            <a:ext cx="87480" cy="87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"/>
          <p:cNvSpPr/>
          <p:nvPr/>
        </p:nvSpPr>
        <p:spPr>
          <a:xfrm>
            <a:off x="6910560" y="252900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"/>
          <p:cNvSpPr/>
          <p:nvPr/>
        </p:nvSpPr>
        <p:spPr>
          <a:xfrm>
            <a:off x="6907320" y="257328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"/>
          <p:cNvSpPr/>
          <p:nvPr/>
        </p:nvSpPr>
        <p:spPr>
          <a:xfrm>
            <a:off x="6891480" y="2701800"/>
            <a:ext cx="88920" cy="87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"/>
          <p:cNvSpPr/>
          <p:nvPr/>
        </p:nvSpPr>
        <p:spPr>
          <a:xfrm>
            <a:off x="6688080" y="302580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"/>
          <p:cNvSpPr/>
          <p:nvPr/>
        </p:nvSpPr>
        <p:spPr>
          <a:xfrm>
            <a:off x="6683400" y="3084480"/>
            <a:ext cx="87120" cy="8748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"/>
          <p:cNvSpPr/>
          <p:nvPr/>
        </p:nvSpPr>
        <p:spPr>
          <a:xfrm>
            <a:off x="6675480" y="3157560"/>
            <a:ext cx="88920" cy="871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"/>
          <p:cNvSpPr/>
          <p:nvPr/>
        </p:nvSpPr>
        <p:spPr>
          <a:xfrm>
            <a:off x="6664320" y="3294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"/>
          <p:cNvSpPr/>
          <p:nvPr/>
        </p:nvSpPr>
        <p:spPr>
          <a:xfrm>
            <a:off x="6654960" y="3402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"/>
          <p:cNvSpPr/>
          <p:nvPr/>
        </p:nvSpPr>
        <p:spPr>
          <a:xfrm>
            <a:off x="6654960" y="3402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"/>
          <p:cNvSpPr/>
          <p:nvPr/>
        </p:nvSpPr>
        <p:spPr>
          <a:xfrm>
            <a:off x="6654960" y="341460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"/>
          <p:cNvSpPr/>
          <p:nvPr/>
        </p:nvSpPr>
        <p:spPr>
          <a:xfrm>
            <a:off x="6622920" y="359100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"/>
          <p:cNvSpPr/>
          <p:nvPr/>
        </p:nvSpPr>
        <p:spPr>
          <a:xfrm>
            <a:off x="6573960" y="367200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"/>
          <p:cNvSpPr/>
          <p:nvPr/>
        </p:nvSpPr>
        <p:spPr>
          <a:xfrm>
            <a:off x="6558120" y="369576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"/>
          <p:cNvSpPr/>
          <p:nvPr/>
        </p:nvSpPr>
        <p:spPr>
          <a:xfrm>
            <a:off x="6551640" y="37069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"/>
          <p:cNvSpPr/>
          <p:nvPr/>
        </p:nvSpPr>
        <p:spPr>
          <a:xfrm>
            <a:off x="6389640" y="400356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"/>
          <p:cNvSpPr/>
          <p:nvPr/>
        </p:nvSpPr>
        <p:spPr>
          <a:xfrm>
            <a:off x="6375240" y="40417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"/>
          <p:cNvSpPr/>
          <p:nvPr/>
        </p:nvSpPr>
        <p:spPr>
          <a:xfrm>
            <a:off x="6305400" y="423072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"/>
          <p:cNvSpPr/>
          <p:nvPr/>
        </p:nvSpPr>
        <p:spPr>
          <a:xfrm>
            <a:off x="6305400" y="4232160"/>
            <a:ext cx="8748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"/>
          <p:cNvSpPr/>
          <p:nvPr/>
        </p:nvSpPr>
        <p:spPr>
          <a:xfrm>
            <a:off x="6289560" y="427212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"/>
          <p:cNvSpPr/>
          <p:nvPr/>
        </p:nvSpPr>
        <p:spPr>
          <a:xfrm>
            <a:off x="6272280" y="431964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2" name=""/>
          <p:cNvSpPr/>
          <p:nvPr/>
        </p:nvSpPr>
        <p:spPr>
          <a:xfrm>
            <a:off x="6202440" y="4508640"/>
            <a:ext cx="889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"/>
          <p:cNvSpPr/>
          <p:nvPr/>
        </p:nvSpPr>
        <p:spPr>
          <a:xfrm>
            <a:off x="7348680" y="1571760"/>
            <a:ext cx="889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"/>
          <p:cNvSpPr/>
          <p:nvPr/>
        </p:nvSpPr>
        <p:spPr>
          <a:xfrm>
            <a:off x="7066080" y="1947960"/>
            <a:ext cx="871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"/>
          <p:cNvSpPr/>
          <p:nvPr/>
        </p:nvSpPr>
        <p:spPr>
          <a:xfrm>
            <a:off x="6966000" y="203832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"/>
          <p:cNvSpPr/>
          <p:nvPr/>
        </p:nvSpPr>
        <p:spPr>
          <a:xfrm>
            <a:off x="6870600" y="2144880"/>
            <a:ext cx="8748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"/>
          <p:cNvSpPr/>
          <p:nvPr/>
        </p:nvSpPr>
        <p:spPr>
          <a:xfrm>
            <a:off x="6850080" y="216360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"/>
          <p:cNvSpPr/>
          <p:nvPr/>
        </p:nvSpPr>
        <p:spPr>
          <a:xfrm>
            <a:off x="6815160" y="219240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"/>
          <p:cNvSpPr/>
          <p:nvPr/>
        </p:nvSpPr>
        <p:spPr>
          <a:xfrm>
            <a:off x="6780240" y="222264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"/>
          <p:cNvSpPr/>
          <p:nvPr/>
        </p:nvSpPr>
        <p:spPr>
          <a:xfrm>
            <a:off x="6773760" y="222732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"/>
          <p:cNvSpPr/>
          <p:nvPr/>
        </p:nvSpPr>
        <p:spPr>
          <a:xfrm>
            <a:off x="6770520" y="222876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"/>
          <p:cNvSpPr/>
          <p:nvPr/>
        </p:nvSpPr>
        <p:spPr>
          <a:xfrm>
            <a:off x="6222960" y="2585880"/>
            <a:ext cx="88920" cy="87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"/>
          <p:cNvSpPr/>
          <p:nvPr/>
        </p:nvSpPr>
        <p:spPr>
          <a:xfrm>
            <a:off x="6200640" y="261000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"/>
          <p:cNvSpPr/>
          <p:nvPr/>
        </p:nvSpPr>
        <p:spPr>
          <a:xfrm>
            <a:off x="6149880" y="266076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"/>
          <p:cNvSpPr/>
          <p:nvPr/>
        </p:nvSpPr>
        <p:spPr>
          <a:xfrm>
            <a:off x="6075360" y="273060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"/>
          <p:cNvSpPr/>
          <p:nvPr/>
        </p:nvSpPr>
        <p:spPr>
          <a:xfrm>
            <a:off x="4748040" y="305604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"/>
          <p:cNvSpPr/>
          <p:nvPr/>
        </p:nvSpPr>
        <p:spPr>
          <a:xfrm>
            <a:off x="4545000" y="313848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"/>
          <p:cNvSpPr/>
          <p:nvPr/>
        </p:nvSpPr>
        <p:spPr>
          <a:xfrm>
            <a:off x="3927600" y="3336840"/>
            <a:ext cx="871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"/>
          <p:cNvSpPr/>
          <p:nvPr/>
        </p:nvSpPr>
        <p:spPr>
          <a:xfrm>
            <a:off x="3354480" y="3446640"/>
            <a:ext cx="87120" cy="88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"/>
          <p:cNvSpPr/>
          <p:nvPr/>
        </p:nvSpPr>
        <p:spPr>
          <a:xfrm>
            <a:off x="2882880" y="3656160"/>
            <a:ext cx="889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"/>
          <p:cNvSpPr/>
          <p:nvPr/>
        </p:nvSpPr>
        <p:spPr>
          <a:xfrm>
            <a:off x="2666880" y="374796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"/>
          <p:cNvSpPr/>
          <p:nvPr/>
        </p:nvSpPr>
        <p:spPr>
          <a:xfrm>
            <a:off x="2314440" y="3882960"/>
            <a:ext cx="88920" cy="8748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"/>
          <p:cNvSpPr/>
          <p:nvPr/>
        </p:nvSpPr>
        <p:spPr>
          <a:xfrm>
            <a:off x="2133720" y="3973680"/>
            <a:ext cx="88920" cy="8856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"/>
          <p:cNvSpPr/>
          <p:nvPr/>
        </p:nvSpPr>
        <p:spPr>
          <a:xfrm>
            <a:off x="2066760" y="4002120"/>
            <a:ext cx="8748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"/>
          <p:cNvSpPr/>
          <p:nvPr/>
        </p:nvSpPr>
        <p:spPr>
          <a:xfrm>
            <a:off x="1517760" y="4175280"/>
            <a:ext cx="88920" cy="871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"/>
          <p:cNvSpPr/>
          <p:nvPr/>
        </p:nvSpPr>
        <p:spPr>
          <a:xfrm flipH="1">
            <a:off x="1090440" y="2087640"/>
            <a:ext cx="5919840" cy="358560"/>
          </a:xfrm>
          <a:prstGeom prst="line">
            <a:avLst/>
          </a:prstGeom>
          <a:ln w="237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"/>
          <p:cNvSpPr/>
          <p:nvPr/>
        </p:nvSpPr>
        <p:spPr>
          <a:xfrm flipH="1">
            <a:off x="496800" y="2070000"/>
            <a:ext cx="6896160" cy="2495520"/>
          </a:xfrm>
          <a:prstGeom prst="line">
            <a:avLst/>
          </a:prstGeom>
          <a:ln w="237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"/>
          <p:cNvSpPr/>
          <p:nvPr/>
        </p:nvSpPr>
        <p:spPr>
          <a:xfrm flipH="1">
            <a:off x="6246720" y="1874880"/>
            <a:ext cx="898560" cy="2833560"/>
          </a:xfrm>
          <a:prstGeom prst="line">
            <a:avLst/>
          </a:prstGeom>
          <a:ln w="23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"/>
          <p:cNvSpPr/>
          <p:nvPr/>
        </p:nvSpPr>
        <p:spPr>
          <a:xfrm>
            <a:off x="685080" y="627120"/>
            <a:ext cx="7790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EU27 disparities in two dimensions for three types of indicato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"/>
          <p:cNvSpPr/>
          <p:nvPr/>
        </p:nvSpPr>
        <p:spPr>
          <a:xfrm>
            <a:off x="153360" y="934920"/>
            <a:ext cx="88642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ype I (life expectancy), type II (GDP per capita) and type III (ICT indic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1" name=""/>
          <p:cNvSpPr/>
          <p:nvPr/>
        </p:nvSpPr>
        <p:spPr>
          <a:xfrm>
            <a:off x="8215920" y="5133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"/>
          <p:cNvSpPr/>
          <p:nvPr/>
        </p:nvSpPr>
        <p:spPr>
          <a:xfrm>
            <a:off x="8215560" y="45054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"/>
          <p:cNvSpPr/>
          <p:nvPr/>
        </p:nvSpPr>
        <p:spPr>
          <a:xfrm>
            <a:off x="8215560" y="38782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"/>
          <p:cNvSpPr/>
          <p:nvPr/>
        </p:nvSpPr>
        <p:spPr>
          <a:xfrm>
            <a:off x="8215560" y="32479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"/>
          <p:cNvSpPr/>
          <p:nvPr/>
        </p:nvSpPr>
        <p:spPr>
          <a:xfrm>
            <a:off x="8215560" y="26193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"/>
          <p:cNvSpPr/>
          <p:nvPr/>
        </p:nvSpPr>
        <p:spPr>
          <a:xfrm>
            <a:off x="8214840" y="1992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"/>
          <p:cNvSpPr/>
          <p:nvPr/>
        </p:nvSpPr>
        <p:spPr>
          <a:xfrm>
            <a:off x="8214840" y="1362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"/>
          <p:cNvSpPr/>
          <p:nvPr/>
        </p:nvSpPr>
        <p:spPr>
          <a:xfrm>
            <a:off x="7985520" y="536112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"/>
          <p:cNvSpPr/>
          <p:nvPr/>
        </p:nvSpPr>
        <p:spPr>
          <a:xfrm>
            <a:off x="6966720" y="5361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"/>
          <p:cNvSpPr/>
          <p:nvPr/>
        </p:nvSpPr>
        <p:spPr>
          <a:xfrm>
            <a:off x="583884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"/>
          <p:cNvSpPr/>
          <p:nvPr/>
        </p:nvSpPr>
        <p:spPr>
          <a:xfrm>
            <a:off x="475308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"/>
          <p:cNvSpPr/>
          <p:nvPr/>
        </p:nvSpPr>
        <p:spPr>
          <a:xfrm>
            <a:off x="366732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"/>
          <p:cNvSpPr/>
          <p:nvPr/>
        </p:nvSpPr>
        <p:spPr>
          <a:xfrm>
            <a:off x="258156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"/>
          <p:cNvSpPr/>
          <p:nvPr/>
        </p:nvSpPr>
        <p:spPr>
          <a:xfrm>
            <a:off x="149724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"/>
          <p:cNvSpPr/>
          <p:nvPr/>
        </p:nvSpPr>
        <p:spPr>
          <a:xfrm>
            <a:off x="409680" y="5361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"/>
          <p:cNvSpPr/>
          <p:nvPr/>
        </p:nvSpPr>
        <p:spPr>
          <a:xfrm>
            <a:off x="2129760" y="5619600"/>
            <a:ext cx="432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+ time lag, - time lead from Swed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"/>
          <p:cNvSpPr/>
          <p:nvPr/>
        </p:nvSpPr>
        <p:spPr>
          <a:xfrm rot="16200000">
            <a:off x="7886880" y="3249720"/>
            <a:ext cx="146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"/>
          <p:cNvSpPr/>
          <p:nvPr/>
        </p:nvSpPr>
        <p:spPr>
          <a:xfrm>
            <a:off x="520560" y="5958000"/>
            <a:ext cx="7783560" cy="241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"/>
          <p:cNvSpPr/>
          <p:nvPr/>
        </p:nvSpPr>
        <p:spPr>
          <a:xfrm>
            <a:off x="1087560" y="6040440"/>
            <a:ext cx="88920" cy="88920"/>
          </a:xfrm>
          <a:prstGeom prst="ellipse">
            <a:avLst/>
          </a:prstGeom>
          <a:solidFill>
            <a:srgbClr val="ff9900"/>
          </a:solidFill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0" name=""/>
          <p:cNvSpPr/>
          <p:nvPr/>
        </p:nvSpPr>
        <p:spPr>
          <a:xfrm>
            <a:off x="1209960" y="5996160"/>
            <a:ext cx="1064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expecta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"/>
          <p:cNvSpPr/>
          <p:nvPr/>
        </p:nvSpPr>
        <p:spPr>
          <a:xfrm>
            <a:off x="3386160" y="6040440"/>
            <a:ext cx="87120" cy="889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"/>
          <p:cNvSpPr/>
          <p:nvPr/>
        </p:nvSpPr>
        <p:spPr>
          <a:xfrm>
            <a:off x="3503880" y="5996160"/>
            <a:ext cx="1972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broadband subscri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"/>
          <p:cNvSpPr/>
          <p:nvPr/>
        </p:nvSpPr>
        <p:spPr>
          <a:xfrm>
            <a:off x="6591240" y="6040440"/>
            <a:ext cx="88920" cy="88920"/>
          </a:xfrm>
          <a:prstGeom prst="ellipse">
            <a:avLst/>
          </a:prstGeom>
          <a:solidFill>
            <a:srgbClr val="00cc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"/>
          <p:cNvSpPr/>
          <p:nvPr/>
        </p:nvSpPr>
        <p:spPr>
          <a:xfrm>
            <a:off x="6715080" y="5996160"/>
            <a:ext cx="104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DP per capi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"/>
          <p:cNvSpPr/>
          <p:nvPr/>
        </p:nvSpPr>
        <p:spPr>
          <a:xfrm rot="21349200">
            <a:off x="4000680" y="1795320"/>
            <a:ext cx="261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 – life expecta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"/>
          <p:cNvSpPr/>
          <p:nvPr/>
        </p:nvSpPr>
        <p:spPr>
          <a:xfrm rot="20394000">
            <a:off x="1962360" y="3042720"/>
            <a:ext cx="312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I – GDP per cap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"/>
          <p:cNvSpPr/>
          <p:nvPr/>
        </p:nvSpPr>
        <p:spPr>
          <a:xfrm rot="17431200">
            <a:off x="5226840" y="3507120"/>
            <a:ext cx="204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ype III – ICT indic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8" name=""/>
          <p:cNvSpPr/>
          <p:nvPr/>
        </p:nvSpPr>
        <p:spPr>
          <a:xfrm>
            <a:off x="103320" y="527040"/>
            <a:ext cx="89359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The speed of diffusion of ICT sector indicates its much greater potential for catching up and becoming an important instrument to reduce world disp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"/>
          <p:cNvSpPr/>
          <p:nvPr/>
        </p:nvSpPr>
        <p:spPr>
          <a:xfrm>
            <a:off x="338040" y="1525680"/>
            <a:ext cx="8634600" cy="4092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"/>
          <p:cNvSpPr/>
          <p:nvPr/>
        </p:nvSpPr>
        <p:spPr>
          <a:xfrm>
            <a:off x="338040" y="1968480"/>
            <a:ext cx="84636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338040" y="2787480"/>
            <a:ext cx="1015920" cy="3398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3" name=""/>
          <p:cNvSpPr/>
          <p:nvPr/>
        </p:nvSpPr>
        <p:spPr>
          <a:xfrm>
            <a:off x="338040" y="3605040"/>
            <a:ext cx="1233720" cy="34164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"/>
          <p:cNvSpPr/>
          <p:nvPr/>
        </p:nvSpPr>
        <p:spPr>
          <a:xfrm>
            <a:off x="338040" y="4424400"/>
            <a:ext cx="713448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"/>
          <p:cNvSpPr/>
          <p:nvPr/>
        </p:nvSpPr>
        <p:spPr>
          <a:xfrm>
            <a:off x="338040" y="5241960"/>
            <a:ext cx="7769160" cy="341280"/>
          </a:xfrm>
          <a:prstGeom prst="rect">
            <a:avLst/>
          </a:prstGeom>
          <a:solidFill>
            <a:srgbClr val="9999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"/>
          <p:cNvSpPr/>
          <p:nvPr/>
        </p:nvSpPr>
        <p:spPr>
          <a:xfrm>
            <a:off x="338040" y="5618160"/>
            <a:ext cx="8634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"/>
          <p:cNvSpPr/>
          <p:nvPr/>
        </p:nvSpPr>
        <p:spPr>
          <a:xfrm flipV="1">
            <a:off x="338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8" name=""/>
          <p:cNvSpPr/>
          <p:nvPr/>
        </p:nvSpPr>
        <p:spPr>
          <a:xfrm flipV="1">
            <a:off x="4460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"/>
          <p:cNvSpPr/>
          <p:nvPr/>
        </p:nvSpPr>
        <p:spPr>
          <a:xfrm flipV="1">
            <a:off x="554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"/>
          <p:cNvSpPr/>
          <p:nvPr/>
        </p:nvSpPr>
        <p:spPr>
          <a:xfrm flipV="1">
            <a:off x="660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"/>
          <p:cNvSpPr/>
          <p:nvPr/>
        </p:nvSpPr>
        <p:spPr>
          <a:xfrm flipV="1">
            <a:off x="770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2" name=""/>
          <p:cNvSpPr/>
          <p:nvPr/>
        </p:nvSpPr>
        <p:spPr>
          <a:xfrm flipV="1">
            <a:off x="8780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"/>
          <p:cNvSpPr/>
          <p:nvPr/>
        </p:nvSpPr>
        <p:spPr>
          <a:xfrm flipV="1">
            <a:off x="985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"/>
          <p:cNvSpPr/>
          <p:nvPr/>
        </p:nvSpPr>
        <p:spPr>
          <a:xfrm flipV="1">
            <a:off x="1093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"/>
          <p:cNvSpPr/>
          <p:nvPr/>
        </p:nvSpPr>
        <p:spPr>
          <a:xfrm flipV="1">
            <a:off x="12016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"/>
          <p:cNvSpPr/>
          <p:nvPr/>
        </p:nvSpPr>
        <p:spPr>
          <a:xfrm flipV="1">
            <a:off x="13082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"/>
          <p:cNvSpPr/>
          <p:nvPr/>
        </p:nvSpPr>
        <p:spPr>
          <a:xfrm flipV="1">
            <a:off x="1417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"/>
          <p:cNvSpPr/>
          <p:nvPr/>
        </p:nvSpPr>
        <p:spPr>
          <a:xfrm flipV="1">
            <a:off x="1525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"/>
          <p:cNvSpPr/>
          <p:nvPr/>
        </p:nvSpPr>
        <p:spPr>
          <a:xfrm flipV="1">
            <a:off x="16336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"/>
          <p:cNvSpPr/>
          <p:nvPr/>
        </p:nvSpPr>
        <p:spPr>
          <a:xfrm flipV="1">
            <a:off x="1741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"/>
          <p:cNvSpPr/>
          <p:nvPr/>
        </p:nvSpPr>
        <p:spPr>
          <a:xfrm flipV="1">
            <a:off x="18493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"/>
          <p:cNvSpPr/>
          <p:nvPr/>
        </p:nvSpPr>
        <p:spPr>
          <a:xfrm flipV="1">
            <a:off x="1955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"/>
          <p:cNvSpPr/>
          <p:nvPr/>
        </p:nvSpPr>
        <p:spPr>
          <a:xfrm flipV="1">
            <a:off x="2065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4" name=""/>
          <p:cNvSpPr/>
          <p:nvPr/>
        </p:nvSpPr>
        <p:spPr>
          <a:xfrm flipV="1">
            <a:off x="2173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"/>
          <p:cNvSpPr/>
          <p:nvPr/>
        </p:nvSpPr>
        <p:spPr>
          <a:xfrm flipV="1">
            <a:off x="2281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"/>
          <p:cNvSpPr/>
          <p:nvPr/>
        </p:nvSpPr>
        <p:spPr>
          <a:xfrm flipV="1">
            <a:off x="23893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"/>
          <p:cNvSpPr/>
          <p:nvPr/>
        </p:nvSpPr>
        <p:spPr>
          <a:xfrm flipV="1">
            <a:off x="24969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"/>
          <p:cNvSpPr/>
          <p:nvPr/>
        </p:nvSpPr>
        <p:spPr>
          <a:xfrm flipV="1">
            <a:off x="2603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"/>
          <p:cNvSpPr/>
          <p:nvPr/>
        </p:nvSpPr>
        <p:spPr>
          <a:xfrm flipV="1">
            <a:off x="2711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"/>
          <p:cNvSpPr/>
          <p:nvPr/>
        </p:nvSpPr>
        <p:spPr>
          <a:xfrm flipV="1">
            <a:off x="2820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"/>
          <p:cNvSpPr/>
          <p:nvPr/>
        </p:nvSpPr>
        <p:spPr>
          <a:xfrm flipV="1">
            <a:off x="2928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"/>
          <p:cNvSpPr/>
          <p:nvPr/>
        </p:nvSpPr>
        <p:spPr>
          <a:xfrm flipV="1">
            <a:off x="30369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"/>
          <p:cNvSpPr/>
          <p:nvPr/>
        </p:nvSpPr>
        <p:spPr>
          <a:xfrm flipV="1">
            <a:off x="3143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"/>
          <p:cNvSpPr/>
          <p:nvPr/>
        </p:nvSpPr>
        <p:spPr>
          <a:xfrm flipV="1">
            <a:off x="32511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"/>
          <p:cNvSpPr/>
          <p:nvPr/>
        </p:nvSpPr>
        <p:spPr>
          <a:xfrm flipV="1">
            <a:off x="33591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6" name=""/>
          <p:cNvSpPr/>
          <p:nvPr/>
        </p:nvSpPr>
        <p:spPr>
          <a:xfrm flipV="1">
            <a:off x="3468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"/>
          <p:cNvSpPr/>
          <p:nvPr/>
        </p:nvSpPr>
        <p:spPr>
          <a:xfrm flipV="1">
            <a:off x="35766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"/>
          <p:cNvSpPr/>
          <p:nvPr/>
        </p:nvSpPr>
        <p:spPr>
          <a:xfrm flipV="1">
            <a:off x="36846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"/>
          <p:cNvSpPr/>
          <p:nvPr/>
        </p:nvSpPr>
        <p:spPr>
          <a:xfrm flipV="1">
            <a:off x="3790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0" name=""/>
          <p:cNvSpPr/>
          <p:nvPr/>
        </p:nvSpPr>
        <p:spPr>
          <a:xfrm flipV="1">
            <a:off x="3898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"/>
          <p:cNvSpPr/>
          <p:nvPr/>
        </p:nvSpPr>
        <p:spPr>
          <a:xfrm flipV="1">
            <a:off x="40068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"/>
          <p:cNvSpPr/>
          <p:nvPr/>
        </p:nvSpPr>
        <p:spPr>
          <a:xfrm flipV="1">
            <a:off x="4116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3" name=""/>
          <p:cNvSpPr/>
          <p:nvPr/>
        </p:nvSpPr>
        <p:spPr>
          <a:xfrm flipV="1">
            <a:off x="4224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"/>
          <p:cNvSpPr/>
          <p:nvPr/>
        </p:nvSpPr>
        <p:spPr>
          <a:xfrm flipV="1">
            <a:off x="43322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"/>
          <p:cNvSpPr/>
          <p:nvPr/>
        </p:nvSpPr>
        <p:spPr>
          <a:xfrm flipV="1">
            <a:off x="44388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"/>
          <p:cNvSpPr/>
          <p:nvPr/>
        </p:nvSpPr>
        <p:spPr>
          <a:xfrm flipV="1">
            <a:off x="4546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"/>
          <p:cNvSpPr/>
          <p:nvPr/>
        </p:nvSpPr>
        <p:spPr>
          <a:xfrm flipV="1">
            <a:off x="4654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"/>
          <p:cNvSpPr/>
          <p:nvPr/>
        </p:nvSpPr>
        <p:spPr>
          <a:xfrm flipV="1">
            <a:off x="47624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"/>
          <p:cNvSpPr/>
          <p:nvPr/>
        </p:nvSpPr>
        <p:spPr>
          <a:xfrm flipV="1">
            <a:off x="48718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"/>
          <p:cNvSpPr/>
          <p:nvPr/>
        </p:nvSpPr>
        <p:spPr>
          <a:xfrm flipV="1">
            <a:off x="4978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"/>
          <p:cNvSpPr/>
          <p:nvPr/>
        </p:nvSpPr>
        <p:spPr>
          <a:xfrm flipV="1">
            <a:off x="5086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"/>
          <p:cNvSpPr/>
          <p:nvPr/>
        </p:nvSpPr>
        <p:spPr>
          <a:xfrm flipV="1">
            <a:off x="51944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"/>
          <p:cNvSpPr/>
          <p:nvPr/>
        </p:nvSpPr>
        <p:spPr>
          <a:xfrm flipV="1">
            <a:off x="5302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"/>
          <p:cNvSpPr/>
          <p:nvPr/>
        </p:nvSpPr>
        <p:spPr>
          <a:xfrm flipV="1">
            <a:off x="541008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"/>
          <p:cNvSpPr/>
          <p:nvPr/>
        </p:nvSpPr>
        <p:spPr>
          <a:xfrm flipV="1">
            <a:off x="55198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"/>
          <p:cNvSpPr/>
          <p:nvPr/>
        </p:nvSpPr>
        <p:spPr>
          <a:xfrm flipV="1">
            <a:off x="5626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"/>
          <p:cNvSpPr/>
          <p:nvPr/>
        </p:nvSpPr>
        <p:spPr>
          <a:xfrm flipV="1">
            <a:off x="5734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"/>
          <p:cNvSpPr/>
          <p:nvPr/>
        </p:nvSpPr>
        <p:spPr>
          <a:xfrm flipV="1">
            <a:off x="5842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"/>
          <p:cNvSpPr/>
          <p:nvPr/>
        </p:nvSpPr>
        <p:spPr>
          <a:xfrm flipV="1">
            <a:off x="5950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"/>
          <p:cNvSpPr/>
          <p:nvPr/>
        </p:nvSpPr>
        <p:spPr>
          <a:xfrm flipV="1">
            <a:off x="605808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"/>
          <p:cNvSpPr/>
          <p:nvPr/>
        </p:nvSpPr>
        <p:spPr>
          <a:xfrm flipV="1">
            <a:off x="61675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"/>
          <p:cNvSpPr/>
          <p:nvPr/>
        </p:nvSpPr>
        <p:spPr>
          <a:xfrm flipV="1">
            <a:off x="627372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"/>
          <p:cNvSpPr/>
          <p:nvPr/>
        </p:nvSpPr>
        <p:spPr>
          <a:xfrm flipV="1">
            <a:off x="6381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"/>
          <p:cNvSpPr/>
          <p:nvPr/>
        </p:nvSpPr>
        <p:spPr>
          <a:xfrm flipV="1">
            <a:off x="6489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"/>
          <p:cNvSpPr/>
          <p:nvPr/>
        </p:nvSpPr>
        <p:spPr>
          <a:xfrm flipV="1">
            <a:off x="6597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"/>
          <p:cNvSpPr/>
          <p:nvPr/>
        </p:nvSpPr>
        <p:spPr>
          <a:xfrm flipV="1">
            <a:off x="6705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"/>
          <p:cNvSpPr/>
          <p:nvPr/>
        </p:nvSpPr>
        <p:spPr>
          <a:xfrm flipV="1">
            <a:off x="681372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"/>
          <p:cNvSpPr/>
          <p:nvPr/>
        </p:nvSpPr>
        <p:spPr>
          <a:xfrm flipV="1">
            <a:off x="6921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"/>
          <p:cNvSpPr/>
          <p:nvPr/>
        </p:nvSpPr>
        <p:spPr>
          <a:xfrm flipV="1">
            <a:off x="7029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"/>
          <p:cNvSpPr/>
          <p:nvPr/>
        </p:nvSpPr>
        <p:spPr>
          <a:xfrm flipV="1">
            <a:off x="71373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"/>
          <p:cNvSpPr/>
          <p:nvPr/>
        </p:nvSpPr>
        <p:spPr>
          <a:xfrm flipV="1">
            <a:off x="7245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"/>
          <p:cNvSpPr/>
          <p:nvPr/>
        </p:nvSpPr>
        <p:spPr>
          <a:xfrm flipV="1">
            <a:off x="7353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"/>
          <p:cNvSpPr/>
          <p:nvPr/>
        </p:nvSpPr>
        <p:spPr>
          <a:xfrm flipV="1">
            <a:off x="745956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"/>
          <p:cNvSpPr/>
          <p:nvPr/>
        </p:nvSpPr>
        <p:spPr>
          <a:xfrm flipV="1">
            <a:off x="756936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"/>
          <p:cNvSpPr/>
          <p:nvPr/>
        </p:nvSpPr>
        <p:spPr>
          <a:xfrm flipV="1">
            <a:off x="7677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"/>
          <p:cNvSpPr/>
          <p:nvPr/>
        </p:nvSpPr>
        <p:spPr>
          <a:xfrm flipV="1">
            <a:off x="7785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"/>
          <p:cNvSpPr/>
          <p:nvPr/>
        </p:nvSpPr>
        <p:spPr>
          <a:xfrm flipV="1">
            <a:off x="78930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"/>
          <p:cNvSpPr/>
          <p:nvPr/>
        </p:nvSpPr>
        <p:spPr>
          <a:xfrm flipV="1">
            <a:off x="8001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"/>
          <p:cNvSpPr/>
          <p:nvPr/>
        </p:nvSpPr>
        <p:spPr>
          <a:xfrm flipV="1">
            <a:off x="810720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"/>
          <p:cNvSpPr/>
          <p:nvPr/>
        </p:nvSpPr>
        <p:spPr>
          <a:xfrm flipV="1">
            <a:off x="8217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 flipV="1">
            <a:off x="83250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"/>
          <p:cNvSpPr/>
          <p:nvPr/>
        </p:nvSpPr>
        <p:spPr>
          <a:xfrm flipV="1">
            <a:off x="8432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"/>
          <p:cNvSpPr/>
          <p:nvPr/>
        </p:nvSpPr>
        <p:spPr>
          <a:xfrm flipV="1">
            <a:off x="8540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4" name=""/>
          <p:cNvSpPr/>
          <p:nvPr/>
        </p:nvSpPr>
        <p:spPr>
          <a:xfrm flipV="1">
            <a:off x="8648640" y="5617800"/>
            <a:ext cx="180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5" name=""/>
          <p:cNvSpPr/>
          <p:nvPr/>
        </p:nvSpPr>
        <p:spPr>
          <a:xfrm flipV="1">
            <a:off x="875520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"/>
          <p:cNvSpPr/>
          <p:nvPr/>
        </p:nvSpPr>
        <p:spPr>
          <a:xfrm flipV="1">
            <a:off x="8864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"/>
          <p:cNvSpPr/>
          <p:nvPr/>
        </p:nvSpPr>
        <p:spPr>
          <a:xfrm flipV="1">
            <a:off x="8972640" y="5617800"/>
            <a:ext cx="1440" cy="42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 flipV="1">
            <a:off x="3380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"/>
          <p:cNvSpPr/>
          <p:nvPr/>
        </p:nvSpPr>
        <p:spPr>
          <a:xfrm flipV="1">
            <a:off x="8780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"/>
          <p:cNvSpPr/>
          <p:nvPr/>
        </p:nvSpPr>
        <p:spPr>
          <a:xfrm flipV="1">
            <a:off x="14176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"/>
          <p:cNvSpPr/>
          <p:nvPr/>
        </p:nvSpPr>
        <p:spPr>
          <a:xfrm flipV="1">
            <a:off x="19558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"/>
          <p:cNvSpPr/>
          <p:nvPr/>
        </p:nvSpPr>
        <p:spPr>
          <a:xfrm flipV="1">
            <a:off x="249696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"/>
          <p:cNvSpPr/>
          <p:nvPr/>
        </p:nvSpPr>
        <p:spPr>
          <a:xfrm flipV="1">
            <a:off x="30369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"/>
          <p:cNvSpPr/>
          <p:nvPr/>
        </p:nvSpPr>
        <p:spPr>
          <a:xfrm flipV="1">
            <a:off x="35766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"/>
          <p:cNvSpPr/>
          <p:nvPr/>
        </p:nvSpPr>
        <p:spPr>
          <a:xfrm flipV="1">
            <a:off x="41162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"/>
          <p:cNvSpPr/>
          <p:nvPr/>
        </p:nvSpPr>
        <p:spPr>
          <a:xfrm flipV="1">
            <a:off x="46544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"/>
          <p:cNvSpPr/>
          <p:nvPr/>
        </p:nvSpPr>
        <p:spPr>
          <a:xfrm flipV="1">
            <a:off x="51944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"/>
          <p:cNvSpPr/>
          <p:nvPr/>
        </p:nvSpPr>
        <p:spPr>
          <a:xfrm flipV="1">
            <a:off x="573408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"/>
          <p:cNvSpPr/>
          <p:nvPr/>
        </p:nvSpPr>
        <p:spPr>
          <a:xfrm flipV="1">
            <a:off x="627372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"/>
          <p:cNvSpPr/>
          <p:nvPr/>
        </p:nvSpPr>
        <p:spPr>
          <a:xfrm flipV="1">
            <a:off x="681372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"/>
          <p:cNvSpPr/>
          <p:nvPr/>
        </p:nvSpPr>
        <p:spPr>
          <a:xfrm flipV="1">
            <a:off x="735336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"/>
          <p:cNvSpPr/>
          <p:nvPr/>
        </p:nvSpPr>
        <p:spPr>
          <a:xfrm flipV="1">
            <a:off x="789300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"/>
          <p:cNvSpPr/>
          <p:nvPr/>
        </p:nvSpPr>
        <p:spPr>
          <a:xfrm flipV="1">
            <a:off x="8432640" y="5617800"/>
            <a:ext cx="180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"/>
          <p:cNvSpPr/>
          <p:nvPr/>
        </p:nvSpPr>
        <p:spPr>
          <a:xfrm flipV="1">
            <a:off x="8972640" y="5617800"/>
            <a:ext cx="1440" cy="57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"/>
          <p:cNvSpPr/>
          <p:nvPr/>
        </p:nvSpPr>
        <p:spPr>
          <a:xfrm>
            <a:off x="338040" y="1525680"/>
            <a:ext cx="1800" cy="4092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"/>
          <p:cNvSpPr/>
          <p:nvPr/>
        </p:nvSpPr>
        <p:spPr>
          <a:xfrm>
            <a:off x="289080" y="15256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"/>
          <p:cNvSpPr/>
          <p:nvPr/>
        </p:nvSpPr>
        <p:spPr>
          <a:xfrm>
            <a:off x="289080" y="193500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"/>
          <p:cNvSpPr/>
          <p:nvPr/>
        </p:nvSpPr>
        <p:spPr>
          <a:xfrm>
            <a:off x="289080" y="23446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"/>
          <p:cNvSpPr/>
          <p:nvPr/>
        </p:nvSpPr>
        <p:spPr>
          <a:xfrm>
            <a:off x="289080" y="27543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"/>
          <p:cNvSpPr/>
          <p:nvPr/>
        </p:nvSpPr>
        <p:spPr>
          <a:xfrm>
            <a:off x="289080" y="316224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"/>
          <p:cNvSpPr/>
          <p:nvPr/>
        </p:nvSpPr>
        <p:spPr>
          <a:xfrm>
            <a:off x="289080" y="357192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"/>
          <p:cNvSpPr/>
          <p:nvPr/>
        </p:nvSpPr>
        <p:spPr>
          <a:xfrm>
            <a:off x="289080" y="3981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"/>
          <p:cNvSpPr/>
          <p:nvPr/>
        </p:nvSpPr>
        <p:spPr>
          <a:xfrm>
            <a:off x="289080" y="438948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"/>
          <p:cNvSpPr/>
          <p:nvPr/>
        </p:nvSpPr>
        <p:spPr>
          <a:xfrm>
            <a:off x="289080" y="480060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"/>
          <p:cNvSpPr/>
          <p:nvPr/>
        </p:nvSpPr>
        <p:spPr>
          <a:xfrm>
            <a:off x="289080" y="5208480"/>
            <a:ext cx="489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"/>
          <p:cNvSpPr/>
          <p:nvPr/>
        </p:nvSpPr>
        <p:spPr>
          <a:xfrm>
            <a:off x="289080" y="5618160"/>
            <a:ext cx="4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"/>
          <p:cNvSpPr/>
          <p:nvPr/>
        </p:nvSpPr>
        <p:spPr>
          <a:xfrm>
            <a:off x="8155440" y="5307120"/>
            <a:ext cx="715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2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"/>
          <p:cNvSpPr/>
          <p:nvPr/>
        </p:nvSpPr>
        <p:spPr>
          <a:xfrm>
            <a:off x="7519680" y="448956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6.1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"/>
          <p:cNvSpPr/>
          <p:nvPr/>
        </p:nvSpPr>
        <p:spPr>
          <a:xfrm>
            <a:off x="1618920" y="3670200"/>
            <a:ext cx="864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"/>
          <p:cNvSpPr/>
          <p:nvPr/>
        </p:nvSpPr>
        <p:spPr>
          <a:xfrm>
            <a:off x="1401480" y="285120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.4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"/>
          <p:cNvSpPr/>
          <p:nvPr/>
        </p:nvSpPr>
        <p:spPr>
          <a:xfrm>
            <a:off x="1230120" y="203364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.8 ye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"/>
          <p:cNvSpPr/>
          <p:nvPr/>
        </p:nvSpPr>
        <p:spPr>
          <a:xfrm>
            <a:off x="28836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"/>
          <p:cNvSpPr/>
          <p:nvPr/>
        </p:nvSpPr>
        <p:spPr>
          <a:xfrm>
            <a:off x="828000" y="57769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"/>
          <p:cNvSpPr/>
          <p:nvPr/>
        </p:nvSpPr>
        <p:spPr>
          <a:xfrm>
            <a:off x="13168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"/>
          <p:cNvSpPr/>
          <p:nvPr/>
        </p:nvSpPr>
        <p:spPr>
          <a:xfrm>
            <a:off x="18565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"/>
          <p:cNvSpPr/>
          <p:nvPr/>
        </p:nvSpPr>
        <p:spPr>
          <a:xfrm>
            <a:off x="23979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"/>
          <p:cNvSpPr/>
          <p:nvPr/>
        </p:nvSpPr>
        <p:spPr>
          <a:xfrm>
            <a:off x="29376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"/>
          <p:cNvSpPr/>
          <p:nvPr/>
        </p:nvSpPr>
        <p:spPr>
          <a:xfrm>
            <a:off x="34758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"/>
          <p:cNvSpPr/>
          <p:nvPr/>
        </p:nvSpPr>
        <p:spPr>
          <a:xfrm>
            <a:off x="401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"/>
          <p:cNvSpPr/>
          <p:nvPr/>
        </p:nvSpPr>
        <p:spPr>
          <a:xfrm>
            <a:off x="45554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"/>
          <p:cNvSpPr/>
          <p:nvPr/>
        </p:nvSpPr>
        <p:spPr>
          <a:xfrm>
            <a:off x="509508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"/>
          <p:cNvSpPr/>
          <p:nvPr/>
        </p:nvSpPr>
        <p:spPr>
          <a:xfrm>
            <a:off x="56347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"/>
          <p:cNvSpPr/>
          <p:nvPr/>
        </p:nvSpPr>
        <p:spPr>
          <a:xfrm>
            <a:off x="617292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"/>
          <p:cNvSpPr/>
          <p:nvPr/>
        </p:nvSpPr>
        <p:spPr>
          <a:xfrm>
            <a:off x="671436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"/>
          <p:cNvSpPr/>
          <p:nvPr/>
        </p:nvSpPr>
        <p:spPr>
          <a:xfrm>
            <a:off x="725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"/>
          <p:cNvSpPr/>
          <p:nvPr/>
        </p:nvSpPr>
        <p:spPr>
          <a:xfrm>
            <a:off x="779400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"/>
          <p:cNvSpPr/>
          <p:nvPr/>
        </p:nvSpPr>
        <p:spPr>
          <a:xfrm>
            <a:off x="83336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"/>
          <p:cNvSpPr/>
          <p:nvPr/>
        </p:nvSpPr>
        <p:spPr>
          <a:xfrm>
            <a:off x="8871840" y="5776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"/>
          <p:cNvSpPr/>
          <p:nvPr/>
        </p:nvSpPr>
        <p:spPr>
          <a:xfrm>
            <a:off x="1026720" y="6078600"/>
            <a:ext cx="7315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(years): + time lag of developing countries behind benchmark Swed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"/>
          <p:cNvSpPr/>
          <p:nvPr/>
        </p:nvSpPr>
        <p:spPr>
          <a:xfrm>
            <a:off x="365760" y="3319560"/>
            <a:ext cx="2827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 us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"/>
          <p:cNvSpPr/>
          <p:nvPr/>
        </p:nvSpPr>
        <p:spPr>
          <a:xfrm>
            <a:off x="371160" y="4927680"/>
            <a:ext cx="251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ant survival (mortality) rate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"/>
          <p:cNvSpPr/>
          <p:nvPr/>
        </p:nvSpPr>
        <p:spPr>
          <a:xfrm>
            <a:off x="361080" y="1646280"/>
            <a:ext cx="3864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ed broadband subscriber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"/>
          <p:cNvSpPr/>
          <p:nvPr/>
        </p:nvSpPr>
        <p:spPr>
          <a:xfrm>
            <a:off x="363960" y="2471760"/>
            <a:ext cx="28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 phones per 100 inhabitants in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"/>
          <p:cNvSpPr/>
          <p:nvPr/>
        </p:nvSpPr>
        <p:spPr>
          <a:xfrm>
            <a:off x="369360" y="4127400"/>
            <a:ext cx="212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expectancy at birth in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"/>
          <p:cNvSpPr/>
          <p:nvPr/>
        </p:nvSpPr>
        <p:spPr>
          <a:xfrm>
            <a:off x="206280" y="6470640"/>
            <a:ext cx="851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: ITU and SICENTER based on ITU and UNICEF dat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2000" y="820440"/>
            <a:ext cx="81644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i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etter governance needs also better tools for fact based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79160"/>
            <a:ext cx="419112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YNAMIC LONG-TERM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IGITAL DIVIDE VISUALIS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ethod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here is a multiplicity of digital divides: "digital divide" between social classes and the "global digital divide" as geographical divi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o embrace the dynamic dimension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we measure gaps in two-dimensions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:</a:t>
            </a:r>
            <a:br>
              <a:rPr sz="1600"/>
            </a:b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measures of static difference and Sicherl time di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48320" y="2287080"/>
            <a:ext cx="4038480" cy="50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ULTI-DIMENSION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ICT AND WORLD DISPA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nderstan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ICT disparities have to be studied together with world disparities in other development attrib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he rapid speed of ICT diffusion is an important tool of development and in the catching-up 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16" name=""/>
          <p:cNvGraphicFramePr/>
          <p:nvPr/>
        </p:nvGraphicFramePr>
        <p:xfrm>
          <a:off x="380880" y="1496880"/>
          <a:ext cx="8458200" cy="4469040"/>
        </p:xfrm>
        <a:graphic>
          <a:graphicData uri="http://schemas.openxmlformats.org/drawingml/2006/table">
            <a:tbl>
              <a:tblPr/>
              <a:tblGrid>
                <a:gridCol w="533520"/>
                <a:gridCol w="685800"/>
                <a:gridCol w="609480"/>
                <a:gridCol w="533520"/>
                <a:gridCol w="685800"/>
                <a:gridCol w="762120"/>
                <a:gridCol w="457200"/>
                <a:gridCol w="761760"/>
                <a:gridCol w="914400"/>
                <a:gridCol w="990720"/>
                <a:gridCol w="1066680"/>
                <a:gridCol w="457200"/>
              </a:tblGrid>
              <a:tr h="533520"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ed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r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ab Sta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ia &amp; Pacif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ed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veloping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9000" anchor="ctr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" marR="9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08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983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39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432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5760"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000" bIns="9000" anchor="ctr" anchorCtr="1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7" name=""/>
          <p:cNvSpPr/>
          <p:nvPr/>
        </p:nvSpPr>
        <p:spPr>
          <a:xfrm>
            <a:off x="103320" y="368280"/>
            <a:ext cx="8937360" cy="612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333399"/>
                </a:solidFill>
                <a:uFillTx/>
                <a:latin typeface="Arial"/>
              </a:rPr>
              <a:t>Mobile phones have improved significantly the quality of live in developing countries</a:t>
            </a:r>
            <a:r>
              <a:rPr b="1" lang="en-US" sz="1700" spc="-1" strike="noStrike">
                <a:solidFill>
                  <a:srgbClr val="333399"/>
                </a:solidFill>
                <a:latin typeface="Arial"/>
              </a:rPr>
              <a:t> in several domains though they were used mostly for undemanding applica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"/>
          <p:cNvSpPr/>
          <p:nvPr/>
        </p:nvSpPr>
        <p:spPr>
          <a:xfrm>
            <a:off x="990720" y="6127920"/>
            <a:ext cx="73152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pite large static disparities the trends in index show great progr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"/>
          <p:cNvSpPr/>
          <p:nvPr/>
        </p:nvSpPr>
        <p:spPr>
          <a:xfrm>
            <a:off x="152280" y="6477120"/>
            <a:ext cx="3276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ITU 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"/>
          <p:cNvSpPr/>
          <p:nvPr/>
        </p:nvSpPr>
        <p:spPr>
          <a:xfrm>
            <a:off x="76320" y="1173240"/>
            <a:ext cx="90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ends in index for mobile phones per 100 inhabitants for 6 world regions and 3 development aggregates (Sweden=1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1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3522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comparing actual values with target values, forecast, budget, plan,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 etc.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6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MONITORING: time distance deviations from the line to targ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"/>
          <p:cNvSpPr/>
          <p:nvPr/>
        </p:nvSpPr>
        <p:spPr>
          <a:xfrm>
            <a:off x="762120" y="6200640"/>
            <a:ext cx="75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nd actual to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estimated valu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u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valuating goodness-of-fit in regressions, models, forecasting and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"/>
          <p:cNvSpPr/>
          <p:nvPr/>
        </p:nvSpPr>
        <p:spPr>
          <a:xfrm>
            <a:off x="2057400" y="5257800"/>
            <a:ext cx="152280" cy="152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0" name=""/>
          <p:cNvSpPr/>
          <p:nvPr/>
        </p:nvSpPr>
        <p:spPr>
          <a:xfrm>
            <a:off x="6629400" y="2362320"/>
            <a:ext cx="152280" cy="1522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"/>
          <p:cNvSpPr/>
          <p:nvPr/>
        </p:nvSpPr>
        <p:spPr>
          <a:xfrm>
            <a:off x="6477120" y="213372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2" name=""/>
          <p:cNvSpPr/>
          <p:nvPr/>
        </p:nvSpPr>
        <p:spPr>
          <a:xfrm>
            <a:off x="1676520" y="53341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rting val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"/>
          <p:cNvSpPr/>
          <p:nvPr/>
        </p:nvSpPr>
        <p:spPr>
          <a:xfrm>
            <a:off x="5943600" y="3429000"/>
            <a:ext cx="152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ual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"/>
          <p:cNvSpPr/>
          <p:nvPr/>
        </p:nvSpPr>
        <p:spPr>
          <a:xfrm>
            <a:off x="114120" y="6540480"/>
            <a:ext cx="4310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Own calculations based on data from MDG 2009 Report and IT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"/>
          <p:cNvSpPr/>
          <p:nvPr/>
        </p:nvSpPr>
        <p:spPr>
          <a:xfrm>
            <a:off x="744480" y="1200240"/>
            <a:ext cx="8183520" cy="4103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"/>
          <p:cNvSpPr/>
          <p:nvPr/>
        </p:nvSpPr>
        <p:spPr>
          <a:xfrm>
            <a:off x="744480" y="120024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7" name=""/>
          <p:cNvSpPr/>
          <p:nvPr/>
        </p:nvSpPr>
        <p:spPr>
          <a:xfrm>
            <a:off x="744480" y="145584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8" name=""/>
          <p:cNvSpPr/>
          <p:nvPr/>
        </p:nvSpPr>
        <p:spPr>
          <a:xfrm>
            <a:off x="744480" y="171288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9" name=""/>
          <p:cNvSpPr/>
          <p:nvPr/>
        </p:nvSpPr>
        <p:spPr>
          <a:xfrm>
            <a:off x="744480" y="196992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"/>
          <p:cNvSpPr/>
          <p:nvPr/>
        </p:nvSpPr>
        <p:spPr>
          <a:xfrm>
            <a:off x="744480" y="222552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"/>
          <p:cNvSpPr/>
          <p:nvPr/>
        </p:nvSpPr>
        <p:spPr>
          <a:xfrm>
            <a:off x="744480" y="248112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"/>
          <p:cNvSpPr/>
          <p:nvPr/>
        </p:nvSpPr>
        <p:spPr>
          <a:xfrm>
            <a:off x="744480" y="273852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"/>
          <p:cNvSpPr/>
          <p:nvPr/>
        </p:nvSpPr>
        <p:spPr>
          <a:xfrm>
            <a:off x="744480" y="299556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"/>
          <p:cNvSpPr/>
          <p:nvPr/>
        </p:nvSpPr>
        <p:spPr>
          <a:xfrm>
            <a:off x="744480" y="350820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"/>
          <p:cNvSpPr/>
          <p:nvPr/>
        </p:nvSpPr>
        <p:spPr>
          <a:xfrm>
            <a:off x="744480" y="376560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"/>
          <p:cNvSpPr/>
          <p:nvPr/>
        </p:nvSpPr>
        <p:spPr>
          <a:xfrm>
            <a:off x="744480" y="402264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"/>
          <p:cNvSpPr/>
          <p:nvPr/>
        </p:nvSpPr>
        <p:spPr>
          <a:xfrm>
            <a:off x="744480" y="427824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"/>
          <p:cNvSpPr/>
          <p:nvPr/>
        </p:nvSpPr>
        <p:spPr>
          <a:xfrm>
            <a:off x="744480" y="4533840"/>
            <a:ext cx="81835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"/>
          <p:cNvSpPr/>
          <p:nvPr/>
        </p:nvSpPr>
        <p:spPr>
          <a:xfrm>
            <a:off x="744480" y="479124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"/>
          <p:cNvSpPr/>
          <p:nvPr/>
        </p:nvSpPr>
        <p:spPr>
          <a:xfrm>
            <a:off x="744480" y="504828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"/>
          <p:cNvSpPr/>
          <p:nvPr/>
        </p:nvSpPr>
        <p:spPr>
          <a:xfrm>
            <a:off x="744480" y="5303880"/>
            <a:ext cx="81835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"/>
          <p:cNvSpPr/>
          <p:nvPr/>
        </p:nvSpPr>
        <p:spPr>
          <a:xfrm>
            <a:off x="744480" y="1200240"/>
            <a:ext cx="8183520" cy="410364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"/>
          <p:cNvSpPr/>
          <p:nvPr/>
        </p:nvSpPr>
        <p:spPr>
          <a:xfrm>
            <a:off x="782640" y="3251160"/>
            <a:ext cx="743040" cy="11476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"/>
          <p:cNvSpPr/>
          <p:nvPr/>
        </p:nvSpPr>
        <p:spPr>
          <a:xfrm>
            <a:off x="1600200" y="3251160"/>
            <a:ext cx="744480" cy="6843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"/>
          <p:cNvSpPr/>
          <p:nvPr/>
        </p:nvSpPr>
        <p:spPr>
          <a:xfrm>
            <a:off x="2419200" y="3251160"/>
            <a:ext cx="743040" cy="82548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"/>
          <p:cNvSpPr/>
          <p:nvPr/>
        </p:nvSpPr>
        <p:spPr>
          <a:xfrm>
            <a:off x="3236760" y="3251160"/>
            <a:ext cx="743040" cy="1657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"/>
          <p:cNvSpPr/>
          <p:nvPr/>
        </p:nvSpPr>
        <p:spPr>
          <a:xfrm>
            <a:off x="4054320" y="2581200"/>
            <a:ext cx="744840" cy="669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"/>
          <p:cNvSpPr/>
          <p:nvPr/>
        </p:nvSpPr>
        <p:spPr>
          <a:xfrm>
            <a:off x="4873680" y="2401920"/>
            <a:ext cx="744480" cy="8492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"/>
          <p:cNvSpPr/>
          <p:nvPr/>
        </p:nvSpPr>
        <p:spPr>
          <a:xfrm>
            <a:off x="5692680" y="3251160"/>
            <a:ext cx="743040" cy="7682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"/>
          <p:cNvSpPr/>
          <p:nvPr/>
        </p:nvSpPr>
        <p:spPr>
          <a:xfrm>
            <a:off x="6510240" y="3251160"/>
            <a:ext cx="743040" cy="534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"/>
          <p:cNvSpPr/>
          <p:nvPr/>
        </p:nvSpPr>
        <p:spPr>
          <a:xfrm>
            <a:off x="7327800" y="3251160"/>
            <a:ext cx="744480" cy="51120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"/>
          <p:cNvSpPr/>
          <p:nvPr/>
        </p:nvSpPr>
        <p:spPr>
          <a:xfrm>
            <a:off x="8147160" y="2655720"/>
            <a:ext cx="742680" cy="59544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"/>
          <p:cNvSpPr/>
          <p:nvPr/>
        </p:nvSpPr>
        <p:spPr>
          <a:xfrm>
            <a:off x="744480" y="1200240"/>
            <a:ext cx="1800" cy="41036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"/>
          <p:cNvSpPr/>
          <p:nvPr/>
        </p:nvSpPr>
        <p:spPr>
          <a:xfrm>
            <a:off x="689040" y="12002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"/>
          <p:cNvSpPr/>
          <p:nvPr/>
        </p:nvSpPr>
        <p:spPr>
          <a:xfrm>
            <a:off x="689040" y="14558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"/>
          <p:cNvSpPr/>
          <p:nvPr/>
        </p:nvSpPr>
        <p:spPr>
          <a:xfrm>
            <a:off x="689040" y="171288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"/>
          <p:cNvSpPr/>
          <p:nvPr/>
        </p:nvSpPr>
        <p:spPr>
          <a:xfrm>
            <a:off x="689040" y="19699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"/>
          <p:cNvSpPr/>
          <p:nvPr/>
        </p:nvSpPr>
        <p:spPr>
          <a:xfrm>
            <a:off x="689040" y="22255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"/>
          <p:cNvSpPr/>
          <p:nvPr/>
        </p:nvSpPr>
        <p:spPr>
          <a:xfrm>
            <a:off x="689040" y="248112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"/>
          <p:cNvSpPr/>
          <p:nvPr/>
        </p:nvSpPr>
        <p:spPr>
          <a:xfrm>
            <a:off x="689040" y="273852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"/>
          <p:cNvSpPr/>
          <p:nvPr/>
        </p:nvSpPr>
        <p:spPr>
          <a:xfrm>
            <a:off x="689040" y="29955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"/>
          <p:cNvSpPr/>
          <p:nvPr/>
        </p:nvSpPr>
        <p:spPr>
          <a:xfrm>
            <a:off x="689040" y="325116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"/>
          <p:cNvSpPr/>
          <p:nvPr/>
        </p:nvSpPr>
        <p:spPr>
          <a:xfrm>
            <a:off x="689040" y="350820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"/>
          <p:cNvSpPr/>
          <p:nvPr/>
        </p:nvSpPr>
        <p:spPr>
          <a:xfrm>
            <a:off x="689040" y="376560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"/>
          <p:cNvSpPr/>
          <p:nvPr/>
        </p:nvSpPr>
        <p:spPr>
          <a:xfrm>
            <a:off x="689040" y="40226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"/>
          <p:cNvSpPr/>
          <p:nvPr/>
        </p:nvSpPr>
        <p:spPr>
          <a:xfrm>
            <a:off x="689040" y="42782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"/>
          <p:cNvSpPr/>
          <p:nvPr/>
        </p:nvSpPr>
        <p:spPr>
          <a:xfrm>
            <a:off x="689040" y="4533840"/>
            <a:ext cx="554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"/>
          <p:cNvSpPr/>
          <p:nvPr/>
        </p:nvSpPr>
        <p:spPr>
          <a:xfrm>
            <a:off x="689040" y="479124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"/>
          <p:cNvSpPr/>
          <p:nvPr/>
        </p:nvSpPr>
        <p:spPr>
          <a:xfrm>
            <a:off x="689040" y="50482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"/>
          <p:cNvSpPr/>
          <p:nvPr/>
        </p:nvSpPr>
        <p:spPr>
          <a:xfrm>
            <a:off x="689040" y="5303880"/>
            <a:ext cx="554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"/>
          <p:cNvSpPr/>
          <p:nvPr/>
        </p:nvSpPr>
        <p:spPr>
          <a:xfrm>
            <a:off x="744480" y="3251160"/>
            <a:ext cx="8183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720720" y="450720"/>
            <a:ext cx="7655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Monitoring of the MDG measured by S-time-distance deviation from the line 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arget for selected indicators: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DEVELOPING REGION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around 2005-200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"/>
          <p:cNvSpPr/>
          <p:nvPr/>
        </p:nvSpPr>
        <p:spPr>
          <a:xfrm>
            <a:off x="3956040" y="519120"/>
            <a:ext cx="14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"/>
          <p:cNvSpPr/>
          <p:nvPr/>
        </p:nvSpPr>
        <p:spPr>
          <a:xfrm>
            <a:off x="1047960" y="445932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"/>
          <p:cNvSpPr/>
          <p:nvPr/>
        </p:nvSpPr>
        <p:spPr>
          <a:xfrm>
            <a:off x="1865520" y="39974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"/>
          <p:cNvSpPr/>
          <p:nvPr/>
        </p:nvSpPr>
        <p:spPr>
          <a:xfrm>
            <a:off x="2684520" y="413856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"/>
          <p:cNvSpPr/>
          <p:nvPr/>
        </p:nvSpPr>
        <p:spPr>
          <a:xfrm>
            <a:off x="3460680" y="4970520"/>
            <a:ext cx="34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297320" y="234144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5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5116320" y="216216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6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5958000" y="40798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6775560" y="384804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7593120" y="3824280"/>
            <a:ext cx="24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8388000" y="2416320"/>
            <a:ext cx="308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>
            <a:off x="356040" y="10969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"/>
          <p:cNvSpPr/>
          <p:nvPr/>
        </p:nvSpPr>
        <p:spPr>
          <a:xfrm>
            <a:off x="356040" y="135252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356040" y="16095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"/>
          <p:cNvSpPr/>
          <p:nvPr/>
        </p:nvSpPr>
        <p:spPr>
          <a:xfrm>
            <a:off x="356040" y="1866960"/>
            <a:ext cx="25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"/>
          <p:cNvSpPr/>
          <p:nvPr/>
        </p:nvSpPr>
        <p:spPr>
          <a:xfrm>
            <a:off x="453240" y="21240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"/>
          <p:cNvSpPr/>
          <p:nvPr/>
        </p:nvSpPr>
        <p:spPr>
          <a:xfrm>
            <a:off x="453240" y="23781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"/>
          <p:cNvSpPr/>
          <p:nvPr/>
        </p:nvSpPr>
        <p:spPr>
          <a:xfrm>
            <a:off x="453240" y="26352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"/>
          <p:cNvSpPr/>
          <p:nvPr/>
        </p:nvSpPr>
        <p:spPr>
          <a:xfrm>
            <a:off x="453240" y="289260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"/>
          <p:cNvSpPr/>
          <p:nvPr/>
        </p:nvSpPr>
        <p:spPr>
          <a:xfrm>
            <a:off x="512280" y="3149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"/>
          <p:cNvSpPr/>
          <p:nvPr/>
        </p:nvSpPr>
        <p:spPr>
          <a:xfrm>
            <a:off x="512280" y="34052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"/>
          <p:cNvSpPr/>
          <p:nvPr/>
        </p:nvSpPr>
        <p:spPr>
          <a:xfrm>
            <a:off x="512280" y="3662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"/>
          <p:cNvSpPr/>
          <p:nvPr/>
        </p:nvSpPr>
        <p:spPr>
          <a:xfrm>
            <a:off x="512280" y="39196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"/>
          <p:cNvSpPr/>
          <p:nvPr/>
        </p:nvSpPr>
        <p:spPr>
          <a:xfrm>
            <a:off x="512280" y="417528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"/>
          <p:cNvSpPr/>
          <p:nvPr/>
        </p:nvSpPr>
        <p:spPr>
          <a:xfrm>
            <a:off x="413640" y="4430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"/>
          <p:cNvSpPr/>
          <p:nvPr/>
        </p:nvSpPr>
        <p:spPr>
          <a:xfrm>
            <a:off x="413640" y="46879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"/>
          <p:cNvSpPr/>
          <p:nvPr/>
        </p:nvSpPr>
        <p:spPr>
          <a:xfrm>
            <a:off x="413640" y="49449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"/>
          <p:cNvSpPr/>
          <p:nvPr/>
        </p:nvSpPr>
        <p:spPr>
          <a:xfrm>
            <a:off x="413640" y="52005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"/>
          <p:cNvSpPr/>
          <p:nvPr/>
        </p:nvSpPr>
        <p:spPr>
          <a:xfrm>
            <a:off x="830880" y="5362560"/>
            <a:ext cx="663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"/>
          <p:cNvSpPr/>
          <p:nvPr/>
        </p:nvSpPr>
        <p:spPr>
          <a:xfrm>
            <a:off x="856080" y="549432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"/>
          <p:cNvSpPr/>
          <p:nvPr/>
        </p:nvSpPr>
        <p:spPr>
          <a:xfrm>
            <a:off x="789120" y="5624640"/>
            <a:ext cx="744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hildren under-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"/>
          <p:cNvSpPr/>
          <p:nvPr/>
        </p:nvSpPr>
        <p:spPr>
          <a:xfrm>
            <a:off x="766080" y="5756400"/>
            <a:ext cx="799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ive years of 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"/>
          <p:cNvSpPr/>
          <p:nvPr/>
        </p:nvSpPr>
        <p:spPr>
          <a:xfrm>
            <a:off x="1634040" y="5362560"/>
            <a:ext cx="68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"/>
          <p:cNvSpPr/>
          <p:nvPr/>
        </p:nvSpPr>
        <p:spPr>
          <a:xfrm>
            <a:off x="1608120" y="5494320"/>
            <a:ext cx="745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ratio in prim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"/>
          <p:cNvSpPr/>
          <p:nvPr/>
        </p:nvSpPr>
        <p:spPr>
          <a:xfrm>
            <a:off x="1734480" y="562464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"/>
          <p:cNvSpPr/>
          <p:nvPr/>
        </p:nvSpPr>
        <p:spPr>
          <a:xfrm>
            <a:off x="2546280" y="5362560"/>
            <a:ext cx="5036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"/>
          <p:cNvSpPr/>
          <p:nvPr/>
        </p:nvSpPr>
        <p:spPr>
          <a:xfrm>
            <a:off x="2477880" y="5494320"/>
            <a:ext cx="64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"/>
          <p:cNvSpPr/>
          <p:nvPr/>
        </p:nvSpPr>
        <p:spPr>
          <a:xfrm>
            <a:off x="3401640" y="5362560"/>
            <a:ext cx="419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"/>
          <p:cNvSpPr/>
          <p:nvPr/>
        </p:nvSpPr>
        <p:spPr>
          <a:xfrm>
            <a:off x="3277080" y="5494320"/>
            <a:ext cx="681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"/>
          <p:cNvSpPr/>
          <p:nvPr/>
        </p:nvSpPr>
        <p:spPr>
          <a:xfrm>
            <a:off x="410760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"/>
          <p:cNvSpPr/>
          <p:nvPr/>
        </p:nvSpPr>
        <p:spPr>
          <a:xfrm>
            <a:off x="416988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"/>
          <p:cNvSpPr/>
          <p:nvPr/>
        </p:nvSpPr>
        <p:spPr>
          <a:xfrm>
            <a:off x="422172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5" name=""/>
          <p:cNvSpPr/>
          <p:nvPr/>
        </p:nvSpPr>
        <p:spPr>
          <a:xfrm>
            <a:off x="420120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"/>
          <p:cNvSpPr/>
          <p:nvPr/>
        </p:nvSpPr>
        <p:spPr>
          <a:xfrm>
            <a:off x="4083840" y="5888160"/>
            <a:ext cx="69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"/>
          <p:cNvSpPr/>
          <p:nvPr/>
        </p:nvSpPr>
        <p:spPr>
          <a:xfrm>
            <a:off x="4124160" y="6019920"/>
            <a:ext cx="619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, ru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"/>
          <p:cNvSpPr/>
          <p:nvPr/>
        </p:nvSpPr>
        <p:spPr>
          <a:xfrm>
            <a:off x="492660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9" name=""/>
          <p:cNvSpPr/>
          <p:nvPr/>
        </p:nvSpPr>
        <p:spPr>
          <a:xfrm>
            <a:off x="498888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"/>
          <p:cNvSpPr/>
          <p:nvPr/>
        </p:nvSpPr>
        <p:spPr>
          <a:xfrm>
            <a:off x="504072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"/>
          <p:cNvSpPr/>
          <p:nvPr/>
        </p:nvSpPr>
        <p:spPr>
          <a:xfrm>
            <a:off x="502020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"/>
          <p:cNvSpPr/>
          <p:nvPr/>
        </p:nvSpPr>
        <p:spPr>
          <a:xfrm>
            <a:off x="4903200" y="5888160"/>
            <a:ext cx="69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3" name=""/>
          <p:cNvSpPr/>
          <p:nvPr/>
        </p:nvSpPr>
        <p:spPr>
          <a:xfrm>
            <a:off x="4949640" y="6019920"/>
            <a:ext cx="607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"/>
          <p:cNvSpPr/>
          <p:nvPr/>
        </p:nvSpPr>
        <p:spPr>
          <a:xfrm>
            <a:off x="574416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"/>
          <p:cNvSpPr/>
          <p:nvPr/>
        </p:nvSpPr>
        <p:spPr>
          <a:xfrm>
            <a:off x="580644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"/>
          <p:cNvSpPr/>
          <p:nvPr/>
        </p:nvSpPr>
        <p:spPr>
          <a:xfrm>
            <a:off x="585828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"/>
          <p:cNvSpPr/>
          <p:nvPr/>
        </p:nvSpPr>
        <p:spPr>
          <a:xfrm>
            <a:off x="583956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"/>
          <p:cNvSpPr/>
          <p:nvPr/>
        </p:nvSpPr>
        <p:spPr>
          <a:xfrm>
            <a:off x="5828760" y="588816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"/>
          <p:cNvSpPr/>
          <p:nvPr/>
        </p:nvSpPr>
        <p:spPr>
          <a:xfrm>
            <a:off x="5768640" y="6019920"/>
            <a:ext cx="608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ility, rur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"/>
          <p:cNvSpPr/>
          <p:nvPr/>
        </p:nvSpPr>
        <p:spPr>
          <a:xfrm>
            <a:off x="6563520" y="5362560"/>
            <a:ext cx="64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"/>
          <p:cNvSpPr/>
          <p:nvPr/>
        </p:nvSpPr>
        <p:spPr>
          <a:xfrm>
            <a:off x="6624000" y="5494320"/>
            <a:ext cx="523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"/>
          <p:cNvSpPr/>
          <p:nvPr/>
        </p:nvSpPr>
        <p:spPr>
          <a:xfrm>
            <a:off x="6675840" y="5624640"/>
            <a:ext cx="421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"/>
          <p:cNvSpPr/>
          <p:nvPr/>
        </p:nvSpPr>
        <p:spPr>
          <a:xfrm>
            <a:off x="6657120" y="5756400"/>
            <a:ext cx="46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"/>
          <p:cNvSpPr/>
          <p:nvPr/>
        </p:nvSpPr>
        <p:spPr>
          <a:xfrm>
            <a:off x="6646320" y="5888160"/>
            <a:ext cx="482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"/>
          <p:cNvSpPr/>
          <p:nvPr/>
        </p:nvSpPr>
        <p:spPr>
          <a:xfrm>
            <a:off x="6592320" y="6019920"/>
            <a:ext cx="59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"/>
          <p:cNvSpPr/>
          <p:nvPr/>
        </p:nvSpPr>
        <p:spPr>
          <a:xfrm>
            <a:off x="7532280" y="5362560"/>
            <a:ext cx="346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"/>
          <p:cNvSpPr/>
          <p:nvPr/>
        </p:nvSpPr>
        <p:spPr>
          <a:xfrm>
            <a:off x="7386120" y="5494320"/>
            <a:ext cx="6408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"/>
          <p:cNvSpPr/>
          <p:nvPr/>
        </p:nvSpPr>
        <p:spPr>
          <a:xfrm>
            <a:off x="7622280" y="562464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i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"/>
          <p:cNvSpPr/>
          <p:nvPr/>
        </p:nvSpPr>
        <p:spPr>
          <a:xfrm>
            <a:off x="8188200" y="5362560"/>
            <a:ext cx="6742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"/>
          <p:cNvSpPr/>
          <p:nvPr/>
        </p:nvSpPr>
        <p:spPr>
          <a:xfrm>
            <a:off x="8344440" y="5494320"/>
            <a:ext cx="35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"/>
          <p:cNvSpPr/>
          <p:nvPr/>
        </p:nvSpPr>
        <p:spPr>
          <a:xfrm>
            <a:off x="8252640" y="5624640"/>
            <a:ext cx="54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"/>
          <p:cNvSpPr/>
          <p:nvPr/>
        </p:nvSpPr>
        <p:spPr>
          <a:xfrm rot="16200000">
            <a:off x="-1763280" y="3115440"/>
            <a:ext cx="388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-time-distance (years): - time lead, + time 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3" name="" descr=""/>
          <p:cNvPicPr/>
          <p:nvPr/>
        </p:nvPicPr>
        <p:blipFill>
          <a:blip r:embed="rId1"/>
          <a:stretch/>
        </p:blipFill>
        <p:spPr>
          <a:xfrm>
            <a:off x="633240" y="152280"/>
            <a:ext cx="5507280" cy="6202440"/>
          </a:xfrm>
          <a:prstGeom prst="rect">
            <a:avLst/>
          </a:prstGeom>
          <a:ln w="0">
            <a:noFill/>
          </a:ln>
        </p:spPr>
      </p:pic>
      <p:sp>
        <p:nvSpPr>
          <p:cNvPr id="3694" name=""/>
          <p:cNvSpPr/>
          <p:nvPr/>
        </p:nvSpPr>
        <p:spPr>
          <a:xfrm>
            <a:off x="6242040" y="3751200"/>
            <a:ext cx="26668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ou can use the tool to track the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 targets by using your data and assump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"/>
          <p:cNvSpPr/>
          <p:nvPr/>
        </p:nvSpPr>
        <p:spPr>
          <a:xfrm>
            <a:off x="6242040" y="1781280"/>
            <a:ext cx="266688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ee web time distance monitoring tool is available 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"/>
          <p:cNvSpPr/>
          <p:nvPr/>
        </p:nvSpPr>
        <p:spPr>
          <a:xfrm>
            <a:off x="758880" y="6388200"/>
            <a:ext cx="5257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gaptimer.eu/s-t-d_monitoring_too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"/>
          <p:cNvSpPr/>
          <p:nvPr/>
        </p:nvSpPr>
        <p:spPr>
          <a:xfrm>
            <a:off x="6240600" y="5629320"/>
            <a:ext cx="2670120" cy="109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S-time-distance animation in the Gapminder Community Graph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gaptimer.eu/g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8" name="" descr=""/>
          <p:cNvPicPr/>
          <p:nvPr/>
        </p:nvPicPr>
        <p:blipFill>
          <a:blip r:embed="rId1"/>
          <a:stretch/>
        </p:blipFill>
        <p:spPr>
          <a:xfrm>
            <a:off x="623880" y="200160"/>
            <a:ext cx="7753320" cy="6489720"/>
          </a:xfrm>
          <a:prstGeom prst="rect">
            <a:avLst/>
          </a:prstGeom>
          <a:ln w="0">
            <a:noFill/>
          </a:ln>
        </p:spPr>
      </p:pic>
      <p:sp>
        <p:nvSpPr>
          <p:cNvPr id="3699" name=""/>
          <p:cNvSpPr/>
          <p:nvPr/>
        </p:nvSpPr>
        <p:spPr>
          <a:xfrm>
            <a:off x="6423120" y="1473120"/>
            <a:ext cx="2293920" cy="529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"/>
          <p:cNvSpPr/>
          <p:nvPr/>
        </p:nvSpPr>
        <p:spPr>
          <a:xfrm>
            <a:off x="6519960" y="1927080"/>
            <a:ext cx="1842840" cy="1479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ample of output of the web tool for one unit, Internet users for developing countries: in 2008 the value was 4.6 years ahead of the line to targe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"/>
          <p:cNvSpPr/>
          <p:nvPr/>
        </p:nvSpPr>
        <p:spPr>
          <a:xfrm>
            <a:off x="6521400" y="4556160"/>
            <a:ext cx="1844640" cy="158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ame output and graphs were made for 194 countries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r 149 countries (close to 90% of world population) were ahead of line to targe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"/>
          <p:cNvSpPr/>
          <p:nvPr/>
        </p:nvSpPr>
        <p:spPr>
          <a:xfrm flipV="1">
            <a:off x="3795840" y="2629080"/>
            <a:ext cx="1525320" cy="7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"/>
          <p:cNvSpPr/>
          <p:nvPr/>
        </p:nvSpPr>
        <p:spPr>
          <a:xfrm>
            <a:off x="3825720" y="2422440"/>
            <a:ext cx="169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ime lead of 4.6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 the broader conceptual and analytical framework tell u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"/>
          <p:cNvSpPr/>
          <p:nvPr/>
        </p:nvSpPr>
        <p:spPr>
          <a:xfrm>
            <a:off x="550800" y="1917720"/>
            <a:ext cx="808848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he degree of digital divide was shown to be very different in static terms and in time distance.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tic disparities in selected ICT indicators are larg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especially in the more demanding secto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However,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m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bile phones have improved significantly the quality of live in developing countries in several domain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ough they were used mostly for undemanding applica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ynamically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rapid speed of ICT diffusio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showed that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time distances behind the developed countries in this sector are much small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 than for development indicators like life expectancy and infant mortal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The potential of technological progress can with additional help of the world community create the opportunity for the </a:t>
            </a: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굴림"/>
              </a:rPr>
              <a:t>ICT sector to become an important tool of development and in the catching-up proces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06" name="Object 2"/>
          <p:cNvGraphicFramePr/>
          <p:nvPr/>
        </p:nvGraphicFramePr>
        <p:xfrm>
          <a:off x="1332000" y="728640"/>
          <a:ext cx="6240240" cy="436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0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728640"/>
                    <a:ext cx="624024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08" name=""/>
          <p:cNvSpPr/>
          <p:nvPr/>
        </p:nvSpPr>
        <p:spPr>
          <a:xfrm>
            <a:off x="853920" y="5184720"/>
            <a:ext cx="7467840" cy="947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eing with new eyes creates new knowledge and better underst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6320" y="603576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40 shows the static gap, the time gap of 18 years gives a different additional perception of reality. For a broader more realistic picture we need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174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ime series can be compared in two dimensions: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46440" y="5504040"/>
            <a:ext cx="395280" cy="21240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78920" y="5513400"/>
            <a:ext cx="385560" cy="212760"/>
          </a:xfrm>
          <a:prstGeom prst="ellipse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17400" y="1325520"/>
            <a:ext cx="7888320" cy="4383360"/>
            <a:chOff x="617400" y="1325520"/>
            <a:chExt cx="7888320" cy="4383360"/>
          </a:xfrm>
        </p:grpSpPr>
        <p:sp>
          <p:nvSpPr>
            <p:cNvPr id="53" name="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2160" y="1415880"/>
              <a:ext cx="7469280" cy="397368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92160" y="1415880"/>
              <a:ext cx="1440" cy="3973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42840" y="53895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42840" y="52084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42840" y="50292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942840" y="48481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2840" y="4667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942840" y="44863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42840" y="4307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942840" y="41259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42840" y="3944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42840" y="37638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942840" y="358452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42840" y="340344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42840" y="32227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942840" y="30416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42840" y="286056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942840" y="26812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942840" y="250020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42840" y="231948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942840" y="213840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942840" y="195912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42840" y="177804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42840" y="1598760"/>
              <a:ext cx="493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840" y="1415880"/>
              <a:ext cx="493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92160" y="5389560"/>
              <a:ext cx="7469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9921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200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14065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1616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18223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20304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22366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24447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2651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2860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067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327492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3481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368928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38955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105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43117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5194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726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9338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140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3481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55562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57643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97204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61786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638640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65930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6802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V="1">
              <a:off x="70088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721692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742320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flipV="1">
              <a:off x="76312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783756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804708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8253360" y="5389200"/>
              <a:ext cx="180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8461440" y="5389200"/>
              <a:ext cx="1440" cy="36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9921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14065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182232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23668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2651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306720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V="1">
              <a:off x="3481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89556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43117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4726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5140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55562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V="1">
              <a:off x="597204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6386400" y="5389200"/>
              <a:ext cx="180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680256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721692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76312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804708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8461440" y="5389200"/>
              <a:ext cx="1440" cy="49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92160" y="1768320"/>
              <a:ext cx="7469280" cy="2656080"/>
            </a:xfrm>
            <a:custGeom>
              <a:avLst/>
              <a:gdLst/>
              <a:ahLst/>
              <a:rect l="l" t="t" r="r" b="b"/>
              <a:pathLst>
                <a:path w="4902" h="1743">
                  <a:moveTo>
                    <a:pt x="0" y="1743"/>
                  </a:moveTo>
                  <a:lnTo>
                    <a:pt x="136" y="1709"/>
                  </a:lnTo>
                  <a:lnTo>
                    <a:pt x="272" y="1638"/>
                  </a:lnTo>
                  <a:lnTo>
                    <a:pt x="409" y="1555"/>
                  </a:lnTo>
                  <a:lnTo>
                    <a:pt x="545" y="1581"/>
                  </a:lnTo>
                  <a:lnTo>
                    <a:pt x="681" y="1601"/>
                  </a:lnTo>
                  <a:lnTo>
                    <a:pt x="817" y="1525"/>
                  </a:lnTo>
                  <a:lnTo>
                    <a:pt x="953" y="1460"/>
                  </a:lnTo>
                  <a:lnTo>
                    <a:pt x="1089" y="1376"/>
                  </a:lnTo>
                  <a:lnTo>
                    <a:pt x="1226" y="1337"/>
                  </a:lnTo>
                  <a:lnTo>
                    <a:pt x="1362" y="1365"/>
                  </a:lnTo>
                  <a:lnTo>
                    <a:pt x="1498" y="1335"/>
                  </a:lnTo>
                  <a:lnTo>
                    <a:pt x="1634" y="1393"/>
                  </a:lnTo>
                  <a:lnTo>
                    <a:pt x="1770" y="1324"/>
                  </a:lnTo>
                  <a:lnTo>
                    <a:pt x="1906" y="1199"/>
                  </a:lnTo>
                  <a:lnTo>
                    <a:pt x="2042" y="1131"/>
                  </a:lnTo>
                  <a:lnTo>
                    <a:pt x="2179" y="1077"/>
                  </a:lnTo>
                  <a:lnTo>
                    <a:pt x="2315" y="1026"/>
                  </a:lnTo>
                  <a:lnTo>
                    <a:pt x="2451" y="953"/>
                  </a:lnTo>
                  <a:lnTo>
                    <a:pt x="2587" y="892"/>
                  </a:lnTo>
                  <a:lnTo>
                    <a:pt x="2723" y="875"/>
                  </a:lnTo>
                  <a:lnTo>
                    <a:pt x="2860" y="913"/>
                  </a:lnTo>
                  <a:lnTo>
                    <a:pt x="2996" y="864"/>
                  </a:lnTo>
                  <a:lnTo>
                    <a:pt x="3132" y="826"/>
                  </a:lnTo>
                  <a:lnTo>
                    <a:pt x="3268" y="754"/>
                  </a:lnTo>
                  <a:lnTo>
                    <a:pt x="3404" y="720"/>
                  </a:lnTo>
                  <a:lnTo>
                    <a:pt x="3540" y="653"/>
                  </a:lnTo>
                  <a:lnTo>
                    <a:pt x="3676" y="565"/>
                  </a:lnTo>
                  <a:lnTo>
                    <a:pt x="3813" y="477"/>
                  </a:lnTo>
                  <a:lnTo>
                    <a:pt x="3949" y="373"/>
                  </a:lnTo>
                  <a:lnTo>
                    <a:pt x="4085" y="283"/>
                  </a:lnTo>
                  <a:lnTo>
                    <a:pt x="4221" y="281"/>
                  </a:lnTo>
                  <a:lnTo>
                    <a:pt x="4357" y="255"/>
                  </a:lnTo>
                  <a:lnTo>
                    <a:pt x="4494" y="207"/>
                  </a:lnTo>
                  <a:lnTo>
                    <a:pt x="4630" y="124"/>
                  </a:lnTo>
                  <a:lnTo>
                    <a:pt x="4766" y="56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ff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92160" y="3222720"/>
              <a:ext cx="7469280" cy="1914480"/>
            </a:xfrm>
            <a:custGeom>
              <a:avLst/>
              <a:gdLst/>
              <a:ahLst/>
              <a:rect l="l" t="t" r="r" b="b"/>
              <a:pathLst>
                <a:path w="4902" h="1257">
                  <a:moveTo>
                    <a:pt x="0" y="1257"/>
                  </a:moveTo>
                  <a:lnTo>
                    <a:pt x="136" y="1227"/>
                  </a:lnTo>
                  <a:lnTo>
                    <a:pt x="272" y="1181"/>
                  </a:lnTo>
                  <a:lnTo>
                    <a:pt x="409" y="1113"/>
                  </a:lnTo>
                  <a:lnTo>
                    <a:pt x="545" y="1089"/>
                  </a:lnTo>
                  <a:lnTo>
                    <a:pt x="681" y="1101"/>
                  </a:lnTo>
                  <a:lnTo>
                    <a:pt x="817" y="1047"/>
                  </a:lnTo>
                  <a:lnTo>
                    <a:pt x="953" y="1015"/>
                  </a:lnTo>
                  <a:lnTo>
                    <a:pt x="1089" y="977"/>
                  </a:lnTo>
                  <a:lnTo>
                    <a:pt x="1226" y="931"/>
                  </a:lnTo>
                  <a:lnTo>
                    <a:pt x="1362" y="915"/>
                  </a:lnTo>
                  <a:lnTo>
                    <a:pt x="1498" y="917"/>
                  </a:lnTo>
                  <a:lnTo>
                    <a:pt x="1634" y="906"/>
                  </a:lnTo>
                  <a:lnTo>
                    <a:pt x="1770" y="883"/>
                  </a:lnTo>
                  <a:lnTo>
                    <a:pt x="1906" y="849"/>
                  </a:lnTo>
                  <a:lnTo>
                    <a:pt x="2042" y="812"/>
                  </a:lnTo>
                  <a:lnTo>
                    <a:pt x="2179" y="772"/>
                  </a:lnTo>
                  <a:lnTo>
                    <a:pt x="2315" y="730"/>
                  </a:lnTo>
                  <a:lnTo>
                    <a:pt x="2451" y="665"/>
                  </a:lnTo>
                  <a:lnTo>
                    <a:pt x="2587" y="609"/>
                  </a:lnTo>
                  <a:lnTo>
                    <a:pt x="2723" y="565"/>
                  </a:lnTo>
                  <a:lnTo>
                    <a:pt x="2860" y="538"/>
                  </a:lnTo>
                  <a:lnTo>
                    <a:pt x="2996" y="524"/>
                  </a:lnTo>
                  <a:lnTo>
                    <a:pt x="3132" y="538"/>
                  </a:lnTo>
                  <a:lnTo>
                    <a:pt x="3268" y="491"/>
                  </a:lnTo>
                  <a:lnTo>
                    <a:pt x="3404" y="447"/>
                  </a:lnTo>
                  <a:lnTo>
                    <a:pt x="3540" y="418"/>
                  </a:lnTo>
                  <a:lnTo>
                    <a:pt x="3676" y="369"/>
                  </a:lnTo>
                  <a:lnTo>
                    <a:pt x="3813" y="314"/>
                  </a:lnTo>
                  <a:lnTo>
                    <a:pt x="3949" y="257"/>
                  </a:lnTo>
                  <a:lnTo>
                    <a:pt x="4085" y="183"/>
                  </a:lnTo>
                  <a:lnTo>
                    <a:pt x="4221" y="149"/>
                  </a:lnTo>
                  <a:lnTo>
                    <a:pt x="4357" y="135"/>
                  </a:lnTo>
                  <a:lnTo>
                    <a:pt x="4494" y="122"/>
                  </a:lnTo>
                  <a:lnTo>
                    <a:pt x="4630" y="84"/>
                  </a:lnTo>
                  <a:lnTo>
                    <a:pt x="4766" y="57"/>
                  </a:lnTo>
                  <a:lnTo>
                    <a:pt x="4902" y="0"/>
                  </a:lnTo>
                </a:path>
              </a:pathLst>
            </a:custGeom>
            <a:noFill/>
            <a:ln w="237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47880" y="437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155600" y="432756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62240" y="421956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571760" y="409428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8040" y="41338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86120" y="416412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192400" y="404820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00480" y="3948120"/>
              <a:ext cx="8856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6760" y="3821040"/>
              <a:ext cx="88920" cy="8748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16280" y="37609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22560" y="3803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3757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6920" y="38466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45000" y="3741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2720" y="3551400"/>
              <a:ext cx="8748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59360" y="3448080"/>
              <a:ext cx="889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68880" y="3365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475160" y="3287880"/>
              <a:ext cx="88920" cy="8856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683240" y="3176640"/>
              <a:ext cx="87120" cy="871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889520" y="308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97600" y="305748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05320" y="3114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13400" y="304020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719680" y="2982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27760" y="287352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34040" y="28209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42120" y="2719440"/>
              <a:ext cx="871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48400" y="25844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57920" y="2451240"/>
              <a:ext cx="8748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964200" y="22924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2280" y="215568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78560" y="215280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586640" y="21128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794720" y="203976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02440" y="1913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209080" y="180972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416800" y="1724040"/>
              <a:ext cx="88920" cy="88920"/>
            </a:xfrm>
            <a:prstGeom prst="rect">
              <a:avLst/>
            </a:prstGeom>
            <a:solidFill>
              <a:srgbClr val="ff00ff"/>
            </a:solidFill>
            <a:ln w="1260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47880" y="509256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55600" y="5046840"/>
              <a:ext cx="87480" cy="8856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362240" y="4976640"/>
              <a:ext cx="8856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571760" y="487368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778040" y="48369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6120" y="485460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92400" y="4773600"/>
              <a:ext cx="88920" cy="874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400480" y="4724280"/>
              <a:ext cx="8856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06760" y="4665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816280" y="45957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022560" y="4572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230640" y="457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436920" y="45576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45000" y="4522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852720" y="4471920"/>
              <a:ext cx="87480" cy="874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9360" y="4414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268880" y="4354560"/>
              <a:ext cx="87120" cy="871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6" y="0"/>
                  </a:moveTo>
                  <a:lnTo>
                    <a:pt x="111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75160" y="42894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83240" y="419112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89520" y="4105440"/>
              <a:ext cx="88920" cy="8856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97600" y="403848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305320" y="39974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513400" y="3976560"/>
              <a:ext cx="87480" cy="8748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719680" y="3997440"/>
              <a:ext cx="88920" cy="88920"/>
            </a:xfrm>
            <a:custGeom>
              <a:avLst/>
              <a:gdLst/>
              <a:ahLst/>
              <a:rect l="l" t="t" r="r" b="b"/>
              <a:pathLst>
                <a:path w="112" h="112">
                  <a:moveTo>
                    <a:pt x="56" y="0"/>
                  </a:moveTo>
                  <a:lnTo>
                    <a:pt x="112" y="56"/>
                  </a:lnTo>
                  <a:lnTo>
                    <a:pt x="56" y="112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27760" y="3925800"/>
              <a:ext cx="87120" cy="8892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134040" y="3859200"/>
              <a:ext cx="88920" cy="87480"/>
            </a:xfrm>
            <a:custGeom>
              <a:avLst/>
              <a:gdLst/>
              <a:ahLst/>
              <a:rect l="l" t="t" r="r" b="b"/>
              <a:pathLst>
                <a:path w="112" h="111">
                  <a:moveTo>
                    <a:pt x="56" y="0"/>
                  </a:moveTo>
                  <a:lnTo>
                    <a:pt x="112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42120" y="3814920"/>
              <a:ext cx="871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548400" y="37400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757920" y="3656160"/>
              <a:ext cx="87480" cy="88920"/>
            </a:xfrm>
            <a:custGeom>
              <a:avLst/>
              <a:gdLst/>
              <a:ahLst/>
              <a:rect l="l" t="t" r="r" b="b"/>
              <a:pathLst>
                <a:path w="111" h="112">
                  <a:moveTo>
                    <a:pt x="55" y="0"/>
                  </a:moveTo>
                  <a:lnTo>
                    <a:pt x="111" y="56"/>
                  </a:lnTo>
                  <a:lnTo>
                    <a:pt x="55" y="112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964200" y="356868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6"/>
                  </a:lnTo>
                  <a:lnTo>
                    <a:pt x="55" y="111"/>
                  </a:lnTo>
                  <a:lnTo>
                    <a:pt x="0" y="56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172280" y="345600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378560" y="3405240"/>
              <a:ext cx="88920" cy="871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86640" y="338292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794720" y="336384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5" y="0"/>
                  </a:moveTo>
                  <a:lnTo>
                    <a:pt x="111" y="55"/>
                  </a:lnTo>
                  <a:lnTo>
                    <a:pt x="55" y="111"/>
                  </a:lnTo>
                  <a:lnTo>
                    <a:pt x="0" y="55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02440" y="33051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209080" y="3263760"/>
              <a:ext cx="88920" cy="8892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6"/>
                  </a:lnTo>
                  <a:lnTo>
                    <a:pt x="56" y="111"/>
                  </a:lnTo>
                  <a:lnTo>
                    <a:pt x="0" y="56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416800" y="3178080"/>
              <a:ext cx="88920" cy="87480"/>
            </a:xfrm>
            <a:custGeom>
              <a:avLst/>
              <a:gdLst/>
              <a:ahLst/>
              <a:rect l="l" t="t" r="r" b="b"/>
              <a:pathLst>
                <a:path w="111" h="111">
                  <a:moveTo>
                    <a:pt x="56" y="0"/>
                  </a:moveTo>
                  <a:lnTo>
                    <a:pt x="111" y="55"/>
                  </a:lnTo>
                  <a:lnTo>
                    <a:pt x="56" y="111"/>
                  </a:lnTo>
                  <a:lnTo>
                    <a:pt x="0" y="5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80"/>
            </a:solidFill>
            <a:ln w="1260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3080" y="52992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080" y="511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03080" y="49370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080" y="47563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03080" y="45766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3080" y="43959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3080" y="421488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3080" y="403380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3080" y="385452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3080" y="36734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8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03080" y="349236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3080" y="3311640"/>
              <a:ext cx="156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7400" y="31305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17400" y="29512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17400" y="27702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400" y="25891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1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7400" y="24084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17400" y="22287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7400" y="204804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7400" y="186696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3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17400" y="168588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7400" y="150660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45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17400" y="1325520"/>
              <a:ext cx="234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5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197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2340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6498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642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4786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7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8947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309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7231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392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536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8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9680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38380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79816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125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62832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268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4570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872840" y="5526000"/>
              <a:ext cx="342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8287200" y="5526000"/>
            <a:ext cx="34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47520" y="5784840"/>
            <a:ext cx="357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-981000" y="3180240"/>
            <a:ext cx="2741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DP per capita (EU15 2006=1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378560" y="4627440"/>
            <a:ext cx="838440" cy="60012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461360" y="4775040"/>
            <a:ext cx="279360" cy="1800"/>
          </a:xfrm>
          <a:prstGeom prst="line">
            <a:avLst/>
          </a:prstGeom>
          <a:ln w="23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556400" y="4732200"/>
            <a:ext cx="87480" cy="87480"/>
          </a:xfrm>
          <a:prstGeom prst="rect">
            <a:avLst/>
          </a:prstGeom>
          <a:solidFill>
            <a:srgbClr val="ff00ff"/>
          </a:solidFill>
          <a:ln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776360" y="4694400"/>
            <a:ext cx="32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461360" y="5073480"/>
            <a:ext cx="279360" cy="1800"/>
          </a:xfrm>
          <a:prstGeom prst="line">
            <a:avLst/>
          </a:prstGeom>
          <a:ln w="237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556400" y="5029200"/>
            <a:ext cx="87480" cy="87480"/>
          </a:xfrm>
          <a:custGeom>
            <a:avLst/>
            <a:gdLst/>
            <a:ahLst/>
            <a:rect l="l" t="t" r="r" b="b"/>
            <a:pathLst>
              <a:path w="112" h="111">
                <a:moveTo>
                  <a:pt x="56" y="0"/>
                </a:moveTo>
                <a:lnTo>
                  <a:pt x="112" y="55"/>
                </a:lnTo>
                <a:lnTo>
                  <a:pt x="56" y="111"/>
                </a:lnTo>
                <a:lnTo>
                  <a:pt x="0" y="55"/>
                </a:lnTo>
                <a:lnTo>
                  <a:pt x="56" y="0"/>
                </a:lnTo>
                <a:close/>
              </a:path>
            </a:pathLst>
          </a:custGeom>
          <a:solidFill>
            <a:srgbClr val="000080"/>
          </a:solidFill>
          <a:ln w="12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775280" y="4991040"/>
            <a:ext cx="38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852520" y="2995560"/>
            <a:ext cx="2464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18 years for EU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977960" y="2251080"/>
            <a:ext cx="39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 flipV="1">
            <a:off x="4743000" y="3222720"/>
            <a:ext cx="3675240" cy="1584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8459640" y="1774440"/>
            <a:ext cx="6480" cy="1397160"/>
          </a:xfrm>
          <a:prstGeom prst="line">
            <a:avLst/>
          </a:prstGeom>
          <a:ln w="63360">
            <a:solidFill>
              <a:srgbClr val="00ff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025360" y="1508040"/>
            <a:ext cx="5529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EU15-USA gaps in GDP per capita: static index and time d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1920" y="1752480"/>
            <a:ext cx="86108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2000"/>
            </a:b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  <a:ea typeface="굴림"/>
              </a:rPr>
              <a:t>S-time-distance - a novel statistical measure: 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eeing with new eyes and telling new stories</a:t>
            </a: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3200"/>
            </a:br>
            <a:br>
              <a:rPr sz="24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1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ime distance is an innovative concept of looking at dat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enhance knowledge and understanding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facilitate stakeholders to build their perceptions and decisions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to offer a new perspective hidden in existing data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2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pressed in time units it is intuitively understandable 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to policy makers, managers, media and the general public </a:t>
            </a: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3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cellent analytical,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800"/>
            </a:b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lementing existing metho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; c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omparable across variables, field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a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  <a:ea typeface="굴림"/>
              </a:rPr>
              <a:t>nd units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br>
              <a:rPr sz="1600"/>
            </a:br>
            <a:br>
              <a:rPr sz="1800"/>
            </a:b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4876920" y="379800"/>
            <a:ext cx="38862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real voyage of discovery consi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in seeking new la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but in seeing with new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굴림"/>
              </a:rPr>
              <a:t>Marcel Proust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533520" y="971640"/>
            <a:ext cx="1260360" cy="41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1" name=""/>
          <p:cNvGraphicFramePr/>
          <p:nvPr/>
        </p:nvGraphicFramePr>
        <p:xfrm>
          <a:off x="4356000" y="2570040"/>
          <a:ext cx="4359240" cy="2732040"/>
        </p:xfrm>
        <a:graphic>
          <a:graphicData uri="http://schemas.openxmlformats.org/drawingml/2006/table">
            <a:tbl>
              <a:tblPr/>
              <a:tblGrid>
                <a:gridCol w="1700280"/>
                <a:gridCol w="1320840"/>
                <a:gridCol w="1338120"/>
              </a:tblGrid>
              <a:tr h="824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Mobile phones penetration level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Sweden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Developing countries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3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21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6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5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199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80"/>
                          </a:solidFill>
                          <a:latin typeface="Arial"/>
                          <a:ea typeface="Arial"/>
                        </a:rPr>
                        <a:t>2007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2" name=""/>
          <p:cNvSpPr/>
          <p:nvPr/>
        </p:nvSpPr>
        <p:spPr>
          <a:xfrm>
            <a:off x="609480" y="571500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Two operators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 applied to this time matrix lead to the </a:t>
            </a:r>
            <a:r>
              <a:rPr b="0" lang="sl-SI" sz="1800" spc="-1" strike="noStrike" u="sng">
                <a:solidFill>
                  <a:srgbClr val="000099"/>
                </a:solidFill>
                <a:uFillTx/>
                <a:latin typeface="Arial"/>
              </a:rPr>
              <a:t>derivation of two novel statistical measures, expressed in standardized units of time</a:t>
            </a:r>
            <a:r>
              <a:rPr b="0" lang="sl-SI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" y="15948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Time matrix transformation of the usual time series database: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ime when a specified level of the variable was achieved in each compared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0880" y="438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Theoretical background - there are two obvious generic directions of time series comparison: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by time and by level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07880" y="2570040"/>
          <a:ext cx="3740400" cy="2752560"/>
        </p:xfrm>
        <a:graphic>
          <a:graphicData uri="http://schemas.openxmlformats.org/drawingml/2006/table">
            <a:tbl>
              <a:tblPr/>
              <a:tblGrid>
                <a:gridCol w="1219320"/>
                <a:gridCol w="1320840"/>
                <a:gridCol w="1200240"/>
              </a:tblGrid>
              <a:tr h="715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ev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1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</a:t>
                      </a:r>
                      <a:r>
                        <a:rPr b="1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1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2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j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3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t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i 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(X</a:t>
                      </a:r>
                      <a:r>
                        <a:rPr b="0" lang="en-GB" sz="1800" spc="-1" strike="noStrike" baseline="-30000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Ln</a:t>
                      </a:r>
                      <a:r>
                        <a:rPr b="0" lang="en-GB" sz="1800" spc="-1" strike="noStrike">
                          <a:solidFill>
                            <a:srgbClr val="00008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496800" y="1650960"/>
          <a:ext cx="7893000" cy="45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1650960"/>
                    <a:ext cx="789300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1523880" y="457200"/>
            <a:ext cx="586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wo novel statistical measures: S-time-distance and S-time-st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Object 3"/>
          <p:cNvGraphicFramePr/>
          <p:nvPr/>
        </p:nvGraphicFramePr>
        <p:xfrm>
          <a:off x="590400" y="1600200"/>
          <a:ext cx="7963200" cy="4556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0400" y="1600200"/>
                    <a:ext cx="7963200" cy="455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2" name=""/>
          <p:cNvSpPr/>
          <p:nvPr/>
        </p:nvSpPr>
        <p:spPr>
          <a:xfrm>
            <a:off x="685800" y="6262560"/>
            <a:ext cx="7772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arisons for socio-economic groups: gender, age, income,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S-time-distances for </a:t>
            </a:r>
            <a:r>
              <a:rPr b="1" lang="en-GB" sz="2200" spc="-1" strike="noStrike" u="sng">
                <a:solidFill>
                  <a:srgbClr val="333399"/>
                </a:solidFill>
                <a:uFillTx/>
                <a:latin typeface="Arial"/>
              </a:rPr>
              <a:t>buying online for sectors</a:t>
            </a: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 compared with the average percentage of diffusion for all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68280" y="1090440"/>
          <a:ext cx="8480520" cy="526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090440"/>
                    <a:ext cx="8480520" cy="526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, inequality and convergence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Object 3"/>
          <p:cNvGraphicFramePr/>
          <p:nvPr/>
        </p:nvGraphicFramePr>
        <p:xfrm>
          <a:off x="843120" y="1447920"/>
          <a:ext cx="6421320" cy="481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3120" y="1447920"/>
                    <a:ext cx="6421320" cy="481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4"/>
          <p:cNvSpPr/>
          <p:nvPr/>
        </p:nvSpPr>
        <p:spPr>
          <a:xfrm>
            <a:off x="1166760" y="1523880"/>
            <a:ext cx="609588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show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5"/>
          <p:cNvSpPr/>
          <p:nvPr/>
        </p:nvSpPr>
        <p:spPr>
          <a:xfrm rot="16200000">
            <a:off x="-1014120" y="34430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6"/>
          <p:cNvSpPr/>
          <p:nvPr/>
        </p:nvSpPr>
        <p:spPr>
          <a:xfrm>
            <a:off x="7184880" y="152388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7"/>
          <p:cNvSpPr/>
          <p:nvPr/>
        </p:nvSpPr>
        <p:spPr>
          <a:xfrm>
            <a:off x="838080" y="6278400"/>
            <a:ext cx="358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Back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4267080" y="6278400"/>
            <a:ext cx="3353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Forward looking S-time-dist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5T09:10:31Z</dcterms:created>
  <dc:creator>Pavle Sicherl</dc:creator>
  <dc:description/>
  <dc:language>en-US</dc:language>
  <cp:lastModifiedBy>Pavle Sicherl</cp:lastModifiedBy>
  <dcterms:modified xsi:type="dcterms:W3CDTF">2010-03-09T08:31:15Z</dcterms:modified>
  <cp:revision>155</cp:revision>
  <dc:subject/>
  <dc:title>Slide 1</dc:title>
</cp:coreProperties>
</file>