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28F-2EAD-4ADD-857E-8CBA52C4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56D-8044-4FF5-9C0E-7DC325A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1C6-1F89-44BF-9353-3A6A293B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7EC-E0AF-45DF-9DAD-7B17FF2C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E08-7BE3-4951-9FC0-83DD0115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80E-8F39-43F6-81FB-2E1B4BD7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3D4-16D7-4725-A1B9-857D075A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885-AC75-4B2F-87E6-162E1923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B80-F0B7-4433-93EE-53C0A92E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183-254C-4601-8FE7-DAAC3752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85A-9BED-4173-9092-DE5F4F8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B36-B249-4080-8F35-7EC5213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8525-BFC4-4460-9DF1-BC397ABC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center.si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timer.eu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hyperlink" Target="http://www.oecd.org/dataoecd/43/12/38185304.pd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446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TRACKING THE IMPLEMENTATION OF THE MDGs WITH TIME DISTANCE MEA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CENTER and University of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805360"/>
            <a:ext cx="685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center.s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091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prepared for the 2007 International Conference on the Millennium Development Goals Statistics (ICMDGS) 1-3 October 2007, Manila, The Philipp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87280" y="304920"/>
          <a:ext cx="596124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04920"/>
                    <a:ext cx="596124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400800" y="226440"/>
            <a:ext cx="2514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Times New Roman"/>
                <a:ea typeface="굴림"/>
              </a:rPr>
              <a:t>Numerical example of monitoring progress in reducing under-five mortality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  <a:ea typeface="굴림"/>
              </a:rPr>
              <a:t>(path to target calculated as average absolute rate of decrease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587760"/>
            <a:ext cx="281952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(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= t(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– T(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actual ti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on the line to targ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each actual value of the variabl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xample for Developing Regio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 (87.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 = 2004 (87.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 – 1996.7 (87.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 = 7.3 yea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304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nitoring implementation of the Millennium Development Goals in the time dimension for selected indicators: DEVELOPING REGIONS, about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7913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76320" y="1212840"/>
          <a:ext cx="896436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2840"/>
                    <a:ext cx="89643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677880"/>
            <a:ext cx="8229600" cy="5045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19320" y="457200"/>
            <a:ext cx="739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nitoring implementation of the Millennium Development Goals in the time dimension for selected indicators: CHINA, situation around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7913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81000" y="571680"/>
            <a:ext cx="93060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6445080"/>
            <a:ext cx="716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00040" y="152280"/>
          <a:ext cx="6345360" cy="606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152280"/>
                    <a:ext cx="634536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400040" y="609480"/>
          <a:ext cx="6345360" cy="40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609480"/>
                    <a:ext cx="634536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90720" y="4724280"/>
            <a:ext cx="716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029200"/>
            <a:ext cx="69343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3399"/>
                </a:solidFill>
                <a:uFillTx/>
                <a:latin typeface="Arial"/>
              </a:rPr>
              <a:t>Using this methodology at national and sub-national levels can be an important additional information useful also for the MDG Africa Steering Group initiated by the UN Secretary-Gene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 of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OEC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ICENTER is in the process of developing a WEB TOOL for monitoring implementation of targets with the S-time-distanc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FOR WHO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: possible interested us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could be international and national organizations, NGOs, experts, business, educators, students and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FUNC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: to calcul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the lead or lag in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for tracking implementation of targets at the world, regional, national, sub-national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levels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-   Millennium Development Goals or other planned, budgeted, or aid disbursement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-   Lisbon and NRP targets in the case of E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Comparing across many indicators and fields is important for perceptions about the overall “position” and “progress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uch effort has been put into developing indicator systems and data coverage bu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i="1" lang="en-GB" sz="20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not enough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 to find new innovative ways to utilise them in the next phases: knowledge building and policy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 have better availability of data and faster computer processing. However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he benefit for better decision making will depend critically on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human interfac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(Sicherl, 200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understanding of the inform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mmunication of that in a multidimens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ime distance concept and the novel generic statistical mea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ntribute two important innovations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new intelligible insights from existing time series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nd an excellent presentation and communication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Various options to specify the path to tar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n important step is how 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o specify the line to targets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between the starting and the target valu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Linear path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Exponential path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Optional path to target specified by the 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numerical results will depend on this selection by the user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  <a:ea typeface="굴림"/>
              </a:rPr>
              <a:t> simultaneous two-dimensional implementation evaluation will be provided: static difference and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The final qualitative assessment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  <a:ea typeface="굴림"/>
              </a:rPr>
              <a:t>expressed by symbols like traffic lights or smileys users can now be based on broader derived information from the original data on target values and actual implemen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onclusions for tracking the implementation of MDGs with time distanc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e time distance information is at least as helpful in providing a proper perception of the progress in implementation or the lack of it as is the percentage dif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t complements rather than replaces oth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It is comparable across variables, fields of concern and units of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4.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This innovation provides simultaneous two-dimensional comparisons of time series data: vertically (standard measures of static difference) as well as horizontally (Sicherl time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Empirically, the perceptions of the degree of disparity may be very different in static terms and in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Thus the broader conceptual and analytical framework leads to new conclusions and richer semantics important for policy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굴림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wo time series can and should be compared in two dimensions:</a:t>
            </a:r>
            <a:br>
              <a:rPr sz="20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2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5080" y="92700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BENEFIT FROM THIS NEW VIEW IN COMPARISONS,  BENCHMARKING AND MONITO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IME-DISTANCE AS A NEW GENERIC STATISTICAL MEASURE FOR ANALYSIS AND VISUALIZATION OF TIME SERI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aptimer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pecifically on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IMPLEMENTATION OF THE MDGs IN THE TIME DIMENSION, OECD/ISTAT meeting,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ecd.org/dataoecd/43/12/381853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38080" y="376200"/>
          <a:ext cx="7083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6200"/>
                    <a:ext cx="7083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VIDING BETTER UNDERSTANDING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the development paradigm: the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are differen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a dynamic concept of overall degree of disp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828800"/>
          <a:ext cx="693396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69339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90720" y="190512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9051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62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9:03:03Z</dcterms:created>
  <dc:creator>Pavle Sicherl</dc:creator>
  <dc:description/>
  <dc:language>en-US</dc:language>
  <cp:lastModifiedBy>Pavle Sicherl</cp:lastModifiedBy>
  <dcterms:modified xsi:type="dcterms:W3CDTF">2007-09-25T08:11:30Z</dcterms:modified>
  <cp:revision>106</cp:revision>
  <dc:subject/>
  <dc:title>Slide 1</dc:title>
</cp:coreProperties>
</file>