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DE96-623C-4F6F-B250-C25C93892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6BA4-2C9E-4BF2-AEC7-DE7583992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3DD1-7DCE-4BD6-A780-A4B5C867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A654-92B9-4EC2-8B30-E6A45C201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281F-C665-4642-963C-69A8DB12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8F42-5FA9-4C1D-9244-5BD116A2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A75D-747D-429E-8734-D50F47D6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5B2E-ECA6-48C9-AAC4-433C1D69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419C-74C9-4787-87F2-AD5AA7021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41B3-29A7-4D50-A6DA-E812E19D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5C0A-862A-4325-BE43-5D51C36CC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B43E6-6634-4B3E-B2E6-259E054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FD43-7B56-492E-BF0D-5EE8EBF792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center.si/" TargetMode="External"/><Relationship Id="rId2" Type="http://schemas.openxmlformats.org/officeDocument/2006/relationships/hyperlink" Target="http://www.gaptimer.e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aptimer.eu/" TargetMode="External"/><Relationship Id="rId2" Type="http://schemas.openxmlformats.org/officeDocument/2006/relationships/hyperlink" Target="http://www.gaptimer.eu/" TargetMode="External"/><Relationship Id="rId3" Type="http://schemas.openxmlformats.org/officeDocument/2006/relationships/hyperlink" Target="http://www.oecd.org/dataoecd/43/12/38185304.pdf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4466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6600cc"/>
                </a:solidFill>
                <a:uFillTx/>
                <a:latin typeface="Arial"/>
              </a:rPr>
              <a:t>TRACKING THE IMPLEMENTATION OF THE MDGs WITH TIME DISTANCE MEA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CENTER and University of Ljublj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805360"/>
            <a:ext cx="6858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; 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icenter.s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09112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sentation prepared for the 2007 International Conference on the Millennium Development Goals Statistics (ICMDGS) 1-3 October 2007, Manila, The Philippi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87280" y="304920"/>
          <a:ext cx="596124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7280" y="304920"/>
                    <a:ext cx="596124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6400800" y="226440"/>
            <a:ext cx="25146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Times New Roman"/>
                <a:ea typeface="굴림"/>
              </a:rPr>
              <a:t>Numerical example of monitoring progress in reducing under-five mortality</a:t>
            </a:r>
            <a:r>
              <a:rPr b="1" lang="en-GB" sz="1800" spc="-1" strike="noStrike">
                <a:solidFill>
                  <a:srgbClr val="333399"/>
                </a:solidFill>
                <a:latin typeface="Times New Roman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Times New Roman"/>
                <a:ea typeface="굴림"/>
              </a:rPr>
              <a:t>(path to target calculated as average absolute rate of decrease)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24480" y="3587760"/>
            <a:ext cx="2819520" cy="28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time-distan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(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= t(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 – T(X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(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= actual tim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 –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 on the line to targ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for each actual value of the variable X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Example for Developing Regio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 (87.0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00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 = 2004 (87.0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00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 – 1996.7 (87.0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200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) = 7.3 yea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229600" cy="5334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685800" y="3049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nitoring implementation of the Millennium Development Goals in the time dimension for selected indicators: DEVELOPING REGIONS, about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57913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-time-distance in years: - actual ahead of path to target, + actual behind the path to 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76320" y="1212840"/>
          <a:ext cx="8964360" cy="472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212840"/>
                    <a:ext cx="8964360" cy="47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57200" y="677880"/>
            <a:ext cx="8229600" cy="50450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19320" y="457200"/>
            <a:ext cx="739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Monitoring implementation of the Millennium Development Goals in the time dimension for selected indicators: CHINA, situation around 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79132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-time-distance in years: - actual ahead of path to target, + actual behind the path to target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-81000" y="571680"/>
            <a:ext cx="930600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990720" y="6445080"/>
            <a:ext cx="716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-time-distance in years: - actual ahead of path to target, + actual behind the path to target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400040" y="152280"/>
          <a:ext cx="6345360" cy="6066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152280"/>
                    <a:ext cx="6345360" cy="606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1400040" y="609480"/>
          <a:ext cx="6345360" cy="40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609480"/>
                    <a:ext cx="6345360" cy="40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990720" y="4724280"/>
            <a:ext cx="71625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-time-distance in years: - actual ahead of path to target, + actual behind the path to target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43000" y="5029200"/>
            <a:ext cx="69343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3399"/>
                </a:solidFill>
                <a:uFillTx/>
                <a:latin typeface="Arial"/>
              </a:rPr>
              <a:t>Using this methodology at national and sub-national levels can be an important additional information useful also for the MDG Africa Steering Group initiated by the UN Secretary-Genera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ummary of benefits of  immediate operational uses of tim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1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99"/>
                </a:solidFill>
                <a:uFillTx/>
                <a:latin typeface="Arial"/>
              </a:rPr>
              <a:t>, target setting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d monitori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ndicators a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world, OEC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2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broader dynamic framework for interrelating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3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4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5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SICENTER is in the process of developing a WEB TOOL for monitoring implementation of targets with the S-time-distance mea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FOR WHOM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: possible interested use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could be international and national organizations, NGOs, experts, business, educators, students and med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FUNCTIO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: to calculat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the lead or lag in ti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for tracking implementation of targets at the world, regional, national, sub-national 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 levels, 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-   Millennium Development Goals or other planned, budgeted, or aid disbursement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70000"/>
              </a:lnSpc>
              <a:spcBef>
                <a:spcPts val="125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-   Lisbon and NRP targets in the case of E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Comparing across many indicators and fields is important for perceptions about the overall “position” and “progress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uch effort has been put into developing indicator systems and data coverage but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i="1" lang="en-GB" sz="20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not enough</a:t>
            </a:r>
            <a:r>
              <a:rPr b="0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 to find new innovative ways to utilise them in the next phases: knowledge building and policy u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e have better availability of data and faster computer processing. However,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he benefit for better decision making will depend critically on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human interface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(Sicherl, 200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understanding of the information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communication of that in a multidimensional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ime distance concept and the novel generic statistical meas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S-time-distance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ntribute two important innovations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new intelligible insights from existing time series datab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and an excellent presentation and communication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Various options to specify the path to targ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153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n important step is how </a:t>
            </a: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o specify the line to targets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between the starting and the target valu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Linear path to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Exponential path to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. Optional path to target specified by the u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numerical results will depend on this selection by the user</a:t>
            </a: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  <a:ea typeface="굴림"/>
              </a:rPr>
              <a:t> simultaneous two-dimensional implementation evaluation will be provided: static difference and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 u="sng">
                <a:solidFill>
                  <a:srgbClr val="000000"/>
                </a:solidFill>
                <a:uFillTx/>
                <a:latin typeface="Arial"/>
                <a:ea typeface="굴림"/>
              </a:rPr>
              <a:t>The final qualitative assessment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  <a:ea typeface="굴림"/>
              </a:rPr>
              <a:t>expressed by symbols like traffic lights or smileys users can now be based on broader derived information from the original data on target values and actual implement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Conclusions for tracking the implementation of MDGs with time distance mea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The time distance information is at least as helpful in providing a proper perception of the progress in implementation or the lack of it as is the percentage differe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It complements rather than replaces other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굴림"/>
              </a:rPr>
              <a:t>It is comparable across variables, fields of concern and units of compari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굴림"/>
              </a:rPr>
              <a:t>4. 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굴림"/>
              </a:rPr>
              <a:t>This innovation provides simultaneous two-dimensional comparisons of time series data: vertically (standard measures of static difference) as well as horizontally (Sicherl time distanc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굴림"/>
              </a:rPr>
              <a:t>Empirically, the perceptions of the degree of disparity may be very different in static terms and in tim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  <a:ea typeface="굴림"/>
              </a:rPr>
              <a:t>Thus the broader conceptual and analytical framework leads to new conclusions and richer semantics important for policy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  <a:ea typeface="굴림"/>
              </a:rPr>
              <a:t>THANK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wo time series can and should be compared in two dimensions:</a:t>
            </a:r>
            <a:br>
              <a:rPr sz="2000"/>
            </a:b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1. static gap for a given point in time</a:t>
            </a:r>
            <a:br>
              <a:rPr sz="2200"/>
            </a:b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2. gap in time for a given level of the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5080" y="92700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BENEFIT FROM THIS NEW VIEW IN COMPARISONS,  BENCHMARKING AND MONITORING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-TIME-DISTANCE AS A NEW GENERIC STATISTICAL MEASURE FOR ANALYSIS AND VISUALIZATION OF TIME SERIE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gaptimer.e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re specifically on MD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NITORING IMPLEMENTATION OF THE MDGs IN THE TIME DIMENSION, OECD/ISTAT meeting, 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vailable on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oecd.org/dataoecd/43/12/38185304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838080" y="376200"/>
          <a:ext cx="7083720" cy="5913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76200"/>
                    <a:ext cx="7083720" cy="59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OVIDING BETTER UNDERSTANDING: a broader perception, policy and welf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63120" cy="65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the development paradigm: the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 and inequality are different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 with a dynamic concept of overall degree of disp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33520" y="1828800"/>
          <a:ext cx="693396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693396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990720" y="1905120"/>
            <a:ext cx="61722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lead to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rot="16200000">
            <a:off x="-1014120" y="38246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15200" y="190512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62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S-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time-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distance adds a second dimension to comparing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, etc. and to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1T09:03:03Z</dcterms:created>
  <dc:creator>Pavle Sicherl</dc:creator>
  <dc:description/>
  <dc:language>en-US</dc:language>
  <cp:lastModifiedBy>Pavle Sicherl</cp:lastModifiedBy>
  <dcterms:modified xsi:type="dcterms:W3CDTF">2007-09-25T08:11:30Z</dcterms:modified>
  <cp:revision>106</cp:revision>
  <dc:subject/>
  <dc:title>Slide 1</dc:title>
</cp:coreProperties>
</file>